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2072-DA46-43CA-BD2A-CD591FFB5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E8ED-5855-4BDA-8A9F-38CB95BAC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351B-74C6-4CF0-9E47-1934535C7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9EAA-6401-4510-BCC9-7C70C661C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D9BB-EDDC-4B00-88B5-E61AF3A1C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E870-ABC0-4C30-9A36-D5540D497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491F-CA03-43EA-A10B-7833C5CD1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ECB2-8B0F-4767-84B6-66C82461B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999E-FDF7-404E-948F-409A9827A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1652-C1D3-46BE-882B-241D80E44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544B-72AB-42C1-A568-CB6796B08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2875-5912-42E0-8661-4EE0943BC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04509-AB8C-49AA-A033-AD521FD179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rm-up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7720" y="1371240"/>
            <a:ext cx="7696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 out your unit review and a marking pen.  Work on completing the back while everyone gets settled 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ll whether the following numbers are divisible by 2, 3, 5, 6, 9, and 10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 4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 13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 23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ll whether the following numbers are prime or composite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 92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 9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  32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 &amp; 8.  List al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th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act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each number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, 10 &amp; 11.  Write the prime factorization,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using exponen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 Circle your final answer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17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18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303880" y="803160"/>
            <a:ext cx="982800" cy="206640"/>
          </a:xfrm>
          <a:custGeom>
            <a:avLst/>
            <a:gdLst/>
            <a:ahLst/>
            <a:rect l="l" t="t" r="r" b="b"/>
            <a:pathLst>
              <a:path w="2729" h="572">
                <a:moveTo>
                  <a:pt x="14734" y="2257"/>
                </a:moveTo>
                <a:cubicBezTo>
                  <a:pt x="14745" y="2440"/>
                  <a:pt x="14759" y="2619"/>
                  <a:pt x="14759" y="2803"/>
                </a:cubicBezTo>
              </a:path>
              <a:path w="2729" h="572">
                <a:moveTo>
                  <a:pt x="15032" y="2282"/>
                </a:moveTo>
                <a:cubicBezTo>
                  <a:pt x="15073" y="2446"/>
                  <a:pt x="15098" y="2584"/>
                  <a:pt x="15106" y="2753"/>
                </a:cubicBezTo>
              </a:path>
              <a:path w="2729" h="572">
                <a:moveTo>
                  <a:pt x="14908" y="2580"/>
                </a:moveTo>
                <a:cubicBezTo>
                  <a:pt x="15028" y="2537"/>
                  <a:pt x="15133" y="2492"/>
                  <a:pt x="15255" y="2456"/>
                </a:cubicBezTo>
              </a:path>
              <a:path w="2729" h="572">
                <a:moveTo>
                  <a:pt x="15354" y="2307"/>
                </a:moveTo>
                <a:cubicBezTo>
                  <a:pt x="15418" y="2265"/>
                  <a:pt x="15429" y="2248"/>
                  <a:pt x="15478" y="2257"/>
                </a:cubicBezTo>
                <a:cubicBezTo>
                  <a:pt x="15478" y="2394"/>
                  <a:pt x="15455" y="2404"/>
                  <a:pt x="15379" y="2505"/>
                </a:cubicBezTo>
                <a:cubicBezTo>
                  <a:pt x="15494" y="2437"/>
                  <a:pt x="15695" y="2461"/>
                  <a:pt x="15553" y="2654"/>
                </a:cubicBezTo>
                <a:cubicBezTo>
                  <a:pt x="15457" y="2784"/>
                  <a:pt x="15338" y="2787"/>
                  <a:pt x="15205" y="2778"/>
                </a:cubicBezTo>
              </a:path>
              <a:path w="2729" h="572">
                <a:moveTo>
                  <a:pt x="15726" y="2282"/>
                </a:moveTo>
                <a:cubicBezTo>
                  <a:pt x="15775" y="2417"/>
                  <a:pt x="15830" y="2540"/>
                  <a:pt x="15850" y="2679"/>
                </a:cubicBezTo>
              </a:path>
              <a:path w="2729" h="572">
                <a:moveTo>
                  <a:pt x="15701" y="2580"/>
                </a:moveTo>
                <a:cubicBezTo>
                  <a:pt x="15783" y="2523"/>
                  <a:pt x="15830" y="2483"/>
                  <a:pt x="15925" y="2456"/>
                </a:cubicBezTo>
              </a:path>
              <a:path w="2729" h="572">
                <a:moveTo>
                  <a:pt x="16222" y="2232"/>
                </a:moveTo>
                <a:cubicBezTo>
                  <a:pt x="16094" y="2315"/>
                  <a:pt x="15980" y="2357"/>
                  <a:pt x="16098" y="2505"/>
                </a:cubicBezTo>
                <a:cubicBezTo>
                  <a:pt x="16167" y="2591"/>
                  <a:pt x="16264" y="2594"/>
                  <a:pt x="16346" y="2704"/>
                </a:cubicBezTo>
                <a:cubicBezTo>
                  <a:pt x="16207" y="2735"/>
                  <a:pt x="16114" y="2742"/>
                  <a:pt x="15974" y="2729"/>
                </a:cubicBezTo>
              </a:path>
              <a:path w="2729" h="572">
                <a:moveTo>
                  <a:pt x="16545" y="2555"/>
                </a:moveTo>
                <a:cubicBezTo>
                  <a:pt x="16643" y="2530"/>
                  <a:pt x="16675" y="2522"/>
                  <a:pt x="16743" y="2530"/>
                </a:cubicBezTo>
              </a:path>
              <a:path w="2729" h="572">
                <a:moveTo>
                  <a:pt x="16570" y="2729"/>
                </a:moveTo>
                <a:cubicBezTo>
                  <a:pt x="16724" y="2677"/>
                  <a:pt x="16780" y="2659"/>
                  <a:pt x="16892" y="2654"/>
                </a:cubicBezTo>
              </a:path>
              <a:path w="2729" h="572">
                <a:moveTo>
                  <a:pt x="17462" y="2406"/>
                </a:moveTo>
                <a:cubicBezTo>
                  <a:pt x="17373" y="2301"/>
                  <a:pt x="17229" y="2296"/>
                  <a:pt x="17115" y="2406"/>
                </a:cubicBezTo>
                <a:cubicBezTo>
                  <a:pt x="17029" y="2489"/>
                  <a:pt x="17068" y="2686"/>
                  <a:pt x="17214" y="2580"/>
                </a:cubicBezTo>
                <a:cubicBezTo>
                  <a:pt x="17239" y="2547"/>
                  <a:pt x="17264" y="2513"/>
                  <a:pt x="17289" y="2480"/>
                </a:cubicBezTo>
                <a:cubicBezTo>
                  <a:pt x="17297" y="2464"/>
                  <a:pt x="17306" y="2447"/>
                  <a:pt x="17314" y="2431"/>
                </a:cubicBezTo>
                <a:cubicBezTo>
                  <a:pt x="17341" y="2540"/>
                  <a:pt x="17377" y="2638"/>
                  <a:pt x="17388" y="275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705640" y="1295280"/>
            <a:ext cx="53640" cy="7920"/>
          </a:xfrm>
          <a:custGeom>
            <a:avLst/>
            <a:gdLst/>
            <a:ahLst/>
            <a:rect l="l" t="t" r="r" b="b"/>
            <a:pathLst>
              <a:path w="150" h="25">
                <a:moveTo>
                  <a:pt x="15850" y="3621"/>
                </a:moveTo>
                <a:cubicBezTo>
                  <a:pt x="15932" y="3601"/>
                  <a:pt x="15948" y="3593"/>
                  <a:pt x="15999" y="359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411880" y="1500120"/>
            <a:ext cx="295200" cy="231840"/>
          </a:xfrm>
          <a:custGeom>
            <a:avLst/>
            <a:gdLst/>
            <a:ahLst/>
            <a:rect l="l" t="t" r="r" b="b"/>
            <a:pathLst>
              <a:path w="819" h="646">
                <a:moveTo>
                  <a:pt x="15404" y="4167"/>
                </a:moveTo>
                <a:cubicBezTo>
                  <a:pt x="15346" y="4167"/>
                  <a:pt x="15288" y="4167"/>
                  <a:pt x="15230" y="4167"/>
                </a:cubicBezTo>
                <a:cubicBezTo>
                  <a:pt x="15209" y="4270"/>
                  <a:pt x="15191" y="4367"/>
                  <a:pt x="15156" y="4465"/>
                </a:cubicBezTo>
                <a:cubicBezTo>
                  <a:pt x="15280" y="4426"/>
                  <a:pt x="15563" y="4271"/>
                  <a:pt x="15453" y="4564"/>
                </a:cubicBezTo>
                <a:cubicBezTo>
                  <a:pt x="15385" y="4745"/>
                  <a:pt x="15157" y="4757"/>
                  <a:pt x="15032" y="4688"/>
                </a:cubicBezTo>
              </a:path>
              <a:path w="819" h="646">
                <a:moveTo>
                  <a:pt x="15825" y="4663"/>
                </a:moveTo>
                <a:cubicBezTo>
                  <a:pt x="15833" y="4713"/>
                  <a:pt x="15842" y="4762"/>
                  <a:pt x="15850" y="481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38800" y="2724120"/>
            <a:ext cx="222120" cy="411120"/>
          </a:xfrm>
          <a:custGeom>
            <a:avLst/>
            <a:gdLst/>
            <a:ahLst/>
            <a:rect l="l" t="t" r="r" b="b"/>
            <a:pathLst>
              <a:path w="621" h="1142">
                <a:moveTo>
                  <a:pt x="12402" y="8235"/>
                </a:moveTo>
                <a:cubicBezTo>
                  <a:pt x="12462" y="8431"/>
                  <a:pt x="12579" y="8635"/>
                  <a:pt x="12477" y="8657"/>
                </a:cubicBezTo>
                <a:cubicBezTo>
                  <a:pt x="12333" y="8113"/>
                  <a:pt x="12271" y="7890"/>
                  <a:pt x="12725" y="7565"/>
                </a:cubicBezTo>
                <a:cubicBezTo>
                  <a:pt x="12916" y="7807"/>
                  <a:pt x="13105" y="8135"/>
                  <a:pt x="12626" y="8235"/>
                </a:cubicBezTo>
                <a:cubicBezTo>
                  <a:pt x="12452" y="8213"/>
                  <a:pt x="12407" y="8220"/>
                  <a:pt x="12328" y="813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777080" y="1303200"/>
            <a:ext cx="885960" cy="519120"/>
          </a:xfrm>
          <a:custGeom>
            <a:avLst/>
            <a:gdLst/>
            <a:ahLst/>
            <a:rect l="l" t="t" r="r" b="b"/>
            <a:pathLst>
              <a:path w="2457" h="1440">
                <a:moveTo>
                  <a:pt x="23540" y="3621"/>
                </a:moveTo>
                <a:cubicBezTo>
                  <a:pt x="23601" y="3644"/>
                  <a:pt x="23651" y="3667"/>
                  <a:pt x="23713" y="3671"/>
                </a:cubicBezTo>
                <a:cubicBezTo>
                  <a:pt x="23730" y="3671"/>
                  <a:pt x="23746" y="3671"/>
                  <a:pt x="23763" y="3671"/>
                </a:cubicBezTo>
              </a:path>
              <a:path w="2457" h="1440">
                <a:moveTo>
                  <a:pt x="23019" y="4217"/>
                </a:moveTo>
                <a:cubicBezTo>
                  <a:pt x="22939" y="4217"/>
                  <a:pt x="22746" y="4167"/>
                  <a:pt x="22721" y="4266"/>
                </a:cubicBezTo>
                <a:cubicBezTo>
                  <a:pt x="22700" y="4390"/>
                  <a:pt x="22692" y="4414"/>
                  <a:pt x="22696" y="4490"/>
                </a:cubicBezTo>
                <a:cubicBezTo>
                  <a:pt x="22794" y="4444"/>
                  <a:pt x="23010" y="4385"/>
                  <a:pt x="22994" y="4589"/>
                </a:cubicBezTo>
                <a:cubicBezTo>
                  <a:pt x="22974" y="4844"/>
                  <a:pt x="22741" y="4802"/>
                  <a:pt x="22597" y="4738"/>
                </a:cubicBezTo>
              </a:path>
              <a:path w="2457" h="1440">
                <a:moveTo>
                  <a:pt x="23217" y="4812"/>
                </a:moveTo>
                <a:cubicBezTo>
                  <a:pt x="23217" y="4945"/>
                  <a:pt x="23221" y="4980"/>
                  <a:pt x="23192" y="5060"/>
                </a:cubicBezTo>
              </a:path>
              <a:path w="2457" h="1440">
                <a:moveTo>
                  <a:pt x="23440" y="4415"/>
                </a:moveTo>
                <a:cubicBezTo>
                  <a:pt x="23440" y="4581"/>
                  <a:pt x="23440" y="4630"/>
                  <a:pt x="23440" y="4738"/>
                </a:cubicBezTo>
              </a:path>
              <a:path w="2457" h="1440">
                <a:moveTo>
                  <a:pt x="23763" y="4266"/>
                </a:moveTo>
                <a:cubicBezTo>
                  <a:pt x="23681" y="4464"/>
                  <a:pt x="23657" y="4587"/>
                  <a:pt x="23763" y="4762"/>
                </a:cubicBezTo>
                <a:cubicBezTo>
                  <a:pt x="23935" y="4752"/>
                  <a:pt x="24173" y="4578"/>
                  <a:pt x="24061" y="4341"/>
                </a:cubicBezTo>
                <a:cubicBezTo>
                  <a:pt x="24028" y="4324"/>
                  <a:pt x="23994" y="4308"/>
                  <a:pt x="23961" y="4291"/>
                </a:cubicBezTo>
              </a:path>
              <a:path w="2457" h="1440">
                <a:moveTo>
                  <a:pt x="22349" y="4812"/>
                </a:moveTo>
                <a:cubicBezTo>
                  <a:pt x="22349" y="4870"/>
                  <a:pt x="22349" y="4928"/>
                  <a:pt x="22349" y="4986"/>
                </a:cubicBezTo>
              </a:path>
              <a:path w="2457" h="1440">
                <a:moveTo>
                  <a:pt x="21952" y="4291"/>
                </a:moveTo>
                <a:cubicBezTo>
                  <a:pt x="21974" y="4224"/>
                  <a:pt x="21998" y="4207"/>
                  <a:pt x="22051" y="4167"/>
                </a:cubicBezTo>
                <a:cubicBezTo>
                  <a:pt x="22077" y="4401"/>
                  <a:pt x="22019" y="4577"/>
                  <a:pt x="21828" y="4738"/>
                </a:cubicBezTo>
                <a:cubicBezTo>
                  <a:pt x="21689" y="4856"/>
                  <a:pt x="21616" y="4735"/>
                  <a:pt x="21605" y="4614"/>
                </a:cubicBezTo>
                <a:cubicBezTo>
                  <a:pt x="21731" y="4530"/>
                  <a:pt x="21874" y="4566"/>
                  <a:pt x="21977" y="4713"/>
                </a:cubicBezTo>
                <a:cubicBezTo>
                  <a:pt x="21996" y="4770"/>
                  <a:pt x="22005" y="4777"/>
                  <a:pt x="22002" y="481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823000" y="2152800"/>
            <a:ext cx="1017360" cy="34920"/>
          </a:xfrm>
          <a:custGeom>
            <a:avLst/>
            <a:gdLst/>
            <a:ahLst/>
            <a:rect l="l" t="t" r="r" b="b"/>
            <a:pathLst>
              <a:path w="2828" h="100">
                <a:moveTo>
                  <a:pt x="16173" y="6028"/>
                </a:moveTo>
                <a:cubicBezTo>
                  <a:pt x="16335" y="5979"/>
                  <a:pt x="16458" y="5978"/>
                  <a:pt x="16644" y="5978"/>
                </a:cubicBezTo>
                <a:cubicBezTo>
                  <a:pt x="16936" y="5978"/>
                  <a:pt x="17223" y="5988"/>
                  <a:pt x="17512" y="6003"/>
                </a:cubicBezTo>
                <a:cubicBezTo>
                  <a:pt x="17718" y="6013"/>
                  <a:pt x="17928" y="6015"/>
                  <a:pt x="18132" y="6052"/>
                </a:cubicBezTo>
                <a:cubicBezTo>
                  <a:pt x="18286" y="6080"/>
                  <a:pt x="18402" y="6065"/>
                  <a:pt x="18554" y="6052"/>
                </a:cubicBezTo>
                <a:cubicBezTo>
                  <a:pt x="18648" y="6044"/>
                  <a:pt x="18733" y="6031"/>
                  <a:pt x="18827" y="6028"/>
                </a:cubicBezTo>
                <a:cubicBezTo>
                  <a:pt x="18897" y="6026"/>
                  <a:pt x="18932" y="6047"/>
                  <a:pt x="19000" y="605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60920" y="2643120"/>
            <a:ext cx="71280" cy="36720"/>
          </a:xfrm>
          <a:custGeom>
            <a:avLst/>
            <a:gdLst/>
            <a:ahLst/>
            <a:rect l="l" t="t" r="r" b="b"/>
            <a:pathLst>
              <a:path w="199" h="100">
                <a:moveTo>
                  <a:pt x="13022" y="7417"/>
                </a:moveTo>
                <a:cubicBezTo>
                  <a:pt x="13047" y="7409"/>
                  <a:pt x="13072" y="7400"/>
                  <a:pt x="13097" y="7392"/>
                </a:cubicBezTo>
                <a:cubicBezTo>
                  <a:pt x="12979" y="7444"/>
                  <a:pt x="12938" y="7415"/>
                  <a:pt x="13072" y="7392"/>
                </a:cubicBezTo>
                <a:cubicBezTo>
                  <a:pt x="13097" y="7392"/>
                  <a:pt x="13121" y="7392"/>
                  <a:pt x="13146" y="7392"/>
                </a:cubicBezTo>
              </a:path>
              <a:path w="199" h="100">
                <a:moveTo>
                  <a:pt x="12948" y="7367"/>
                </a:moveTo>
                <a:cubicBezTo>
                  <a:pt x="12962" y="7364"/>
                  <a:pt x="13182" y="7310"/>
                  <a:pt x="13097" y="7367"/>
                </a:cubicBezTo>
                <a:cubicBezTo>
                  <a:pt x="13036" y="7408"/>
                  <a:pt x="12952" y="7392"/>
                  <a:pt x="13072" y="739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938840" y="1482840"/>
            <a:ext cx="955440" cy="669960"/>
          </a:xfrm>
          <a:custGeom>
            <a:avLst/>
            <a:gdLst/>
            <a:ahLst/>
            <a:rect l="l" t="t" r="r" b="b"/>
            <a:pathLst>
              <a:path w="2655" h="1861">
                <a:moveTo>
                  <a:pt x="16321" y="4440"/>
                </a:moveTo>
                <a:cubicBezTo>
                  <a:pt x="16262" y="4330"/>
                  <a:pt x="16190" y="4235"/>
                  <a:pt x="16049" y="4242"/>
                </a:cubicBezTo>
                <a:cubicBezTo>
                  <a:pt x="15872" y="4251"/>
                  <a:pt x="15784" y="4560"/>
                  <a:pt x="15974" y="4614"/>
                </a:cubicBezTo>
                <a:cubicBezTo>
                  <a:pt x="16146" y="4664"/>
                  <a:pt x="16182" y="4438"/>
                  <a:pt x="16222" y="4341"/>
                </a:cubicBezTo>
                <a:cubicBezTo>
                  <a:pt x="16230" y="4324"/>
                  <a:pt x="16239" y="4308"/>
                  <a:pt x="16247" y="4291"/>
                </a:cubicBezTo>
                <a:cubicBezTo>
                  <a:pt x="16264" y="4462"/>
                  <a:pt x="16334" y="4620"/>
                  <a:pt x="16371" y="4787"/>
                </a:cubicBezTo>
                <a:cubicBezTo>
                  <a:pt x="16371" y="4804"/>
                  <a:pt x="16371" y="4820"/>
                  <a:pt x="16371" y="4837"/>
                </a:cubicBezTo>
              </a:path>
              <a:path w="2655" h="1861">
                <a:moveTo>
                  <a:pt x="14015" y="4242"/>
                </a:moveTo>
                <a:cubicBezTo>
                  <a:pt x="14083" y="4193"/>
                  <a:pt x="14346" y="4007"/>
                  <a:pt x="14238" y="4291"/>
                </a:cubicBezTo>
                <a:cubicBezTo>
                  <a:pt x="14213" y="4324"/>
                  <a:pt x="14188" y="4357"/>
                  <a:pt x="14163" y="4390"/>
                </a:cubicBezTo>
                <a:cubicBezTo>
                  <a:pt x="14147" y="4407"/>
                  <a:pt x="14130" y="4423"/>
                  <a:pt x="14114" y="4440"/>
                </a:cubicBezTo>
                <a:cubicBezTo>
                  <a:pt x="14201" y="4322"/>
                  <a:pt x="14337" y="4454"/>
                  <a:pt x="14337" y="4589"/>
                </a:cubicBezTo>
                <a:cubicBezTo>
                  <a:pt x="14337" y="4792"/>
                  <a:pt x="14186" y="4883"/>
                  <a:pt x="14015" y="4837"/>
                </a:cubicBezTo>
                <a:cubicBezTo>
                  <a:pt x="13998" y="4829"/>
                  <a:pt x="13982" y="4820"/>
                  <a:pt x="13965" y="4812"/>
                </a:cubicBezTo>
              </a:path>
              <a:path w="2655" h="1861">
                <a:moveTo>
                  <a:pt x="14734" y="4812"/>
                </a:moveTo>
                <a:cubicBezTo>
                  <a:pt x="14756" y="4945"/>
                  <a:pt x="14769" y="4979"/>
                  <a:pt x="14734" y="5060"/>
                </a:cubicBezTo>
              </a:path>
              <a:path w="2655" h="1861">
                <a:moveTo>
                  <a:pt x="13717" y="5978"/>
                </a:moveTo>
                <a:cubicBezTo>
                  <a:pt x="13839" y="5926"/>
                  <a:pt x="14024" y="5953"/>
                  <a:pt x="14163" y="5953"/>
                </a:cubicBezTo>
                <a:cubicBezTo>
                  <a:pt x="14410" y="5953"/>
                  <a:pt x="14639" y="5922"/>
                  <a:pt x="14883" y="5904"/>
                </a:cubicBezTo>
                <a:cubicBezTo>
                  <a:pt x="15003" y="5895"/>
                  <a:pt x="15115" y="5893"/>
                  <a:pt x="15230" y="587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40240" y="2527200"/>
            <a:ext cx="893880" cy="768600"/>
          </a:xfrm>
          <a:custGeom>
            <a:avLst/>
            <a:gdLst/>
            <a:ahLst/>
            <a:rect l="l" t="t" r="r" b="b"/>
            <a:pathLst>
              <a:path w="2482" h="2134">
                <a:moveTo>
                  <a:pt x="16173" y="7888"/>
                </a:moveTo>
                <a:cubicBezTo>
                  <a:pt x="16193" y="7810"/>
                  <a:pt x="16231" y="7565"/>
                  <a:pt x="16073" y="7565"/>
                </a:cubicBezTo>
                <a:cubicBezTo>
                  <a:pt x="15911" y="7565"/>
                  <a:pt x="15714" y="7899"/>
                  <a:pt x="15949" y="7913"/>
                </a:cubicBezTo>
                <a:cubicBezTo>
                  <a:pt x="16063" y="7920"/>
                  <a:pt x="16079" y="7843"/>
                  <a:pt x="16123" y="7764"/>
                </a:cubicBezTo>
                <a:cubicBezTo>
                  <a:pt x="16149" y="7923"/>
                  <a:pt x="16173" y="8074"/>
                  <a:pt x="16173" y="8235"/>
                </a:cubicBezTo>
              </a:path>
              <a:path w="2482" h="2134">
                <a:moveTo>
                  <a:pt x="16371" y="7640"/>
                </a:moveTo>
                <a:cubicBezTo>
                  <a:pt x="16494" y="7605"/>
                  <a:pt x="16603" y="7559"/>
                  <a:pt x="16718" y="7516"/>
                </a:cubicBezTo>
                <a:cubicBezTo>
                  <a:pt x="16745" y="7702"/>
                  <a:pt x="16702" y="7914"/>
                  <a:pt x="16694" y="8111"/>
                </a:cubicBezTo>
              </a:path>
              <a:path w="2482" h="2134">
                <a:moveTo>
                  <a:pt x="15577" y="8483"/>
                </a:moveTo>
                <a:cubicBezTo>
                  <a:pt x="15566" y="8234"/>
                  <a:pt x="15512" y="8006"/>
                  <a:pt x="15453" y="7764"/>
                </a:cubicBezTo>
                <a:cubicBezTo>
                  <a:pt x="15445" y="7731"/>
                  <a:pt x="15437" y="7698"/>
                  <a:pt x="15429" y="7665"/>
                </a:cubicBezTo>
                <a:cubicBezTo>
                  <a:pt x="15757" y="7509"/>
                  <a:pt x="16163" y="7466"/>
                  <a:pt x="16520" y="7392"/>
                </a:cubicBezTo>
                <a:cubicBezTo>
                  <a:pt x="16779" y="7338"/>
                  <a:pt x="17065" y="7309"/>
                  <a:pt x="17314" y="7218"/>
                </a:cubicBezTo>
              </a:path>
              <a:path w="2482" h="2134">
                <a:moveTo>
                  <a:pt x="14833" y="7962"/>
                </a:moveTo>
                <a:cubicBezTo>
                  <a:pt x="14984" y="7934"/>
                  <a:pt x="15137" y="7915"/>
                  <a:pt x="15280" y="7863"/>
                </a:cubicBezTo>
                <a:cubicBezTo>
                  <a:pt x="15291" y="8036"/>
                  <a:pt x="15255" y="8244"/>
                  <a:pt x="15255" y="8434"/>
                </a:cubicBezTo>
                <a:cubicBezTo>
                  <a:pt x="15255" y="8442"/>
                  <a:pt x="15255" y="8450"/>
                  <a:pt x="15255" y="8458"/>
                </a:cubicBezTo>
              </a:path>
              <a:path w="2482" h="2134">
                <a:moveTo>
                  <a:pt x="15776" y="7020"/>
                </a:moveTo>
                <a:cubicBezTo>
                  <a:pt x="15815" y="7148"/>
                  <a:pt x="15878" y="7285"/>
                  <a:pt x="15900" y="7417"/>
                </a:cubicBezTo>
              </a:path>
              <a:path w="2482" h="2134">
                <a:moveTo>
                  <a:pt x="15974" y="8434"/>
                </a:moveTo>
                <a:cubicBezTo>
                  <a:pt x="16043" y="8337"/>
                  <a:pt x="16153" y="8312"/>
                  <a:pt x="16272" y="8285"/>
                </a:cubicBezTo>
                <a:cubicBezTo>
                  <a:pt x="16280" y="8285"/>
                  <a:pt x="16289" y="8285"/>
                  <a:pt x="16297" y="8285"/>
                </a:cubicBezTo>
                <a:cubicBezTo>
                  <a:pt x="16297" y="8397"/>
                  <a:pt x="16283" y="8498"/>
                  <a:pt x="16272" y="8607"/>
                </a:cubicBezTo>
              </a:path>
              <a:path w="2482" h="2134">
                <a:moveTo>
                  <a:pt x="16148" y="8830"/>
                </a:moveTo>
                <a:cubicBezTo>
                  <a:pt x="16261" y="8776"/>
                  <a:pt x="16350" y="8728"/>
                  <a:pt x="16470" y="8706"/>
                </a:cubicBezTo>
              </a:path>
              <a:path w="2482" h="2134">
                <a:moveTo>
                  <a:pt x="16346" y="8954"/>
                </a:moveTo>
                <a:cubicBezTo>
                  <a:pt x="16436" y="8910"/>
                  <a:pt x="16459" y="8897"/>
                  <a:pt x="16520" y="8880"/>
                </a:cubicBezTo>
                <a:cubicBezTo>
                  <a:pt x="16498" y="8990"/>
                  <a:pt x="16428" y="9057"/>
                  <a:pt x="16396" y="9153"/>
                </a:cubicBezTo>
                <a:cubicBezTo>
                  <a:pt x="16543" y="9153"/>
                  <a:pt x="16592" y="9154"/>
                  <a:pt x="16669" y="9079"/>
                </a:cubicBezTo>
              </a:path>
              <a:path w="2482" h="2134">
                <a:moveTo>
                  <a:pt x="16768" y="8285"/>
                </a:moveTo>
                <a:cubicBezTo>
                  <a:pt x="16785" y="8384"/>
                  <a:pt x="16815" y="8483"/>
                  <a:pt x="16842" y="8582"/>
                </a:cubicBezTo>
              </a:path>
              <a:path w="2482" h="2134">
                <a:moveTo>
                  <a:pt x="16768" y="8855"/>
                </a:moveTo>
                <a:cubicBezTo>
                  <a:pt x="16862" y="8825"/>
                  <a:pt x="16943" y="8781"/>
                  <a:pt x="17041" y="8781"/>
                </a:cubicBezTo>
                <a:cubicBezTo>
                  <a:pt x="17041" y="8862"/>
                  <a:pt x="17027" y="8939"/>
                  <a:pt x="17066" y="9004"/>
                </a:cubicBezTo>
              </a:path>
              <a:path w="2482" h="2134">
                <a:moveTo>
                  <a:pt x="14908" y="7565"/>
                </a:moveTo>
                <a:cubicBezTo>
                  <a:pt x="15441" y="7881"/>
                  <a:pt x="15932" y="8133"/>
                  <a:pt x="16545" y="8285"/>
                </a:cubicBezTo>
                <a:cubicBezTo>
                  <a:pt x="16731" y="8331"/>
                  <a:pt x="16899" y="8339"/>
                  <a:pt x="17066" y="8409"/>
                </a:cubicBezTo>
              </a:path>
              <a:path w="2482" h="2134">
                <a:moveTo>
                  <a:pt x="16495" y="7169"/>
                </a:moveTo>
                <a:cubicBezTo>
                  <a:pt x="16277" y="7705"/>
                  <a:pt x="16081" y="8251"/>
                  <a:pt x="15850" y="8781"/>
                </a:cubicBezTo>
                <a:cubicBezTo>
                  <a:pt x="15842" y="8797"/>
                  <a:pt x="15833" y="8814"/>
                  <a:pt x="15825" y="883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786280" y="3679920"/>
            <a:ext cx="196920" cy="374400"/>
          </a:xfrm>
          <a:custGeom>
            <a:avLst/>
            <a:gdLst/>
            <a:ahLst/>
            <a:rect l="l" t="t" r="r" b="b"/>
            <a:pathLst>
              <a:path w="547" h="1042">
                <a:moveTo>
                  <a:pt x="16073" y="10939"/>
                </a:moveTo>
                <a:cubicBezTo>
                  <a:pt x="16113" y="11044"/>
                  <a:pt x="16099" y="11148"/>
                  <a:pt x="16073" y="11261"/>
                </a:cubicBezTo>
              </a:path>
              <a:path w="547" h="1042">
                <a:moveTo>
                  <a:pt x="16272" y="10344"/>
                </a:moveTo>
                <a:cubicBezTo>
                  <a:pt x="16294" y="10451"/>
                  <a:pt x="16302" y="10475"/>
                  <a:pt x="16297" y="10542"/>
                </a:cubicBezTo>
                <a:cubicBezTo>
                  <a:pt x="16408" y="10507"/>
                  <a:pt x="16512" y="10467"/>
                  <a:pt x="16619" y="10418"/>
                </a:cubicBezTo>
              </a:path>
              <a:path w="547" h="1042">
                <a:moveTo>
                  <a:pt x="16495" y="10220"/>
                </a:moveTo>
                <a:cubicBezTo>
                  <a:pt x="16480" y="10420"/>
                  <a:pt x="16495" y="10613"/>
                  <a:pt x="16495" y="1081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29080" y="2205000"/>
            <a:ext cx="588960" cy="216000"/>
          </a:xfrm>
          <a:custGeom>
            <a:avLst/>
            <a:gdLst/>
            <a:ahLst/>
            <a:rect l="l" t="t" r="r" b="b"/>
            <a:pathLst>
              <a:path w="1638" h="596">
                <a:moveTo>
                  <a:pt x="12675" y="6276"/>
                </a:moveTo>
                <a:cubicBezTo>
                  <a:pt x="12689" y="6195"/>
                  <a:pt x="12570" y="6068"/>
                  <a:pt x="12452" y="6127"/>
                </a:cubicBezTo>
                <a:cubicBezTo>
                  <a:pt x="12301" y="6203"/>
                  <a:pt x="12211" y="6669"/>
                  <a:pt x="12477" y="6499"/>
                </a:cubicBezTo>
                <a:cubicBezTo>
                  <a:pt x="12588" y="6366"/>
                  <a:pt x="12622" y="6335"/>
                  <a:pt x="12650" y="6226"/>
                </a:cubicBezTo>
                <a:cubicBezTo>
                  <a:pt x="12635" y="6393"/>
                  <a:pt x="12626" y="6558"/>
                  <a:pt x="12601" y="6722"/>
                </a:cubicBezTo>
              </a:path>
              <a:path w="1638" h="596">
                <a:moveTo>
                  <a:pt x="12923" y="6176"/>
                </a:moveTo>
                <a:cubicBezTo>
                  <a:pt x="12923" y="6329"/>
                  <a:pt x="12935" y="6472"/>
                  <a:pt x="12948" y="6623"/>
                </a:cubicBezTo>
              </a:path>
              <a:path w="1638" h="596">
                <a:moveTo>
                  <a:pt x="12824" y="6375"/>
                </a:moveTo>
                <a:cubicBezTo>
                  <a:pt x="12934" y="6367"/>
                  <a:pt x="13037" y="6347"/>
                  <a:pt x="13146" y="6325"/>
                </a:cubicBezTo>
              </a:path>
              <a:path w="1638" h="596">
                <a:moveTo>
                  <a:pt x="13221" y="6226"/>
                </a:moveTo>
                <a:cubicBezTo>
                  <a:pt x="13313" y="6206"/>
                  <a:pt x="13401" y="6196"/>
                  <a:pt x="13494" y="6176"/>
                </a:cubicBezTo>
                <a:cubicBezTo>
                  <a:pt x="13507" y="6326"/>
                  <a:pt x="13438" y="6477"/>
                  <a:pt x="13370" y="6623"/>
                </a:cubicBezTo>
                <a:cubicBezTo>
                  <a:pt x="13362" y="6639"/>
                  <a:pt x="13353" y="6656"/>
                  <a:pt x="13345" y="6672"/>
                </a:cubicBezTo>
              </a:path>
              <a:path w="1638" h="596">
                <a:moveTo>
                  <a:pt x="13667" y="6350"/>
                </a:moveTo>
                <a:cubicBezTo>
                  <a:pt x="13752" y="6350"/>
                  <a:pt x="13811" y="6342"/>
                  <a:pt x="13891" y="6325"/>
                </a:cubicBezTo>
              </a:path>
              <a:path w="1638" h="596">
                <a:moveTo>
                  <a:pt x="13742" y="6449"/>
                </a:moveTo>
                <a:cubicBezTo>
                  <a:pt x="13849" y="6427"/>
                  <a:pt x="13873" y="6419"/>
                  <a:pt x="13940" y="642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143680" y="2224080"/>
            <a:ext cx="679320" cy="196920"/>
          </a:xfrm>
          <a:custGeom>
            <a:avLst/>
            <a:gdLst/>
            <a:ahLst/>
            <a:rect l="l" t="t" r="r" b="b"/>
            <a:pathLst>
              <a:path w="1886" h="547">
                <a:moveTo>
                  <a:pt x="14387" y="6176"/>
                </a:moveTo>
                <a:cubicBezTo>
                  <a:pt x="14339" y="6333"/>
                  <a:pt x="14332" y="6496"/>
                  <a:pt x="14288" y="6648"/>
                </a:cubicBezTo>
              </a:path>
              <a:path w="1886" h="547">
                <a:moveTo>
                  <a:pt x="14833" y="6201"/>
                </a:moveTo>
                <a:cubicBezTo>
                  <a:pt x="14824" y="6318"/>
                  <a:pt x="14789" y="6430"/>
                  <a:pt x="14784" y="6548"/>
                </a:cubicBezTo>
                <a:cubicBezTo>
                  <a:pt x="14784" y="6565"/>
                  <a:pt x="14784" y="6581"/>
                  <a:pt x="14784" y="6598"/>
                </a:cubicBezTo>
                <a:cubicBezTo>
                  <a:pt x="14887" y="6633"/>
                  <a:pt x="14975" y="6637"/>
                  <a:pt x="15056" y="6548"/>
                </a:cubicBezTo>
                <a:cubicBezTo>
                  <a:pt x="15094" y="6492"/>
                  <a:pt x="15111" y="6489"/>
                  <a:pt x="15106" y="6449"/>
                </a:cubicBezTo>
                <a:cubicBezTo>
                  <a:pt x="14994" y="6388"/>
                  <a:pt x="14943" y="6430"/>
                  <a:pt x="14908" y="6573"/>
                </a:cubicBezTo>
                <a:cubicBezTo>
                  <a:pt x="14908" y="6590"/>
                  <a:pt x="14908" y="6606"/>
                  <a:pt x="14908" y="6623"/>
                </a:cubicBezTo>
              </a:path>
              <a:path w="1886" h="547">
                <a:moveTo>
                  <a:pt x="14536" y="6350"/>
                </a:moveTo>
                <a:cubicBezTo>
                  <a:pt x="14490" y="6426"/>
                  <a:pt x="14486" y="6452"/>
                  <a:pt x="14486" y="6548"/>
                </a:cubicBezTo>
              </a:path>
              <a:path w="1886" h="547">
                <a:moveTo>
                  <a:pt x="14461" y="6474"/>
                </a:moveTo>
                <a:cubicBezTo>
                  <a:pt x="14539" y="6443"/>
                  <a:pt x="14600" y="6431"/>
                  <a:pt x="14684" y="6424"/>
                </a:cubicBezTo>
              </a:path>
              <a:path w="1886" h="547">
                <a:moveTo>
                  <a:pt x="15280" y="6325"/>
                </a:moveTo>
                <a:cubicBezTo>
                  <a:pt x="15338" y="6325"/>
                  <a:pt x="15363" y="6325"/>
                  <a:pt x="15404" y="6325"/>
                </a:cubicBezTo>
              </a:path>
              <a:path w="1886" h="547">
                <a:moveTo>
                  <a:pt x="15329" y="6499"/>
                </a:moveTo>
                <a:cubicBezTo>
                  <a:pt x="15445" y="6476"/>
                  <a:pt x="15479" y="6469"/>
                  <a:pt x="15553" y="6449"/>
                </a:cubicBezTo>
              </a:path>
              <a:path w="1886" h="547">
                <a:moveTo>
                  <a:pt x="15801" y="6251"/>
                </a:moveTo>
                <a:cubicBezTo>
                  <a:pt x="15902" y="6251"/>
                  <a:pt x="15997" y="6272"/>
                  <a:pt x="16098" y="6276"/>
                </a:cubicBezTo>
                <a:cubicBezTo>
                  <a:pt x="16140" y="6276"/>
                  <a:pt x="16148" y="6276"/>
                  <a:pt x="16173" y="6276"/>
                </a:cubicBezTo>
                <a:cubicBezTo>
                  <a:pt x="16128" y="6418"/>
                  <a:pt x="16068" y="6557"/>
                  <a:pt x="16024" y="6697"/>
                </a:cubicBezTo>
                <a:cubicBezTo>
                  <a:pt x="16024" y="6705"/>
                  <a:pt x="16024" y="6714"/>
                  <a:pt x="16024" y="672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76160" y="3589200"/>
            <a:ext cx="63720" cy="233640"/>
          </a:xfrm>
          <a:custGeom>
            <a:avLst/>
            <a:gdLst/>
            <a:ahLst/>
            <a:rect l="l" t="t" r="r" b="b"/>
            <a:pathLst>
              <a:path w="175" h="646">
                <a:moveTo>
                  <a:pt x="2158" y="9971"/>
                </a:moveTo>
                <a:cubicBezTo>
                  <a:pt x="2222" y="10185"/>
                  <a:pt x="2304" y="10396"/>
                  <a:pt x="2332" y="1061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82800" y="3616200"/>
            <a:ext cx="249120" cy="285840"/>
          </a:xfrm>
          <a:custGeom>
            <a:avLst/>
            <a:gdLst/>
            <a:ahLst/>
            <a:rect l="l" t="t" r="r" b="b"/>
            <a:pathLst>
              <a:path w="695" h="795">
                <a:moveTo>
                  <a:pt x="3001" y="10096"/>
                </a:moveTo>
                <a:cubicBezTo>
                  <a:pt x="2900" y="10055"/>
                  <a:pt x="3111" y="9989"/>
                  <a:pt x="3175" y="10170"/>
                </a:cubicBezTo>
                <a:cubicBezTo>
                  <a:pt x="3247" y="10373"/>
                  <a:pt x="3045" y="10492"/>
                  <a:pt x="2902" y="10492"/>
                </a:cubicBezTo>
                <a:cubicBezTo>
                  <a:pt x="2896" y="10391"/>
                  <a:pt x="2895" y="10188"/>
                  <a:pt x="3051" y="10344"/>
                </a:cubicBezTo>
                <a:cubicBezTo>
                  <a:pt x="3084" y="10385"/>
                  <a:pt x="3117" y="10427"/>
                  <a:pt x="3150" y="10468"/>
                </a:cubicBezTo>
              </a:path>
              <a:path w="695" h="795">
                <a:moveTo>
                  <a:pt x="2729" y="10666"/>
                </a:moveTo>
                <a:cubicBezTo>
                  <a:pt x="2729" y="10757"/>
                  <a:pt x="2729" y="10782"/>
                  <a:pt x="2729" y="10840"/>
                </a:cubicBezTo>
              </a:path>
              <a:path w="695" h="795">
                <a:moveTo>
                  <a:pt x="3423" y="10592"/>
                </a:moveTo>
                <a:cubicBezTo>
                  <a:pt x="3423" y="10625"/>
                  <a:pt x="3423" y="10658"/>
                  <a:pt x="3423" y="1069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330200" y="3625920"/>
            <a:ext cx="90720" cy="169920"/>
          </a:xfrm>
          <a:custGeom>
            <a:avLst/>
            <a:gdLst/>
            <a:ahLst/>
            <a:rect l="l" t="t" r="r" b="b"/>
            <a:pathLst>
              <a:path w="249" h="472">
                <a:moveTo>
                  <a:pt x="3696" y="10120"/>
                </a:moveTo>
                <a:cubicBezTo>
                  <a:pt x="3750" y="10100"/>
                  <a:pt x="3982" y="9994"/>
                  <a:pt x="3919" y="10170"/>
                </a:cubicBezTo>
                <a:cubicBezTo>
                  <a:pt x="3863" y="10254"/>
                  <a:pt x="3837" y="10286"/>
                  <a:pt x="3770" y="10319"/>
                </a:cubicBezTo>
                <a:cubicBezTo>
                  <a:pt x="3845" y="10294"/>
                  <a:pt x="3869" y="10286"/>
                  <a:pt x="3919" y="10319"/>
                </a:cubicBezTo>
                <a:cubicBezTo>
                  <a:pt x="3928" y="10421"/>
                  <a:pt x="3893" y="10542"/>
                  <a:pt x="3746" y="10542"/>
                </a:cubicBezTo>
                <a:cubicBezTo>
                  <a:pt x="3729" y="10534"/>
                  <a:pt x="3713" y="10525"/>
                  <a:pt x="3696" y="1051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527120" y="3643200"/>
            <a:ext cx="357120" cy="250920"/>
          </a:xfrm>
          <a:custGeom>
            <a:avLst/>
            <a:gdLst/>
            <a:ahLst/>
            <a:rect l="l" t="t" r="r" b="b"/>
            <a:pathLst>
              <a:path w="993" h="696">
                <a:moveTo>
                  <a:pt x="4266" y="10517"/>
                </a:moveTo>
                <a:cubicBezTo>
                  <a:pt x="4273" y="10564"/>
                  <a:pt x="4279" y="10906"/>
                  <a:pt x="4242" y="10716"/>
                </a:cubicBezTo>
              </a:path>
              <a:path w="993" h="696">
                <a:moveTo>
                  <a:pt x="4465" y="10244"/>
                </a:moveTo>
                <a:cubicBezTo>
                  <a:pt x="4429" y="10312"/>
                  <a:pt x="4402" y="10379"/>
                  <a:pt x="4366" y="10443"/>
                </a:cubicBezTo>
                <a:cubicBezTo>
                  <a:pt x="4485" y="10467"/>
                  <a:pt x="4522" y="10478"/>
                  <a:pt x="4589" y="10418"/>
                </a:cubicBezTo>
              </a:path>
              <a:path w="993" h="696">
                <a:moveTo>
                  <a:pt x="4663" y="10120"/>
                </a:moveTo>
                <a:cubicBezTo>
                  <a:pt x="4657" y="10314"/>
                  <a:pt x="4631" y="10499"/>
                  <a:pt x="4614" y="10691"/>
                </a:cubicBezTo>
              </a:path>
              <a:path w="993" h="696">
                <a:moveTo>
                  <a:pt x="4762" y="10517"/>
                </a:moveTo>
                <a:cubicBezTo>
                  <a:pt x="4762" y="10623"/>
                  <a:pt x="4763" y="10713"/>
                  <a:pt x="4738" y="10815"/>
                </a:cubicBezTo>
              </a:path>
              <a:path w="993" h="696">
                <a:moveTo>
                  <a:pt x="5060" y="10220"/>
                </a:moveTo>
                <a:cubicBezTo>
                  <a:pt x="4975" y="10326"/>
                  <a:pt x="4924" y="10413"/>
                  <a:pt x="4936" y="10542"/>
                </a:cubicBezTo>
                <a:cubicBezTo>
                  <a:pt x="5071" y="10583"/>
                  <a:pt x="5193" y="10557"/>
                  <a:pt x="5234" y="10393"/>
                </a:cubicBezTo>
                <a:cubicBezTo>
                  <a:pt x="5253" y="10317"/>
                  <a:pt x="5078" y="10519"/>
                  <a:pt x="5060" y="1056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44800" y="3813120"/>
            <a:ext cx="9360" cy="98640"/>
          </a:xfrm>
          <a:custGeom>
            <a:avLst/>
            <a:gdLst/>
            <a:ahLst/>
            <a:rect l="l" t="t" r="r" b="b"/>
            <a:pathLst>
              <a:path w="26" h="273">
                <a:moveTo>
                  <a:pt x="5680" y="10592"/>
                </a:moveTo>
                <a:cubicBezTo>
                  <a:pt x="5704" y="10732"/>
                  <a:pt x="5714" y="10774"/>
                  <a:pt x="5680" y="1086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05000" y="3606840"/>
            <a:ext cx="135000" cy="162000"/>
          </a:xfrm>
          <a:custGeom>
            <a:avLst/>
            <a:gdLst/>
            <a:ahLst/>
            <a:rect l="l" t="t" r="r" b="b"/>
            <a:pathLst>
              <a:path w="373" h="448">
                <a:moveTo>
                  <a:pt x="6499" y="10046"/>
                </a:moveTo>
                <a:cubicBezTo>
                  <a:pt x="6344" y="10024"/>
                  <a:pt x="6255" y="10052"/>
                  <a:pt x="6127" y="10145"/>
                </a:cubicBezTo>
                <a:cubicBezTo>
                  <a:pt x="6187" y="10179"/>
                  <a:pt x="6555" y="10303"/>
                  <a:pt x="6424" y="10418"/>
                </a:cubicBezTo>
                <a:cubicBezTo>
                  <a:pt x="6383" y="10435"/>
                  <a:pt x="6341" y="10451"/>
                  <a:pt x="6300" y="10468"/>
                </a:cubicBezTo>
                <a:cubicBezTo>
                  <a:pt x="6301" y="10325"/>
                  <a:pt x="6410" y="10203"/>
                  <a:pt x="6499" y="1007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482920" y="3571920"/>
            <a:ext cx="339480" cy="500040"/>
          </a:xfrm>
          <a:custGeom>
            <a:avLst/>
            <a:gdLst/>
            <a:ahLst/>
            <a:rect l="l" t="t" r="r" b="b"/>
            <a:pathLst>
              <a:path w="943" h="1390">
                <a:moveTo>
                  <a:pt x="7838" y="10691"/>
                </a:moveTo>
                <a:cubicBezTo>
                  <a:pt x="7817" y="10773"/>
                  <a:pt x="7809" y="10789"/>
                  <a:pt x="7813" y="10840"/>
                </a:cubicBezTo>
              </a:path>
              <a:path w="943" h="1390">
                <a:moveTo>
                  <a:pt x="7342" y="10021"/>
                </a:moveTo>
                <a:cubicBezTo>
                  <a:pt x="7327" y="10159"/>
                  <a:pt x="7291" y="10288"/>
                  <a:pt x="7243" y="10418"/>
                </a:cubicBezTo>
              </a:path>
              <a:path w="943" h="1390">
                <a:moveTo>
                  <a:pt x="7541" y="9947"/>
                </a:moveTo>
                <a:cubicBezTo>
                  <a:pt x="7597" y="9918"/>
                  <a:pt x="7621" y="9913"/>
                  <a:pt x="7665" y="9947"/>
                </a:cubicBezTo>
                <a:cubicBezTo>
                  <a:pt x="7697" y="10099"/>
                  <a:pt x="7693" y="10261"/>
                  <a:pt x="7491" y="10294"/>
                </a:cubicBezTo>
                <a:cubicBezTo>
                  <a:pt x="7466" y="10286"/>
                  <a:pt x="7442" y="10277"/>
                  <a:pt x="7417" y="10269"/>
                </a:cubicBezTo>
                <a:cubicBezTo>
                  <a:pt x="7468" y="10176"/>
                  <a:pt x="7533" y="10068"/>
                  <a:pt x="7640" y="10195"/>
                </a:cubicBezTo>
                <a:cubicBezTo>
                  <a:pt x="7676" y="10268"/>
                  <a:pt x="7693" y="10273"/>
                  <a:pt x="7689" y="10319"/>
                </a:cubicBezTo>
              </a:path>
              <a:path w="943" h="1390">
                <a:moveTo>
                  <a:pt x="7094" y="11261"/>
                </a:moveTo>
                <a:cubicBezTo>
                  <a:pt x="7327" y="11261"/>
                  <a:pt x="7057" y="11303"/>
                  <a:pt x="7069" y="11311"/>
                </a:cubicBezTo>
                <a:cubicBezTo>
                  <a:pt x="7145" y="11311"/>
                  <a:pt x="7171" y="11311"/>
                  <a:pt x="7218" y="11286"/>
                </a:cubicBezTo>
                <a:cubicBezTo>
                  <a:pt x="7205" y="11291"/>
                  <a:pt x="7075" y="11311"/>
                  <a:pt x="7144" y="11311"/>
                </a:cubicBezTo>
              </a:path>
              <a:path w="943" h="1390">
                <a:moveTo>
                  <a:pt x="6921" y="10567"/>
                </a:moveTo>
                <a:cubicBezTo>
                  <a:pt x="6896" y="10640"/>
                  <a:pt x="6888" y="10664"/>
                  <a:pt x="6896" y="1071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955960" y="3598920"/>
            <a:ext cx="642960" cy="312840"/>
          </a:xfrm>
          <a:custGeom>
            <a:avLst/>
            <a:gdLst/>
            <a:ahLst/>
            <a:rect l="l" t="t" r="r" b="b"/>
            <a:pathLst>
              <a:path w="1787" h="869">
                <a:moveTo>
                  <a:pt x="9426" y="10170"/>
                </a:moveTo>
                <a:cubicBezTo>
                  <a:pt x="9474" y="10186"/>
                  <a:pt x="9807" y="10319"/>
                  <a:pt x="9699" y="10443"/>
                </a:cubicBezTo>
                <a:cubicBezTo>
                  <a:pt x="9562" y="10497"/>
                  <a:pt x="9508" y="10513"/>
                  <a:pt x="9401" y="10492"/>
                </a:cubicBezTo>
                <a:cubicBezTo>
                  <a:pt x="9283" y="10335"/>
                  <a:pt x="9403" y="10410"/>
                  <a:pt x="9575" y="10418"/>
                </a:cubicBezTo>
              </a:path>
              <a:path w="1787" h="869">
                <a:moveTo>
                  <a:pt x="9773" y="10195"/>
                </a:moveTo>
                <a:cubicBezTo>
                  <a:pt x="9786" y="10395"/>
                  <a:pt x="9813" y="10387"/>
                  <a:pt x="9996" y="10319"/>
                </a:cubicBezTo>
              </a:path>
              <a:path w="1787" h="869">
                <a:moveTo>
                  <a:pt x="9872" y="10096"/>
                </a:moveTo>
                <a:cubicBezTo>
                  <a:pt x="9872" y="10251"/>
                  <a:pt x="9869" y="10390"/>
                  <a:pt x="9847" y="10542"/>
                </a:cubicBezTo>
              </a:path>
              <a:path w="1787" h="869">
                <a:moveTo>
                  <a:pt x="9079" y="10592"/>
                </a:moveTo>
                <a:cubicBezTo>
                  <a:pt x="9060" y="10683"/>
                  <a:pt x="9038" y="10772"/>
                  <a:pt x="9029" y="10864"/>
                </a:cubicBezTo>
              </a:path>
              <a:path w="1787" h="869">
                <a:moveTo>
                  <a:pt x="8334" y="10046"/>
                </a:moveTo>
                <a:cubicBezTo>
                  <a:pt x="8280" y="10192"/>
                  <a:pt x="8244" y="10317"/>
                  <a:pt x="8210" y="10468"/>
                </a:cubicBezTo>
              </a:path>
              <a:path w="1787" h="869">
                <a:moveTo>
                  <a:pt x="8607" y="9996"/>
                </a:moveTo>
                <a:cubicBezTo>
                  <a:pt x="8573" y="10131"/>
                  <a:pt x="8549" y="10277"/>
                  <a:pt x="8533" y="10418"/>
                </a:cubicBezTo>
                <a:cubicBezTo>
                  <a:pt x="8678" y="10430"/>
                  <a:pt x="8731" y="10373"/>
                  <a:pt x="8806" y="10244"/>
                </a:cubicBezTo>
                <a:cubicBezTo>
                  <a:pt x="8659" y="10260"/>
                  <a:pt x="8653" y="10308"/>
                  <a:pt x="8607" y="1044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05120" y="3875040"/>
            <a:ext cx="19080" cy="46080"/>
          </a:xfrm>
          <a:custGeom>
            <a:avLst/>
            <a:gdLst/>
            <a:ahLst/>
            <a:rect l="l" t="t" r="r" b="b"/>
            <a:pathLst>
              <a:path w="51" h="125">
                <a:moveTo>
                  <a:pt x="10344" y="10765"/>
                </a:moveTo>
                <a:cubicBezTo>
                  <a:pt x="10302" y="10829"/>
                  <a:pt x="10285" y="10840"/>
                  <a:pt x="10294" y="1088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13120" y="3598920"/>
            <a:ext cx="241200" cy="206280"/>
          </a:xfrm>
          <a:custGeom>
            <a:avLst/>
            <a:gdLst/>
            <a:ahLst/>
            <a:rect l="l" t="t" r="r" b="b"/>
            <a:pathLst>
              <a:path w="670" h="572">
                <a:moveTo>
                  <a:pt x="10616" y="10220"/>
                </a:moveTo>
                <a:cubicBezTo>
                  <a:pt x="10695" y="10021"/>
                  <a:pt x="10596" y="10357"/>
                  <a:pt x="10592" y="10393"/>
                </a:cubicBezTo>
                <a:cubicBezTo>
                  <a:pt x="10721" y="10393"/>
                  <a:pt x="10781" y="10381"/>
                  <a:pt x="10864" y="10319"/>
                </a:cubicBezTo>
              </a:path>
              <a:path w="670" h="572">
                <a:moveTo>
                  <a:pt x="10914" y="10071"/>
                </a:moveTo>
                <a:cubicBezTo>
                  <a:pt x="10878" y="10245"/>
                  <a:pt x="10850" y="10405"/>
                  <a:pt x="10790" y="10567"/>
                </a:cubicBezTo>
              </a:path>
              <a:path w="670" h="572">
                <a:moveTo>
                  <a:pt x="11112" y="10071"/>
                </a:moveTo>
                <a:cubicBezTo>
                  <a:pt x="10966" y="10071"/>
                  <a:pt x="10820" y="10187"/>
                  <a:pt x="11038" y="10294"/>
                </a:cubicBezTo>
                <a:cubicBezTo>
                  <a:pt x="11096" y="10311"/>
                  <a:pt x="11154" y="10327"/>
                  <a:pt x="11212" y="10344"/>
                </a:cubicBezTo>
                <a:cubicBezTo>
                  <a:pt x="11261" y="10368"/>
                  <a:pt x="11277" y="10376"/>
                  <a:pt x="11237" y="10418"/>
                </a:cubicBezTo>
                <a:cubicBezTo>
                  <a:pt x="10982" y="10434"/>
                  <a:pt x="11018" y="10332"/>
                  <a:pt x="11112" y="10120"/>
                </a:cubicBezTo>
                <a:cubicBezTo>
                  <a:pt x="11151" y="10043"/>
                  <a:pt x="11150" y="10028"/>
                  <a:pt x="11187" y="999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116680" y="3687840"/>
            <a:ext cx="18720" cy="241200"/>
          </a:xfrm>
          <a:custGeom>
            <a:avLst/>
            <a:gdLst/>
            <a:ahLst/>
            <a:rect l="l" t="t" r="r" b="b"/>
            <a:pathLst>
              <a:path w="51" h="671">
                <a:moveTo>
                  <a:pt x="14213" y="10294"/>
                </a:moveTo>
                <a:cubicBezTo>
                  <a:pt x="14213" y="10185"/>
                  <a:pt x="14265" y="10728"/>
                  <a:pt x="14263" y="10815"/>
                </a:cubicBezTo>
                <a:cubicBezTo>
                  <a:pt x="14255" y="10848"/>
                  <a:pt x="14246" y="10881"/>
                  <a:pt x="14238" y="1091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259240" y="3911760"/>
            <a:ext cx="9720" cy="106200"/>
          </a:xfrm>
          <a:custGeom>
            <a:avLst/>
            <a:gdLst/>
            <a:ahLst/>
            <a:rect l="l" t="t" r="r" b="b"/>
            <a:pathLst>
              <a:path w="26" h="299">
                <a:moveTo>
                  <a:pt x="14610" y="10864"/>
                </a:moveTo>
                <a:cubicBezTo>
                  <a:pt x="14610" y="10965"/>
                  <a:pt x="14628" y="11062"/>
                  <a:pt x="14635" y="1116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57880" y="3687840"/>
            <a:ext cx="357120" cy="357120"/>
          </a:xfrm>
          <a:custGeom>
            <a:avLst/>
            <a:gdLst/>
            <a:ahLst/>
            <a:rect l="l" t="t" r="r" b="b"/>
            <a:pathLst>
              <a:path w="993" h="994">
                <a:moveTo>
                  <a:pt x="14908" y="10319"/>
                </a:moveTo>
                <a:cubicBezTo>
                  <a:pt x="14846" y="10502"/>
                  <a:pt x="14935" y="10152"/>
                  <a:pt x="15081" y="10244"/>
                </a:cubicBezTo>
                <a:cubicBezTo>
                  <a:pt x="15239" y="10343"/>
                  <a:pt x="15201" y="10797"/>
                  <a:pt x="15007" y="10840"/>
                </a:cubicBezTo>
                <a:cubicBezTo>
                  <a:pt x="14982" y="10823"/>
                  <a:pt x="14957" y="10807"/>
                  <a:pt x="14932" y="10790"/>
                </a:cubicBezTo>
                <a:cubicBezTo>
                  <a:pt x="14978" y="10610"/>
                  <a:pt x="15099" y="10693"/>
                  <a:pt x="15280" y="10790"/>
                </a:cubicBezTo>
              </a:path>
              <a:path w="993" h="994">
                <a:moveTo>
                  <a:pt x="15379" y="10840"/>
                </a:moveTo>
                <a:cubicBezTo>
                  <a:pt x="15425" y="10961"/>
                  <a:pt x="15404" y="11104"/>
                  <a:pt x="15379" y="11237"/>
                </a:cubicBezTo>
              </a:path>
              <a:path w="993" h="994">
                <a:moveTo>
                  <a:pt x="15577" y="10393"/>
                </a:moveTo>
                <a:cubicBezTo>
                  <a:pt x="15654" y="10322"/>
                  <a:pt x="15892" y="10212"/>
                  <a:pt x="15801" y="10468"/>
                </a:cubicBezTo>
                <a:cubicBezTo>
                  <a:pt x="15776" y="10501"/>
                  <a:pt x="15751" y="10534"/>
                  <a:pt x="15726" y="10567"/>
                </a:cubicBezTo>
                <a:cubicBezTo>
                  <a:pt x="15710" y="10583"/>
                  <a:pt x="15693" y="10600"/>
                  <a:pt x="15677" y="10616"/>
                </a:cubicBezTo>
                <a:cubicBezTo>
                  <a:pt x="15805" y="10557"/>
                  <a:pt x="15990" y="10594"/>
                  <a:pt x="15825" y="10765"/>
                </a:cubicBezTo>
                <a:cubicBezTo>
                  <a:pt x="15784" y="10790"/>
                  <a:pt x="15742" y="10815"/>
                  <a:pt x="15701" y="1084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45120" y="3670200"/>
            <a:ext cx="142920" cy="347760"/>
          </a:xfrm>
          <a:custGeom>
            <a:avLst/>
            <a:gdLst/>
            <a:ahLst/>
            <a:rect l="l" t="t" r="r" b="b"/>
            <a:pathLst>
              <a:path w="398" h="968">
                <a:moveTo>
                  <a:pt x="16793" y="10889"/>
                </a:moveTo>
                <a:cubicBezTo>
                  <a:pt x="16821" y="10907"/>
                  <a:pt x="16818" y="11057"/>
                  <a:pt x="16818" y="11162"/>
                </a:cubicBezTo>
              </a:path>
              <a:path w="398" h="968">
                <a:moveTo>
                  <a:pt x="16966" y="10344"/>
                </a:moveTo>
                <a:cubicBezTo>
                  <a:pt x="16966" y="10443"/>
                  <a:pt x="16966" y="10459"/>
                  <a:pt x="16966" y="10517"/>
                </a:cubicBezTo>
                <a:cubicBezTo>
                  <a:pt x="17038" y="10501"/>
                  <a:pt x="17185" y="10391"/>
                  <a:pt x="17190" y="10542"/>
                </a:cubicBezTo>
                <a:cubicBezTo>
                  <a:pt x="17195" y="10689"/>
                  <a:pt x="17076" y="10740"/>
                  <a:pt x="16966" y="10716"/>
                </a:cubicBezTo>
              </a:path>
              <a:path w="398" h="968">
                <a:moveTo>
                  <a:pt x="17016" y="10294"/>
                </a:moveTo>
                <a:cubicBezTo>
                  <a:pt x="17090" y="10244"/>
                  <a:pt x="17115" y="10227"/>
                  <a:pt x="17165" y="1019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340320" y="3544920"/>
            <a:ext cx="598680" cy="455760"/>
          </a:xfrm>
          <a:custGeom>
            <a:avLst/>
            <a:gdLst/>
            <a:ahLst/>
            <a:rect l="l" t="t" r="r" b="b"/>
            <a:pathLst>
              <a:path w="1663" h="1266">
                <a:moveTo>
                  <a:pt x="19224" y="10418"/>
                </a:moveTo>
                <a:cubicBezTo>
                  <a:pt x="19246" y="10510"/>
                  <a:pt x="19252" y="10535"/>
                  <a:pt x="19273" y="10592"/>
                </a:cubicBezTo>
              </a:path>
              <a:path w="1663" h="1266">
                <a:moveTo>
                  <a:pt x="18901" y="9922"/>
                </a:moveTo>
                <a:cubicBezTo>
                  <a:pt x="18846" y="10070"/>
                  <a:pt x="18838" y="10228"/>
                  <a:pt x="18827" y="10393"/>
                </a:cubicBezTo>
              </a:path>
              <a:path w="1663" h="1266">
                <a:moveTo>
                  <a:pt x="19000" y="9872"/>
                </a:moveTo>
                <a:cubicBezTo>
                  <a:pt x="19176" y="9850"/>
                  <a:pt x="19260" y="9865"/>
                  <a:pt x="19199" y="10071"/>
                </a:cubicBezTo>
                <a:cubicBezTo>
                  <a:pt x="19156" y="10178"/>
                  <a:pt x="19157" y="10213"/>
                  <a:pt x="19075" y="10220"/>
                </a:cubicBezTo>
                <a:cubicBezTo>
                  <a:pt x="19108" y="10110"/>
                  <a:pt x="19138" y="10095"/>
                  <a:pt x="19248" y="10170"/>
                </a:cubicBezTo>
              </a:path>
              <a:path w="1663" h="1266">
                <a:moveTo>
                  <a:pt x="17636" y="10840"/>
                </a:moveTo>
                <a:cubicBezTo>
                  <a:pt x="17636" y="10937"/>
                  <a:pt x="17628" y="11017"/>
                  <a:pt x="17611" y="11112"/>
                </a:cubicBezTo>
              </a:path>
              <a:path w="1663" h="1266">
                <a:moveTo>
                  <a:pt x="17686" y="10244"/>
                </a:moveTo>
                <a:cubicBezTo>
                  <a:pt x="17715" y="10420"/>
                  <a:pt x="17724" y="10555"/>
                  <a:pt x="17810" y="10716"/>
                </a:cubicBezTo>
                <a:cubicBezTo>
                  <a:pt x="17982" y="10715"/>
                  <a:pt x="18004" y="10579"/>
                  <a:pt x="18058" y="10418"/>
                </a:cubicBezTo>
                <a:cubicBezTo>
                  <a:pt x="17918" y="10469"/>
                  <a:pt x="17947" y="10499"/>
                  <a:pt x="17909" y="10666"/>
                </a:cubicBezTo>
              </a:path>
              <a:path w="1663" h="1266">
                <a:moveTo>
                  <a:pt x="18579" y="10517"/>
                </a:moveTo>
                <a:lnTo>
                  <a:pt x="18579" y="10517"/>
                </a:lnTo>
              </a:path>
              <a:path w="1663" h="1266">
                <a:moveTo>
                  <a:pt x="18604" y="10517"/>
                </a:moveTo>
                <a:cubicBezTo>
                  <a:pt x="18670" y="10628"/>
                  <a:pt x="18695" y="10654"/>
                  <a:pt x="18678" y="10740"/>
                </a:cubicBezTo>
              </a:path>
              <a:path w="1663" h="1266">
                <a:moveTo>
                  <a:pt x="18207" y="10120"/>
                </a:moveTo>
                <a:cubicBezTo>
                  <a:pt x="18207" y="10228"/>
                  <a:pt x="18207" y="10253"/>
                  <a:pt x="18207" y="10319"/>
                </a:cubicBezTo>
              </a:path>
              <a:path w="1663" h="1266">
                <a:moveTo>
                  <a:pt x="18405" y="9872"/>
                </a:moveTo>
                <a:cubicBezTo>
                  <a:pt x="18386" y="9998"/>
                  <a:pt x="18379" y="10072"/>
                  <a:pt x="18405" y="10195"/>
                </a:cubicBezTo>
                <a:cubicBezTo>
                  <a:pt x="18508" y="10172"/>
                  <a:pt x="18613" y="10096"/>
                  <a:pt x="18529" y="9971"/>
                </a:cubicBezTo>
                <a:cubicBezTo>
                  <a:pt x="18512" y="9963"/>
                  <a:pt x="18496" y="9955"/>
                  <a:pt x="18479" y="9947"/>
                </a:cubicBezTo>
              </a:path>
              <a:path w="1663" h="1266">
                <a:moveTo>
                  <a:pt x="18182" y="10517"/>
                </a:moveTo>
                <a:cubicBezTo>
                  <a:pt x="18217" y="10587"/>
                  <a:pt x="18225" y="10627"/>
                  <a:pt x="18207" y="1069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054920" y="3500280"/>
            <a:ext cx="615960" cy="428760"/>
          </a:xfrm>
          <a:custGeom>
            <a:avLst/>
            <a:gdLst/>
            <a:ahLst/>
            <a:rect l="l" t="t" r="r" b="b"/>
            <a:pathLst>
              <a:path w="1712" h="1192">
                <a:moveTo>
                  <a:pt x="21307" y="10740"/>
                </a:moveTo>
                <a:cubicBezTo>
                  <a:pt x="21307" y="10823"/>
                  <a:pt x="21307" y="10856"/>
                  <a:pt x="21307" y="10914"/>
                </a:cubicBezTo>
              </a:path>
              <a:path w="1712" h="1192">
                <a:moveTo>
                  <a:pt x="20638" y="10120"/>
                </a:moveTo>
                <a:cubicBezTo>
                  <a:pt x="20722" y="10120"/>
                  <a:pt x="20754" y="10127"/>
                  <a:pt x="20786" y="10195"/>
                </a:cubicBezTo>
                <a:cubicBezTo>
                  <a:pt x="20707" y="10422"/>
                  <a:pt x="20659" y="10481"/>
                  <a:pt x="20414" y="10468"/>
                </a:cubicBezTo>
                <a:cubicBezTo>
                  <a:pt x="20549" y="10296"/>
                  <a:pt x="20607" y="10310"/>
                  <a:pt x="20811" y="10393"/>
                </a:cubicBezTo>
              </a:path>
              <a:path w="1712" h="1192">
                <a:moveTo>
                  <a:pt x="20960" y="9996"/>
                </a:moveTo>
                <a:cubicBezTo>
                  <a:pt x="20918" y="10221"/>
                  <a:pt x="20878" y="10224"/>
                  <a:pt x="21034" y="10368"/>
                </a:cubicBezTo>
                <a:cubicBezTo>
                  <a:pt x="21208" y="10249"/>
                  <a:pt x="21172" y="10193"/>
                  <a:pt x="21034" y="10046"/>
                </a:cubicBezTo>
              </a:path>
              <a:path w="1712" h="1192">
                <a:moveTo>
                  <a:pt x="20265" y="10641"/>
                </a:moveTo>
                <a:cubicBezTo>
                  <a:pt x="20265" y="10740"/>
                  <a:pt x="20265" y="10774"/>
                  <a:pt x="20265" y="10840"/>
                </a:cubicBezTo>
              </a:path>
              <a:path w="1712" h="1192">
                <a:moveTo>
                  <a:pt x="19695" y="10021"/>
                </a:moveTo>
                <a:cubicBezTo>
                  <a:pt x="19680" y="10164"/>
                  <a:pt x="19659" y="10317"/>
                  <a:pt x="19596" y="10443"/>
                </a:cubicBezTo>
              </a:path>
              <a:path w="1712" h="1192">
                <a:moveTo>
                  <a:pt x="19943" y="9922"/>
                </a:moveTo>
                <a:cubicBezTo>
                  <a:pt x="19935" y="9938"/>
                  <a:pt x="19926" y="9955"/>
                  <a:pt x="19918" y="9971"/>
                </a:cubicBezTo>
                <a:cubicBezTo>
                  <a:pt x="19982" y="10026"/>
                  <a:pt x="20137" y="10009"/>
                  <a:pt x="20067" y="10145"/>
                </a:cubicBezTo>
                <a:cubicBezTo>
                  <a:pt x="19997" y="10281"/>
                  <a:pt x="19947" y="10286"/>
                  <a:pt x="19844" y="10244"/>
                </a:cubicBezTo>
              </a:path>
              <a:path w="1712" h="1192">
                <a:moveTo>
                  <a:pt x="19968" y="9847"/>
                </a:moveTo>
                <a:cubicBezTo>
                  <a:pt x="20058" y="9807"/>
                  <a:pt x="20132" y="9770"/>
                  <a:pt x="20216" y="972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796160" y="3616200"/>
            <a:ext cx="268200" cy="196920"/>
          </a:xfrm>
          <a:custGeom>
            <a:avLst/>
            <a:gdLst/>
            <a:ahLst/>
            <a:rect l="l" t="t" r="r" b="b"/>
            <a:pathLst>
              <a:path w="746" h="547">
                <a:moveTo>
                  <a:pt x="21704" y="10096"/>
                </a:moveTo>
                <a:cubicBezTo>
                  <a:pt x="21776" y="10055"/>
                  <a:pt x="21932" y="10001"/>
                  <a:pt x="21927" y="10145"/>
                </a:cubicBezTo>
                <a:cubicBezTo>
                  <a:pt x="21924" y="10239"/>
                  <a:pt x="21845" y="10275"/>
                  <a:pt x="21779" y="10319"/>
                </a:cubicBezTo>
                <a:cubicBezTo>
                  <a:pt x="21917" y="10299"/>
                  <a:pt x="21927" y="10303"/>
                  <a:pt x="22027" y="10393"/>
                </a:cubicBezTo>
                <a:cubicBezTo>
                  <a:pt x="21895" y="10524"/>
                  <a:pt x="21837" y="10546"/>
                  <a:pt x="21654" y="10592"/>
                </a:cubicBezTo>
              </a:path>
              <a:path w="746" h="547">
                <a:moveTo>
                  <a:pt x="22151" y="10071"/>
                </a:moveTo>
                <a:cubicBezTo>
                  <a:pt x="22095" y="10163"/>
                  <a:pt x="21989" y="10497"/>
                  <a:pt x="22250" y="10468"/>
                </a:cubicBezTo>
                <a:cubicBezTo>
                  <a:pt x="22554" y="10435"/>
                  <a:pt x="22307" y="10118"/>
                  <a:pt x="22225" y="1004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161200" y="3571920"/>
            <a:ext cx="376200" cy="295200"/>
          </a:xfrm>
          <a:custGeom>
            <a:avLst/>
            <a:gdLst/>
            <a:ahLst/>
            <a:rect l="l" t="t" r="r" b="b"/>
            <a:pathLst>
              <a:path w="1043" h="819">
                <a:moveTo>
                  <a:pt x="23118" y="9947"/>
                </a:moveTo>
                <a:cubicBezTo>
                  <a:pt x="23086" y="9882"/>
                  <a:pt x="23001" y="10203"/>
                  <a:pt x="22994" y="10244"/>
                </a:cubicBezTo>
                <a:cubicBezTo>
                  <a:pt x="22949" y="10491"/>
                  <a:pt x="23236" y="10248"/>
                  <a:pt x="23316" y="10195"/>
                </a:cubicBezTo>
                <a:cubicBezTo>
                  <a:pt x="23210" y="10238"/>
                  <a:pt x="23136" y="10317"/>
                  <a:pt x="23068" y="10418"/>
                </a:cubicBezTo>
              </a:path>
              <a:path w="1043" h="819">
                <a:moveTo>
                  <a:pt x="23614" y="9947"/>
                </a:moveTo>
                <a:cubicBezTo>
                  <a:pt x="23479" y="10022"/>
                  <a:pt x="23455" y="10138"/>
                  <a:pt x="23465" y="10294"/>
                </a:cubicBezTo>
                <a:cubicBezTo>
                  <a:pt x="23611" y="10294"/>
                  <a:pt x="23805" y="10203"/>
                  <a:pt x="23688" y="9996"/>
                </a:cubicBezTo>
                <a:cubicBezTo>
                  <a:pt x="23655" y="9971"/>
                  <a:pt x="23622" y="9947"/>
                  <a:pt x="23589" y="9922"/>
                </a:cubicBezTo>
              </a:path>
              <a:path w="1043" h="819">
                <a:moveTo>
                  <a:pt x="22870" y="10517"/>
                </a:moveTo>
                <a:cubicBezTo>
                  <a:pt x="22702" y="10517"/>
                  <a:pt x="22718" y="10583"/>
                  <a:pt x="22671" y="1074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847960" y="4643280"/>
            <a:ext cx="501840" cy="115920"/>
          </a:xfrm>
          <a:custGeom>
            <a:avLst/>
            <a:gdLst/>
            <a:ahLst/>
            <a:rect l="l" t="t" r="r" b="b"/>
            <a:pathLst>
              <a:path w="1390" h="324">
                <a:moveTo>
                  <a:pt x="8037" y="13047"/>
                </a:moveTo>
                <a:cubicBezTo>
                  <a:pt x="7988" y="13004"/>
                  <a:pt x="7974" y="12985"/>
                  <a:pt x="7913" y="12973"/>
                </a:cubicBezTo>
                <a:cubicBezTo>
                  <a:pt x="8073" y="12973"/>
                  <a:pt x="8225" y="12968"/>
                  <a:pt x="8384" y="12948"/>
                </a:cubicBezTo>
                <a:cubicBezTo>
                  <a:pt x="8571" y="12925"/>
                  <a:pt x="8742" y="12898"/>
                  <a:pt x="8930" y="12898"/>
                </a:cubicBezTo>
                <a:cubicBezTo>
                  <a:pt x="9054" y="12898"/>
                  <a:pt x="9178" y="12898"/>
                  <a:pt x="9302" y="12898"/>
                </a:cubicBezTo>
              </a:path>
              <a:path w="1390" h="324">
                <a:moveTo>
                  <a:pt x="7962" y="13146"/>
                </a:moveTo>
                <a:cubicBezTo>
                  <a:pt x="8196" y="13146"/>
                  <a:pt x="8424" y="13144"/>
                  <a:pt x="8657" y="13122"/>
                </a:cubicBezTo>
                <a:cubicBezTo>
                  <a:pt x="8846" y="13104"/>
                  <a:pt x="9017" y="13045"/>
                  <a:pt x="9203" y="13022"/>
                </a:cubicBezTo>
              </a:path>
              <a:path w="1390" h="324">
                <a:moveTo>
                  <a:pt x="8062" y="13221"/>
                </a:moveTo>
                <a:cubicBezTo>
                  <a:pt x="8266" y="13221"/>
                  <a:pt x="8479" y="13210"/>
                  <a:pt x="8682" y="13196"/>
                </a:cubicBezTo>
                <a:cubicBezTo>
                  <a:pt x="8835" y="13185"/>
                  <a:pt x="8952" y="13171"/>
                  <a:pt x="9103" y="1317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714840" y="3894120"/>
            <a:ext cx="554040" cy="527040"/>
          </a:xfrm>
          <a:custGeom>
            <a:avLst/>
            <a:gdLst/>
            <a:ahLst/>
            <a:rect l="l" t="t" r="r" b="b"/>
            <a:pathLst>
              <a:path w="1539" h="1464">
                <a:moveTo>
                  <a:pt x="10840" y="11931"/>
                </a:moveTo>
                <a:lnTo>
                  <a:pt x="10840" y="11931"/>
                </a:lnTo>
              </a:path>
              <a:path w="1539" h="1464">
                <a:moveTo>
                  <a:pt x="11137" y="11857"/>
                </a:moveTo>
                <a:cubicBezTo>
                  <a:pt x="11167" y="11886"/>
                  <a:pt x="11179" y="11900"/>
                  <a:pt x="11187" y="11931"/>
                </a:cubicBezTo>
              </a:path>
              <a:path w="1539" h="1464">
                <a:moveTo>
                  <a:pt x="11212" y="11609"/>
                </a:moveTo>
                <a:cubicBezTo>
                  <a:pt x="11070" y="11628"/>
                  <a:pt x="11157" y="11783"/>
                  <a:pt x="11137" y="11906"/>
                </a:cubicBezTo>
                <a:cubicBezTo>
                  <a:pt x="11109" y="12083"/>
                  <a:pt x="11039" y="12229"/>
                  <a:pt x="10864" y="12278"/>
                </a:cubicBezTo>
              </a:path>
              <a:path w="1539" h="1464">
                <a:moveTo>
                  <a:pt x="11633" y="11361"/>
                </a:moveTo>
                <a:cubicBezTo>
                  <a:pt x="11577" y="11466"/>
                  <a:pt x="11556" y="11547"/>
                  <a:pt x="11534" y="11658"/>
                </a:cubicBezTo>
                <a:cubicBezTo>
                  <a:pt x="11508" y="11793"/>
                  <a:pt x="11436" y="12087"/>
                  <a:pt x="11584" y="12179"/>
                </a:cubicBezTo>
                <a:cubicBezTo>
                  <a:pt x="11691" y="12179"/>
                  <a:pt x="11731" y="12174"/>
                  <a:pt x="11782" y="12105"/>
                </a:cubicBezTo>
              </a:path>
              <a:path w="1539" h="1464">
                <a:moveTo>
                  <a:pt x="11088" y="11733"/>
                </a:moveTo>
                <a:cubicBezTo>
                  <a:pt x="11034" y="11782"/>
                  <a:pt x="10740" y="12108"/>
                  <a:pt x="10641" y="11956"/>
                </a:cubicBezTo>
                <a:cubicBezTo>
                  <a:pt x="10595" y="11817"/>
                  <a:pt x="10581" y="11777"/>
                  <a:pt x="10567" y="11683"/>
                </a:cubicBezTo>
                <a:cubicBezTo>
                  <a:pt x="10499" y="11751"/>
                  <a:pt x="10482" y="11778"/>
                  <a:pt x="10418" y="11733"/>
                </a:cubicBezTo>
                <a:cubicBezTo>
                  <a:pt x="10304" y="11503"/>
                  <a:pt x="10247" y="11255"/>
                  <a:pt x="10567" y="11162"/>
                </a:cubicBezTo>
                <a:cubicBezTo>
                  <a:pt x="10709" y="11162"/>
                  <a:pt x="10737" y="11152"/>
                  <a:pt x="10815" y="11187"/>
                </a:cubicBezTo>
                <a:cubicBezTo>
                  <a:pt x="10803" y="11069"/>
                  <a:pt x="10751" y="10941"/>
                  <a:pt x="10914" y="10889"/>
                </a:cubicBezTo>
                <a:cubicBezTo>
                  <a:pt x="10967" y="10872"/>
                  <a:pt x="11159" y="10820"/>
                  <a:pt x="11212" y="10815"/>
                </a:cubicBezTo>
                <a:cubicBezTo>
                  <a:pt x="11358" y="10800"/>
                  <a:pt x="11552" y="10867"/>
                  <a:pt x="11683" y="10939"/>
                </a:cubicBezTo>
                <a:cubicBezTo>
                  <a:pt x="11862" y="11038"/>
                  <a:pt x="11804" y="11112"/>
                  <a:pt x="11683" y="11212"/>
                </a:cubicBezTo>
                <a:cubicBezTo>
                  <a:pt x="11768" y="11297"/>
                  <a:pt x="11990" y="11499"/>
                  <a:pt x="11807" y="11633"/>
                </a:cubicBezTo>
                <a:cubicBezTo>
                  <a:pt x="11723" y="11654"/>
                  <a:pt x="11697" y="11676"/>
                  <a:pt x="11683" y="11609"/>
                </a:cubicBezTo>
                <a:cubicBezTo>
                  <a:pt x="11772" y="11764"/>
                  <a:pt x="11744" y="11786"/>
                  <a:pt x="11559" y="11832"/>
                </a:cubicBezTo>
                <a:cubicBezTo>
                  <a:pt x="11551" y="11832"/>
                  <a:pt x="11542" y="11832"/>
                  <a:pt x="11534" y="1183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830680" y="4562640"/>
            <a:ext cx="2044440" cy="179280"/>
          </a:xfrm>
          <a:custGeom>
            <a:avLst/>
            <a:gdLst/>
            <a:ahLst/>
            <a:rect l="l" t="t" r="r" b="b"/>
            <a:pathLst>
              <a:path w="5681" h="497">
                <a:moveTo>
                  <a:pt x="7962" y="13171"/>
                </a:moveTo>
                <a:cubicBezTo>
                  <a:pt x="7903" y="13141"/>
                  <a:pt x="7880" y="13123"/>
                  <a:pt x="7863" y="13072"/>
                </a:cubicBezTo>
                <a:cubicBezTo>
                  <a:pt x="7990" y="13012"/>
                  <a:pt x="8111" y="12953"/>
                  <a:pt x="8260" y="12923"/>
                </a:cubicBezTo>
                <a:cubicBezTo>
                  <a:pt x="8491" y="12876"/>
                  <a:pt x="8700" y="12938"/>
                  <a:pt x="8930" y="12923"/>
                </a:cubicBezTo>
                <a:cubicBezTo>
                  <a:pt x="9100" y="12912"/>
                  <a:pt x="9284" y="12911"/>
                  <a:pt x="9451" y="12874"/>
                </a:cubicBezTo>
                <a:cubicBezTo>
                  <a:pt x="9586" y="12844"/>
                  <a:pt x="9693" y="12782"/>
                  <a:pt x="9823" y="12750"/>
                </a:cubicBezTo>
                <a:cubicBezTo>
                  <a:pt x="9964" y="12715"/>
                  <a:pt x="10098" y="12679"/>
                  <a:pt x="10244" y="12675"/>
                </a:cubicBezTo>
                <a:cubicBezTo>
                  <a:pt x="10381" y="12672"/>
                  <a:pt x="10508" y="12671"/>
                  <a:pt x="10641" y="12700"/>
                </a:cubicBezTo>
                <a:cubicBezTo>
                  <a:pt x="10748" y="12723"/>
                  <a:pt x="10855" y="12762"/>
                  <a:pt x="10964" y="12774"/>
                </a:cubicBezTo>
                <a:cubicBezTo>
                  <a:pt x="11122" y="12792"/>
                  <a:pt x="11278" y="12753"/>
                  <a:pt x="11435" y="12750"/>
                </a:cubicBezTo>
                <a:cubicBezTo>
                  <a:pt x="11599" y="12747"/>
                  <a:pt x="11770" y="12749"/>
                  <a:pt x="11931" y="12774"/>
                </a:cubicBezTo>
                <a:cubicBezTo>
                  <a:pt x="12071" y="12796"/>
                  <a:pt x="12210" y="12821"/>
                  <a:pt x="12353" y="12824"/>
                </a:cubicBezTo>
                <a:cubicBezTo>
                  <a:pt x="12463" y="12826"/>
                  <a:pt x="12573" y="12842"/>
                  <a:pt x="12675" y="12849"/>
                </a:cubicBezTo>
                <a:cubicBezTo>
                  <a:pt x="12872" y="12863"/>
                  <a:pt x="13077" y="12819"/>
                  <a:pt x="13271" y="12799"/>
                </a:cubicBezTo>
                <a:cubicBezTo>
                  <a:pt x="13419" y="12778"/>
                  <a:pt x="13451" y="12769"/>
                  <a:pt x="13543" y="1277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84240" y="4626000"/>
            <a:ext cx="1295640" cy="1751040"/>
          </a:xfrm>
          <a:custGeom>
            <a:avLst/>
            <a:gdLst/>
            <a:ahLst/>
            <a:rect l="l" t="t" r="r" b="b"/>
            <a:pathLst>
              <a:path w="3597" h="4863">
                <a:moveTo>
                  <a:pt x="7367" y="16743"/>
                </a:moveTo>
                <a:cubicBezTo>
                  <a:pt x="7410" y="16721"/>
                  <a:pt x="7422" y="16718"/>
                  <a:pt x="7441" y="16694"/>
                </a:cubicBezTo>
                <a:cubicBezTo>
                  <a:pt x="7420" y="16847"/>
                  <a:pt x="7276" y="16938"/>
                  <a:pt x="7169" y="17041"/>
                </a:cubicBezTo>
                <a:cubicBezTo>
                  <a:pt x="7161" y="17049"/>
                  <a:pt x="7152" y="17058"/>
                  <a:pt x="7144" y="17066"/>
                </a:cubicBezTo>
                <a:cubicBezTo>
                  <a:pt x="7293" y="17075"/>
                  <a:pt x="7373" y="17096"/>
                  <a:pt x="7491" y="17190"/>
                </a:cubicBezTo>
              </a:path>
              <a:path w="3597" h="4863">
                <a:moveTo>
                  <a:pt x="7466" y="16272"/>
                </a:moveTo>
                <a:cubicBezTo>
                  <a:pt x="7494" y="16215"/>
                  <a:pt x="7510" y="16196"/>
                  <a:pt x="7565" y="16197"/>
                </a:cubicBezTo>
                <a:cubicBezTo>
                  <a:pt x="7676" y="16319"/>
                  <a:pt x="7713" y="16475"/>
                  <a:pt x="7516" y="16570"/>
                </a:cubicBezTo>
                <a:cubicBezTo>
                  <a:pt x="7491" y="16570"/>
                  <a:pt x="7466" y="16570"/>
                  <a:pt x="7441" y="16570"/>
                </a:cubicBezTo>
                <a:cubicBezTo>
                  <a:pt x="7471" y="16449"/>
                  <a:pt x="7525" y="16438"/>
                  <a:pt x="7615" y="16545"/>
                </a:cubicBezTo>
                <a:cubicBezTo>
                  <a:pt x="7623" y="16561"/>
                  <a:pt x="7632" y="16578"/>
                  <a:pt x="7640" y="16594"/>
                </a:cubicBezTo>
              </a:path>
              <a:path w="3597" h="4863">
                <a:moveTo>
                  <a:pt x="7169" y="16545"/>
                </a:moveTo>
                <a:cubicBezTo>
                  <a:pt x="7201" y="16629"/>
                  <a:pt x="7335" y="16766"/>
                  <a:pt x="7441" y="16793"/>
                </a:cubicBezTo>
                <a:cubicBezTo>
                  <a:pt x="7700" y="16858"/>
                  <a:pt x="7934" y="16624"/>
                  <a:pt x="7987" y="16396"/>
                </a:cubicBezTo>
                <a:cubicBezTo>
                  <a:pt x="8071" y="16038"/>
                  <a:pt x="7626" y="15931"/>
                  <a:pt x="7367" y="15925"/>
                </a:cubicBezTo>
                <a:cubicBezTo>
                  <a:pt x="6892" y="15913"/>
                  <a:pt x="6961" y="16224"/>
                  <a:pt x="7020" y="16570"/>
                </a:cubicBezTo>
              </a:path>
              <a:path w="3597" h="4863">
                <a:moveTo>
                  <a:pt x="7789" y="17140"/>
                </a:moveTo>
                <a:cubicBezTo>
                  <a:pt x="7922" y="17095"/>
                  <a:pt x="7958" y="17224"/>
                  <a:pt x="7888" y="17338"/>
                </a:cubicBezTo>
                <a:cubicBezTo>
                  <a:pt x="7813" y="17460"/>
                  <a:pt x="7734" y="17447"/>
                  <a:pt x="7640" y="17413"/>
                </a:cubicBezTo>
                <a:cubicBezTo>
                  <a:pt x="7736" y="17316"/>
                  <a:pt x="7805" y="17379"/>
                  <a:pt x="7888" y="17462"/>
                </a:cubicBezTo>
              </a:path>
              <a:path w="3597" h="4863">
                <a:moveTo>
                  <a:pt x="7590" y="17661"/>
                </a:moveTo>
                <a:cubicBezTo>
                  <a:pt x="7799" y="17669"/>
                  <a:pt x="8060" y="17654"/>
                  <a:pt x="8186" y="17438"/>
                </a:cubicBezTo>
                <a:cubicBezTo>
                  <a:pt x="8265" y="17303"/>
                  <a:pt x="8196" y="17088"/>
                  <a:pt x="8062" y="17016"/>
                </a:cubicBezTo>
                <a:cubicBezTo>
                  <a:pt x="8021" y="17008"/>
                  <a:pt x="7979" y="16999"/>
                  <a:pt x="7938" y="16991"/>
                </a:cubicBezTo>
              </a:path>
              <a:path w="3597" h="4863">
                <a:moveTo>
                  <a:pt x="7838" y="17066"/>
                </a:moveTo>
                <a:cubicBezTo>
                  <a:pt x="7722" y="17066"/>
                  <a:pt x="7557" y="17030"/>
                  <a:pt x="7466" y="17115"/>
                </a:cubicBezTo>
                <a:cubicBezTo>
                  <a:pt x="7317" y="17254"/>
                  <a:pt x="7273" y="17554"/>
                  <a:pt x="7466" y="17686"/>
                </a:cubicBezTo>
                <a:cubicBezTo>
                  <a:pt x="7581" y="17709"/>
                  <a:pt x="7613" y="17718"/>
                  <a:pt x="7689" y="17711"/>
                </a:cubicBezTo>
              </a:path>
              <a:path w="3597" h="4863">
                <a:moveTo>
                  <a:pt x="6747" y="14139"/>
                </a:moveTo>
                <a:cubicBezTo>
                  <a:pt x="6697" y="14213"/>
                  <a:pt x="6680" y="14238"/>
                  <a:pt x="6648" y="14288"/>
                </a:cubicBezTo>
                <a:cubicBezTo>
                  <a:pt x="6727" y="14157"/>
                  <a:pt x="7101" y="13928"/>
                  <a:pt x="7020" y="14312"/>
                </a:cubicBezTo>
                <a:cubicBezTo>
                  <a:pt x="6907" y="14844"/>
                  <a:pt x="6525" y="15096"/>
                  <a:pt x="6052" y="15180"/>
                </a:cubicBezTo>
                <a:cubicBezTo>
                  <a:pt x="5992" y="14985"/>
                  <a:pt x="5905" y="14633"/>
                  <a:pt x="6251" y="14734"/>
                </a:cubicBezTo>
                <a:cubicBezTo>
                  <a:pt x="6486" y="14802"/>
                  <a:pt x="6911" y="15020"/>
                  <a:pt x="6945" y="15304"/>
                </a:cubicBezTo>
                <a:cubicBezTo>
                  <a:pt x="6951" y="15351"/>
                  <a:pt x="6874" y="15401"/>
                  <a:pt x="6846" y="15429"/>
                </a:cubicBezTo>
              </a:path>
              <a:path w="3597" h="4863">
                <a:moveTo>
                  <a:pt x="7367" y="13667"/>
                </a:moveTo>
                <a:cubicBezTo>
                  <a:pt x="7450" y="13667"/>
                  <a:pt x="7483" y="13667"/>
                  <a:pt x="7541" y="13667"/>
                </a:cubicBezTo>
                <a:cubicBezTo>
                  <a:pt x="7509" y="13868"/>
                  <a:pt x="7479" y="14071"/>
                  <a:pt x="7417" y="14263"/>
                </a:cubicBezTo>
              </a:path>
              <a:path w="3597" h="4863">
                <a:moveTo>
                  <a:pt x="7367" y="13692"/>
                </a:moveTo>
                <a:cubicBezTo>
                  <a:pt x="7274" y="13677"/>
                  <a:pt x="7212" y="13667"/>
                  <a:pt x="7119" y="13667"/>
                </a:cubicBezTo>
              </a:path>
              <a:path w="3597" h="4863">
                <a:moveTo>
                  <a:pt x="5457" y="15751"/>
                </a:moveTo>
                <a:cubicBezTo>
                  <a:pt x="5684" y="15808"/>
                  <a:pt x="5931" y="15841"/>
                  <a:pt x="6176" y="15850"/>
                </a:cubicBezTo>
                <a:cubicBezTo>
                  <a:pt x="6490" y="15861"/>
                  <a:pt x="6884" y="15869"/>
                  <a:pt x="7193" y="15801"/>
                </a:cubicBezTo>
                <a:cubicBezTo>
                  <a:pt x="7471" y="15740"/>
                  <a:pt x="7807" y="15595"/>
                  <a:pt x="8037" y="15429"/>
                </a:cubicBezTo>
                <a:cubicBezTo>
                  <a:pt x="8265" y="15265"/>
                  <a:pt x="8429" y="14992"/>
                  <a:pt x="8582" y="14759"/>
                </a:cubicBezTo>
                <a:cubicBezTo>
                  <a:pt x="8758" y="14490"/>
                  <a:pt x="8821" y="14233"/>
                  <a:pt x="8830" y="13915"/>
                </a:cubicBezTo>
                <a:cubicBezTo>
                  <a:pt x="8837" y="13655"/>
                  <a:pt x="8821" y="13418"/>
                  <a:pt x="8632" y="13221"/>
                </a:cubicBezTo>
                <a:cubicBezTo>
                  <a:pt x="8248" y="12820"/>
                  <a:pt x="7695" y="12859"/>
                  <a:pt x="7193" y="12874"/>
                </a:cubicBezTo>
                <a:cubicBezTo>
                  <a:pt x="6862" y="12884"/>
                  <a:pt x="6518" y="12881"/>
                  <a:pt x="6201" y="12998"/>
                </a:cubicBezTo>
                <a:cubicBezTo>
                  <a:pt x="5779" y="13154"/>
                  <a:pt x="5611" y="13477"/>
                  <a:pt x="5457" y="13866"/>
                </a:cubicBezTo>
                <a:cubicBezTo>
                  <a:pt x="5340" y="14162"/>
                  <a:pt x="5243" y="14416"/>
                  <a:pt x="5234" y="14734"/>
                </a:cubicBezTo>
                <a:cubicBezTo>
                  <a:pt x="5227" y="14980"/>
                  <a:pt x="5249" y="15223"/>
                  <a:pt x="5333" y="15453"/>
                </a:cubicBezTo>
                <a:cubicBezTo>
                  <a:pt x="5399" y="15636"/>
                  <a:pt x="5462" y="15666"/>
                  <a:pt x="5606" y="1577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751200" y="4633920"/>
            <a:ext cx="2749680" cy="1866960"/>
          </a:xfrm>
          <a:custGeom>
            <a:avLst/>
            <a:gdLst/>
            <a:ahLst/>
            <a:rect l="l" t="t" r="r" b="b"/>
            <a:pathLst>
              <a:path w="7641" h="5185">
                <a:moveTo>
                  <a:pt x="12824" y="15131"/>
                </a:moveTo>
                <a:cubicBezTo>
                  <a:pt x="12844" y="15272"/>
                  <a:pt x="12644" y="15448"/>
                  <a:pt x="12551" y="15577"/>
                </a:cubicBezTo>
                <a:cubicBezTo>
                  <a:pt x="12686" y="15413"/>
                  <a:pt x="12810" y="15241"/>
                  <a:pt x="12948" y="15081"/>
                </a:cubicBezTo>
                <a:cubicBezTo>
                  <a:pt x="13012" y="15240"/>
                  <a:pt x="13067" y="15402"/>
                  <a:pt x="13146" y="15553"/>
                </a:cubicBezTo>
              </a:path>
              <a:path w="7641" h="5185">
                <a:moveTo>
                  <a:pt x="11559" y="15776"/>
                </a:moveTo>
                <a:cubicBezTo>
                  <a:pt x="11624" y="15719"/>
                  <a:pt x="11823" y="15560"/>
                  <a:pt x="11807" y="15776"/>
                </a:cubicBezTo>
                <a:cubicBezTo>
                  <a:pt x="11755" y="15931"/>
                  <a:pt x="11734" y="15985"/>
                  <a:pt x="11633" y="16049"/>
                </a:cubicBezTo>
                <a:cubicBezTo>
                  <a:pt x="11625" y="16057"/>
                  <a:pt x="11617" y="16065"/>
                  <a:pt x="11609" y="16073"/>
                </a:cubicBezTo>
                <a:cubicBezTo>
                  <a:pt x="11702" y="16027"/>
                  <a:pt x="11900" y="16000"/>
                  <a:pt x="11757" y="16173"/>
                </a:cubicBezTo>
                <a:cubicBezTo>
                  <a:pt x="11645" y="16308"/>
                  <a:pt x="11592" y="16263"/>
                  <a:pt x="11485" y="16197"/>
                </a:cubicBezTo>
              </a:path>
              <a:path w="7641" h="5185">
                <a:moveTo>
                  <a:pt x="12080" y="15850"/>
                </a:moveTo>
                <a:cubicBezTo>
                  <a:pt x="12061" y="15983"/>
                  <a:pt x="12279" y="15973"/>
                  <a:pt x="12402" y="15999"/>
                </a:cubicBezTo>
                <a:cubicBezTo>
                  <a:pt x="12354" y="16166"/>
                  <a:pt x="12345" y="16129"/>
                  <a:pt x="12154" y="16173"/>
                </a:cubicBezTo>
              </a:path>
              <a:path w="7641" h="5185">
                <a:moveTo>
                  <a:pt x="11981" y="15801"/>
                </a:moveTo>
                <a:cubicBezTo>
                  <a:pt x="12112" y="15748"/>
                  <a:pt x="12161" y="15729"/>
                  <a:pt x="12254" y="15701"/>
                </a:cubicBezTo>
              </a:path>
              <a:path w="7641" h="5185">
                <a:moveTo>
                  <a:pt x="13419" y="15776"/>
                </a:moveTo>
                <a:cubicBezTo>
                  <a:pt x="13504" y="15748"/>
                  <a:pt x="13539" y="15735"/>
                  <a:pt x="13593" y="15701"/>
                </a:cubicBezTo>
                <a:cubicBezTo>
                  <a:pt x="13650" y="15807"/>
                  <a:pt x="13712" y="16024"/>
                  <a:pt x="13494" y="16024"/>
                </a:cubicBezTo>
                <a:cubicBezTo>
                  <a:pt x="13461" y="16007"/>
                  <a:pt x="13428" y="15991"/>
                  <a:pt x="13395" y="15974"/>
                </a:cubicBezTo>
              </a:path>
              <a:path w="7641" h="5185">
                <a:moveTo>
                  <a:pt x="13494" y="15627"/>
                </a:moveTo>
                <a:cubicBezTo>
                  <a:pt x="13580" y="15556"/>
                  <a:pt x="13637" y="15525"/>
                  <a:pt x="13742" y="15503"/>
                </a:cubicBezTo>
              </a:path>
              <a:path w="7641" h="5185">
                <a:moveTo>
                  <a:pt x="13221" y="16197"/>
                </a:moveTo>
                <a:cubicBezTo>
                  <a:pt x="13398" y="16376"/>
                  <a:pt x="13535" y="16423"/>
                  <a:pt x="13791" y="16321"/>
                </a:cubicBezTo>
                <a:cubicBezTo>
                  <a:pt x="14044" y="16220"/>
                  <a:pt x="14257" y="16026"/>
                  <a:pt x="14312" y="15751"/>
                </a:cubicBezTo>
                <a:cubicBezTo>
                  <a:pt x="14360" y="15511"/>
                  <a:pt x="14191" y="15256"/>
                  <a:pt x="13965" y="15180"/>
                </a:cubicBezTo>
                <a:cubicBezTo>
                  <a:pt x="13652" y="15074"/>
                  <a:pt x="13372" y="15259"/>
                  <a:pt x="13171" y="15478"/>
                </a:cubicBezTo>
                <a:cubicBezTo>
                  <a:pt x="12979" y="15688"/>
                  <a:pt x="12885" y="15955"/>
                  <a:pt x="13097" y="16197"/>
                </a:cubicBezTo>
                <a:cubicBezTo>
                  <a:pt x="13238" y="16291"/>
                  <a:pt x="13277" y="16325"/>
                  <a:pt x="13395" y="16297"/>
                </a:cubicBezTo>
              </a:path>
              <a:path w="7641" h="5185">
                <a:moveTo>
                  <a:pt x="11832" y="16470"/>
                </a:moveTo>
                <a:cubicBezTo>
                  <a:pt x="11773" y="16482"/>
                  <a:pt x="11625" y="16757"/>
                  <a:pt x="11534" y="16917"/>
                </a:cubicBezTo>
                <a:cubicBezTo>
                  <a:pt x="11628" y="16730"/>
                  <a:pt x="11707" y="16589"/>
                  <a:pt x="11857" y="16446"/>
                </a:cubicBezTo>
                <a:cubicBezTo>
                  <a:pt x="11925" y="16381"/>
                  <a:pt x="11978" y="16436"/>
                  <a:pt x="12030" y="16495"/>
                </a:cubicBezTo>
                <a:cubicBezTo>
                  <a:pt x="12090" y="16563"/>
                  <a:pt x="12297" y="16715"/>
                  <a:pt x="12328" y="16793"/>
                </a:cubicBezTo>
                <a:cubicBezTo>
                  <a:pt x="12328" y="16809"/>
                  <a:pt x="12328" y="16826"/>
                  <a:pt x="12328" y="16842"/>
                </a:cubicBezTo>
              </a:path>
              <a:path w="7641" h="5185">
                <a:moveTo>
                  <a:pt x="10964" y="17214"/>
                </a:moveTo>
                <a:cubicBezTo>
                  <a:pt x="11075" y="17242"/>
                  <a:pt x="11129" y="17256"/>
                  <a:pt x="11237" y="17239"/>
                </a:cubicBezTo>
                <a:cubicBezTo>
                  <a:pt x="11252" y="17419"/>
                  <a:pt x="11225" y="17580"/>
                  <a:pt x="11212" y="17760"/>
                </a:cubicBezTo>
              </a:path>
              <a:path w="7641" h="5185">
                <a:moveTo>
                  <a:pt x="12526" y="16942"/>
                </a:moveTo>
                <a:cubicBezTo>
                  <a:pt x="12479" y="17013"/>
                  <a:pt x="12464" y="17034"/>
                  <a:pt x="12452" y="17090"/>
                </a:cubicBezTo>
                <a:cubicBezTo>
                  <a:pt x="12589" y="17111"/>
                  <a:pt x="12776" y="17186"/>
                  <a:pt x="12551" y="17338"/>
                </a:cubicBezTo>
                <a:cubicBezTo>
                  <a:pt x="12446" y="17359"/>
                  <a:pt x="12418" y="17381"/>
                  <a:pt x="12378" y="17314"/>
                </a:cubicBezTo>
                <a:cubicBezTo>
                  <a:pt x="12395" y="17179"/>
                  <a:pt x="12462" y="17099"/>
                  <a:pt x="12402" y="16991"/>
                </a:cubicBezTo>
              </a:path>
              <a:path w="7641" h="5185">
                <a:moveTo>
                  <a:pt x="12502" y="16966"/>
                </a:moveTo>
                <a:cubicBezTo>
                  <a:pt x="12623" y="16958"/>
                  <a:pt x="12662" y="16945"/>
                  <a:pt x="12774" y="16892"/>
                </a:cubicBezTo>
              </a:path>
              <a:path w="7641" h="5185">
                <a:moveTo>
                  <a:pt x="12576" y="16718"/>
                </a:moveTo>
                <a:cubicBezTo>
                  <a:pt x="12275" y="16843"/>
                  <a:pt x="12003" y="16946"/>
                  <a:pt x="12055" y="17338"/>
                </a:cubicBezTo>
                <a:cubicBezTo>
                  <a:pt x="12128" y="17533"/>
                  <a:pt x="12149" y="17598"/>
                  <a:pt x="12303" y="17636"/>
                </a:cubicBezTo>
              </a:path>
              <a:path w="7641" h="5185">
                <a:moveTo>
                  <a:pt x="12998" y="16644"/>
                </a:moveTo>
                <a:cubicBezTo>
                  <a:pt x="12852" y="16595"/>
                  <a:pt x="12805" y="16578"/>
                  <a:pt x="12700" y="16594"/>
                </a:cubicBezTo>
              </a:path>
              <a:path w="7641" h="5185">
                <a:moveTo>
                  <a:pt x="12849" y="16818"/>
                </a:moveTo>
                <a:cubicBezTo>
                  <a:pt x="13012" y="16981"/>
                  <a:pt x="13189" y="17172"/>
                  <a:pt x="13022" y="17413"/>
                </a:cubicBezTo>
                <a:cubicBezTo>
                  <a:pt x="12863" y="17546"/>
                  <a:pt x="12800" y="17592"/>
                  <a:pt x="12650" y="17611"/>
                </a:cubicBezTo>
              </a:path>
              <a:path w="7641" h="5185">
                <a:moveTo>
                  <a:pt x="10691" y="16942"/>
                </a:moveTo>
                <a:cubicBezTo>
                  <a:pt x="10483" y="17208"/>
                  <a:pt x="10336" y="17501"/>
                  <a:pt x="10468" y="17859"/>
                </a:cubicBezTo>
                <a:cubicBezTo>
                  <a:pt x="10638" y="18321"/>
                  <a:pt x="11177" y="17894"/>
                  <a:pt x="11410" y="17760"/>
                </a:cubicBezTo>
              </a:path>
              <a:path w="7641" h="5185">
                <a:moveTo>
                  <a:pt x="10939" y="16892"/>
                </a:moveTo>
                <a:cubicBezTo>
                  <a:pt x="11223" y="16994"/>
                  <a:pt x="11594" y="17114"/>
                  <a:pt x="11708" y="17438"/>
                </a:cubicBezTo>
                <a:cubicBezTo>
                  <a:pt x="11708" y="17660"/>
                  <a:pt x="11708" y="17734"/>
                  <a:pt x="11609" y="17859"/>
                </a:cubicBezTo>
              </a:path>
              <a:path w="7641" h="5185">
                <a:moveTo>
                  <a:pt x="15602" y="13915"/>
                </a:moveTo>
                <a:cubicBezTo>
                  <a:pt x="15510" y="13915"/>
                  <a:pt x="15437" y="13881"/>
                  <a:pt x="15404" y="13990"/>
                </a:cubicBezTo>
                <a:cubicBezTo>
                  <a:pt x="15380" y="14130"/>
                  <a:pt x="15372" y="14171"/>
                  <a:pt x="15379" y="14263"/>
                </a:cubicBezTo>
                <a:cubicBezTo>
                  <a:pt x="15468" y="14206"/>
                  <a:pt x="15742" y="14097"/>
                  <a:pt x="15751" y="14312"/>
                </a:cubicBezTo>
                <a:cubicBezTo>
                  <a:pt x="15760" y="14525"/>
                  <a:pt x="15429" y="14725"/>
                  <a:pt x="15255" y="14585"/>
                </a:cubicBezTo>
                <a:cubicBezTo>
                  <a:pt x="15230" y="14544"/>
                  <a:pt x="15205" y="14502"/>
                  <a:pt x="15180" y="14461"/>
                </a:cubicBezTo>
              </a:path>
              <a:path w="7641" h="5185">
                <a:moveTo>
                  <a:pt x="15925" y="13444"/>
                </a:moveTo>
                <a:cubicBezTo>
                  <a:pt x="16036" y="13407"/>
                  <a:pt x="16140" y="13289"/>
                  <a:pt x="16222" y="13469"/>
                </a:cubicBezTo>
                <a:cubicBezTo>
                  <a:pt x="16273" y="13582"/>
                  <a:pt x="16142" y="14027"/>
                  <a:pt x="15999" y="13841"/>
                </a:cubicBezTo>
                <a:cubicBezTo>
                  <a:pt x="15836" y="13629"/>
                  <a:pt x="16196" y="13815"/>
                  <a:pt x="16247" y="13866"/>
                </a:cubicBezTo>
              </a:path>
              <a:path w="7641" h="5185">
                <a:moveTo>
                  <a:pt x="16446" y="13990"/>
                </a:moveTo>
                <a:cubicBezTo>
                  <a:pt x="16557" y="14079"/>
                  <a:pt x="16654" y="14156"/>
                  <a:pt x="16743" y="14263"/>
                </a:cubicBezTo>
              </a:path>
              <a:path w="7641" h="5185">
                <a:moveTo>
                  <a:pt x="16669" y="13891"/>
                </a:moveTo>
                <a:cubicBezTo>
                  <a:pt x="16542" y="14038"/>
                  <a:pt x="16489" y="14218"/>
                  <a:pt x="16421" y="14412"/>
                </a:cubicBezTo>
              </a:path>
              <a:path w="7641" h="5185">
                <a:moveTo>
                  <a:pt x="16942" y="13841"/>
                </a:moveTo>
                <a:cubicBezTo>
                  <a:pt x="17080" y="13841"/>
                  <a:pt x="17272" y="13773"/>
                  <a:pt x="17289" y="13965"/>
                </a:cubicBezTo>
                <a:cubicBezTo>
                  <a:pt x="17301" y="14098"/>
                  <a:pt x="17228" y="14254"/>
                  <a:pt x="17214" y="14387"/>
                </a:cubicBezTo>
              </a:path>
              <a:path w="7641" h="5185">
                <a:moveTo>
                  <a:pt x="15081" y="15131"/>
                </a:moveTo>
                <a:cubicBezTo>
                  <a:pt x="15615" y="15068"/>
                  <a:pt x="16139" y="15027"/>
                  <a:pt x="16669" y="14932"/>
                </a:cubicBezTo>
                <a:cubicBezTo>
                  <a:pt x="17026" y="14868"/>
                  <a:pt x="17375" y="14824"/>
                  <a:pt x="17661" y="14585"/>
                </a:cubicBezTo>
                <a:cubicBezTo>
                  <a:pt x="17903" y="14383"/>
                  <a:pt x="18129" y="14154"/>
                  <a:pt x="18033" y="13816"/>
                </a:cubicBezTo>
                <a:cubicBezTo>
                  <a:pt x="17927" y="13441"/>
                  <a:pt x="17525" y="13252"/>
                  <a:pt x="17214" y="13097"/>
                </a:cubicBezTo>
                <a:cubicBezTo>
                  <a:pt x="16932" y="12956"/>
                  <a:pt x="16619" y="12843"/>
                  <a:pt x="16297" y="12874"/>
                </a:cubicBezTo>
                <a:cubicBezTo>
                  <a:pt x="16017" y="12901"/>
                  <a:pt x="15747" y="12995"/>
                  <a:pt x="15478" y="13072"/>
                </a:cubicBezTo>
                <a:cubicBezTo>
                  <a:pt x="15217" y="13146"/>
                  <a:pt x="14976" y="13221"/>
                  <a:pt x="14759" y="13395"/>
                </a:cubicBezTo>
                <a:cubicBezTo>
                  <a:pt x="14568" y="13548"/>
                  <a:pt x="14401" y="13737"/>
                  <a:pt x="14312" y="13965"/>
                </a:cubicBezTo>
                <a:cubicBezTo>
                  <a:pt x="14214" y="14215"/>
                  <a:pt x="14235" y="14475"/>
                  <a:pt x="14288" y="14734"/>
                </a:cubicBezTo>
                <a:cubicBezTo>
                  <a:pt x="14333" y="14955"/>
                  <a:pt x="14412" y="15162"/>
                  <a:pt x="14660" y="15205"/>
                </a:cubicBezTo>
                <a:cubicBezTo>
                  <a:pt x="14832" y="15235"/>
                  <a:pt x="15034" y="15178"/>
                  <a:pt x="15205" y="1515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95240" y="847800"/>
            <a:ext cx="357120" cy="250920"/>
          </a:xfrm>
          <a:custGeom>
            <a:avLst/>
            <a:gdLst/>
            <a:ahLst/>
            <a:rect l="l" t="t" r="r" b="b"/>
            <a:pathLst>
              <a:path w="993" h="696">
                <a:moveTo>
                  <a:pt x="2208" y="2555"/>
                </a:moveTo>
                <a:cubicBezTo>
                  <a:pt x="2215" y="2670"/>
                  <a:pt x="2207" y="2703"/>
                  <a:pt x="2282" y="2778"/>
                </a:cubicBezTo>
                <a:cubicBezTo>
                  <a:pt x="2366" y="2722"/>
                  <a:pt x="2398" y="2696"/>
                  <a:pt x="2431" y="2629"/>
                </a:cubicBezTo>
              </a:path>
              <a:path w="993" h="696">
                <a:moveTo>
                  <a:pt x="2406" y="2356"/>
                </a:moveTo>
                <a:cubicBezTo>
                  <a:pt x="2406" y="2583"/>
                  <a:pt x="2440" y="2781"/>
                  <a:pt x="2480" y="3001"/>
                </a:cubicBezTo>
                <a:cubicBezTo>
                  <a:pt x="2480" y="3018"/>
                  <a:pt x="2480" y="3034"/>
                  <a:pt x="2480" y="3051"/>
                </a:cubicBezTo>
              </a:path>
              <a:path w="993" h="696">
                <a:moveTo>
                  <a:pt x="2654" y="2431"/>
                </a:moveTo>
                <a:cubicBezTo>
                  <a:pt x="2691" y="2515"/>
                  <a:pt x="2720" y="2594"/>
                  <a:pt x="2753" y="2679"/>
                </a:cubicBezTo>
              </a:path>
              <a:path w="993" h="696">
                <a:moveTo>
                  <a:pt x="2629" y="2604"/>
                </a:moveTo>
                <a:cubicBezTo>
                  <a:pt x="2709" y="2545"/>
                  <a:pt x="2717" y="2520"/>
                  <a:pt x="2778" y="2530"/>
                </a:cubicBezTo>
              </a:path>
              <a:path w="993" h="696">
                <a:moveTo>
                  <a:pt x="3076" y="2431"/>
                </a:moveTo>
                <a:cubicBezTo>
                  <a:pt x="2993" y="2514"/>
                  <a:pt x="2977" y="2530"/>
                  <a:pt x="2927" y="2580"/>
                </a:cubicBezTo>
                <a:cubicBezTo>
                  <a:pt x="3002" y="2643"/>
                  <a:pt x="3200" y="2735"/>
                  <a:pt x="3200" y="2853"/>
                </a:cubicBezTo>
                <a:cubicBezTo>
                  <a:pt x="3158" y="2935"/>
                  <a:pt x="3150" y="2952"/>
                  <a:pt x="3125" y="3001"/>
                </a:cubicBezTo>
                <a:cubicBezTo>
                  <a:pt x="3068" y="2853"/>
                  <a:pt x="3001" y="2664"/>
                  <a:pt x="3076" y="2505"/>
                </a:cubicBezTo>
                <a:cubicBezTo>
                  <a:pt x="3084" y="2497"/>
                  <a:pt x="3093" y="2488"/>
                  <a:pt x="3101" y="248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241280" y="892080"/>
            <a:ext cx="61920" cy="100080"/>
          </a:xfrm>
          <a:custGeom>
            <a:avLst/>
            <a:gdLst/>
            <a:ahLst/>
            <a:rect l="l" t="t" r="r" b="b"/>
            <a:pathLst>
              <a:path w="174" h="274">
                <a:moveTo>
                  <a:pt x="3448" y="2530"/>
                </a:moveTo>
                <a:cubicBezTo>
                  <a:pt x="3473" y="2513"/>
                  <a:pt x="3497" y="2497"/>
                  <a:pt x="3522" y="2480"/>
                </a:cubicBezTo>
              </a:path>
              <a:path w="174" h="274">
                <a:moveTo>
                  <a:pt x="3547" y="2753"/>
                </a:moveTo>
                <a:cubicBezTo>
                  <a:pt x="3572" y="2728"/>
                  <a:pt x="3596" y="2704"/>
                  <a:pt x="3621" y="267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419120" y="795240"/>
            <a:ext cx="358920" cy="177840"/>
          </a:xfrm>
          <a:custGeom>
            <a:avLst/>
            <a:gdLst/>
            <a:ahLst/>
            <a:rect l="l" t="t" r="r" b="b"/>
            <a:pathLst>
              <a:path w="993" h="497">
                <a:moveTo>
                  <a:pt x="3944" y="2282"/>
                </a:moveTo>
                <a:cubicBezTo>
                  <a:pt x="3963" y="2417"/>
                  <a:pt x="4045" y="2566"/>
                  <a:pt x="4093" y="2704"/>
                </a:cubicBezTo>
              </a:path>
              <a:path w="993" h="497">
                <a:moveTo>
                  <a:pt x="4167" y="2307"/>
                </a:moveTo>
                <a:cubicBezTo>
                  <a:pt x="4314" y="2220"/>
                  <a:pt x="4475" y="2126"/>
                  <a:pt x="4465" y="2381"/>
                </a:cubicBezTo>
                <a:cubicBezTo>
                  <a:pt x="4446" y="2515"/>
                  <a:pt x="4456" y="2537"/>
                  <a:pt x="4415" y="2604"/>
                </a:cubicBezTo>
                <a:cubicBezTo>
                  <a:pt x="4520" y="2585"/>
                  <a:pt x="4612" y="2545"/>
                  <a:pt x="4713" y="2505"/>
                </a:cubicBezTo>
              </a:path>
              <a:path w="993" h="497">
                <a:moveTo>
                  <a:pt x="4217" y="2555"/>
                </a:moveTo>
                <a:cubicBezTo>
                  <a:pt x="4217" y="2486"/>
                  <a:pt x="4270" y="2583"/>
                  <a:pt x="4291" y="2604"/>
                </a:cubicBezTo>
              </a:path>
              <a:path w="993" h="497">
                <a:moveTo>
                  <a:pt x="4217" y="2604"/>
                </a:moveTo>
                <a:cubicBezTo>
                  <a:pt x="4233" y="2596"/>
                  <a:pt x="4250" y="2588"/>
                  <a:pt x="4266" y="2580"/>
                </a:cubicBezTo>
              </a:path>
              <a:path w="993" h="497">
                <a:moveTo>
                  <a:pt x="4812" y="2332"/>
                </a:moveTo>
                <a:cubicBezTo>
                  <a:pt x="4829" y="2332"/>
                  <a:pt x="4845" y="2332"/>
                  <a:pt x="4862" y="2332"/>
                </a:cubicBezTo>
              </a:path>
              <a:path w="993" h="497">
                <a:moveTo>
                  <a:pt x="4837" y="2480"/>
                </a:moveTo>
                <a:cubicBezTo>
                  <a:pt x="4891" y="2454"/>
                  <a:pt x="4911" y="2442"/>
                  <a:pt x="4936" y="240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68240" y="1312920"/>
            <a:ext cx="446040" cy="517320"/>
          </a:xfrm>
          <a:custGeom>
            <a:avLst/>
            <a:gdLst/>
            <a:ahLst/>
            <a:rect l="l" t="t" r="r" b="b"/>
            <a:pathLst>
              <a:path w="1241" h="1440">
                <a:moveTo>
                  <a:pt x="2183" y="4266"/>
                </a:moveTo>
                <a:cubicBezTo>
                  <a:pt x="2267" y="4211"/>
                  <a:pt x="2303" y="4194"/>
                  <a:pt x="2381" y="4217"/>
                </a:cubicBezTo>
                <a:cubicBezTo>
                  <a:pt x="2521" y="4509"/>
                  <a:pt x="2440" y="4605"/>
                  <a:pt x="2208" y="4837"/>
                </a:cubicBezTo>
                <a:cubicBezTo>
                  <a:pt x="2147" y="4729"/>
                  <a:pt x="2053" y="4465"/>
                  <a:pt x="2307" y="4490"/>
                </a:cubicBezTo>
                <a:cubicBezTo>
                  <a:pt x="2479" y="4507"/>
                  <a:pt x="2517" y="4661"/>
                  <a:pt x="2580" y="4787"/>
                </a:cubicBezTo>
              </a:path>
              <a:path w="1241" h="1440">
                <a:moveTo>
                  <a:pt x="2853" y="3746"/>
                </a:moveTo>
                <a:cubicBezTo>
                  <a:pt x="2934" y="3685"/>
                  <a:pt x="2946" y="3670"/>
                  <a:pt x="3001" y="3646"/>
                </a:cubicBezTo>
              </a:path>
              <a:path w="1241" h="1440">
                <a:moveTo>
                  <a:pt x="2853" y="4713"/>
                </a:moveTo>
                <a:cubicBezTo>
                  <a:pt x="2875" y="4838"/>
                  <a:pt x="2894" y="4959"/>
                  <a:pt x="2902" y="5085"/>
                </a:cubicBezTo>
              </a:path>
              <a:path w="1241" h="1440">
                <a:moveTo>
                  <a:pt x="3051" y="4291"/>
                </a:moveTo>
                <a:cubicBezTo>
                  <a:pt x="3080" y="4262"/>
                  <a:pt x="3216" y="4181"/>
                  <a:pt x="3225" y="4316"/>
                </a:cubicBezTo>
                <a:cubicBezTo>
                  <a:pt x="3206" y="4390"/>
                  <a:pt x="3198" y="4397"/>
                  <a:pt x="3200" y="4440"/>
                </a:cubicBezTo>
                <a:cubicBezTo>
                  <a:pt x="3368" y="4428"/>
                  <a:pt x="3432" y="4530"/>
                  <a:pt x="3324" y="4713"/>
                </a:cubicBezTo>
                <a:cubicBezTo>
                  <a:pt x="3229" y="4808"/>
                  <a:pt x="3201" y="4841"/>
                  <a:pt x="3101" y="481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411200" y="1571760"/>
            <a:ext cx="187560" cy="268200"/>
          </a:xfrm>
          <a:custGeom>
            <a:avLst/>
            <a:gdLst/>
            <a:ahLst/>
            <a:rect l="l" t="t" r="r" b="b"/>
            <a:pathLst>
              <a:path w="522" h="745">
                <a:moveTo>
                  <a:pt x="3919" y="4887"/>
                </a:moveTo>
                <a:cubicBezTo>
                  <a:pt x="3927" y="4962"/>
                  <a:pt x="3938" y="5034"/>
                  <a:pt x="3944" y="5110"/>
                </a:cubicBezTo>
              </a:path>
              <a:path w="522" h="745">
                <a:moveTo>
                  <a:pt x="3944" y="4366"/>
                </a:moveTo>
                <a:cubicBezTo>
                  <a:pt x="3946" y="4435"/>
                  <a:pt x="3927" y="4874"/>
                  <a:pt x="4043" y="4887"/>
                </a:cubicBezTo>
                <a:cubicBezTo>
                  <a:pt x="4305" y="4917"/>
                  <a:pt x="4386" y="4629"/>
                  <a:pt x="4440" y="4440"/>
                </a:cubicBezTo>
                <a:cubicBezTo>
                  <a:pt x="4302" y="4421"/>
                  <a:pt x="4201" y="4428"/>
                  <a:pt x="4242" y="4614"/>
                </a:cubicBezTo>
                <a:cubicBezTo>
                  <a:pt x="4258" y="4655"/>
                  <a:pt x="4275" y="4697"/>
                  <a:pt x="4291" y="473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68240" y="2143080"/>
            <a:ext cx="677880" cy="231840"/>
          </a:xfrm>
          <a:custGeom>
            <a:avLst/>
            <a:gdLst/>
            <a:ahLst/>
            <a:rect l="l" t="t" r="r" b="b"/>
            <a:pathLst>
              <a:path w="1886" h="646">
                <a:moveTo>
                  <a:pt x="2431" y="6003"/>
                </a:moveTo>
                <a:cubicBezTo>
                  <a:pt x="2242" y="5943"/>
                  <a:pt x="2140" y="5990"/>
                  <a:pt x="2133" y="6226"/>
                </a:cubicBezTo>
                <a:cubicBezTo>
                  <a:pt x="2127" y="6420"/>
                  <a:pt x="2373" y="6112"/>
                  <a:pt x="2381" y="6102"/>
                </a:cubicBezTo>
                <a:cubicBezTo>
                  <a:pt x="2389" y="6085"/>
                  <a:pt x="2398" y="6069"/>
                  <a:pt x="2406" y="6052"/>
                </a:cubicBezTo>
                <a:cubicBezTo>
                  <a:pt x="2390" y="6214"/>
                  <a:pt x="2351" y="6390"/>
                  <a:pt x="2307" y="6548"/>
                </a:cubicBezTo>
                <a:cubicBezTo>
                  <a:pt x="2299" y="6565"/>
                  <a:pt x="2290" y="6581"/>
                  <a:pt x="2282" y="6598"/>
                </a:cubicBezTo>
              </a:path>
              <a:path w="1886" h="646">
                <a:moveTo>
                  <a:pt x="2729" y="6127"/>
                </a:moveTo>
                <a:cubicBezTo>
                  <a:pt x="2704" y="6244"/>
                  <a:pt x="2704" y="6353"/>
                  <a:pt x="2704" y="6474"/>
                </a:cubicBezTo>
              </a:path>
              <a:path w="1886" h="646">
                <a:moveTo>
                  <a:pt x="2555" y="6325"/>
                </a:moveTo>
                <a:cubicBezTo>
                  <a:pt x="2624" y="6282"/>
                  <a:pt x="2699" y="6254"/>
                  <a:pt x="2778" y="6226"/>
                </a:cubicBezTo>
              </a:path>
              <a:path w="1886" h="646">
                <a:moveTo>
                  <a:pt x="3051" y="6152"/>
                </a:moveTo>
                <a:cubicBezTo>
                  <a:pt x="3129" y="6099"/>
                  <a:pt x="3158" y="6082"/>
                  <a:pt x="3225" y="6077"/>
                </a:cubicBezTo>
                <a:cubicBezTo>
                  <a:pt x="3199" y="6260"/>
                  <a:pt x="3109" y="6374"/>
                  <a:pt x="3001" y="6524"/>
                </a:cubicBezTo>
                <a:cubicBezTo>
                  <a:pt x="3100" y="6524"/>
                  <a:pt x="3200" y="6524"/>
                  <a:pt x="3299" y="6524"/>
                </a:cubicBezTo>
              </a:path>
              <a:path w="1886" h="646">
                <a:moveTo>
                  <a:pt x="3522" y="6226"/>
                </a:moveTo>
                <a:cubicBezTo>
                  <a:pt x="3522" y="6300"/>
                  <a:pt x="3522" y="6375"/>
                  <a:pt x="3522" y="6449"/>
                </a:cubicBezTo>
              </a:path>
              <a:path w="1886" h="646">
                <a:moveTo>
                  <a:pt x="3423" y="6325"/>
                </a:moveTo>
                <a:cubicBezTo>
                  <a:pt x="3539" y="6299"/>
                  <a:pt x="3654" y="6277"/>
                  <a:pt x="3770" y="6251"/>
                </a:cubicBezTo>
              </a:path>
              <a:path w="1886" h="646">
                <a:moveTo>
                  <a:pt x="3994" y="6077"/>
                </a:moveTo>
                <a:cubicBezTo>
                  <a:pt x="4002" y="6226"/>
                  <a:pt x="4024" y="6352"/>
                  <a:pt x="3994" y="649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44760" y="2241720"/>
            <a:ext cx="81000" cy="36360"/>
          </a:xfrm>
          <a:custGeom>
            <a:avLst/>
            <a:gdLst/>
            <a:ahLst/>
            <a:rect l="l" t="t" r="r" b="b"/>
            <a:pathLst>
              <a:path w="224" h="100">
                <a:moveTo>
                  <a:pt x="4291" y="6226"/>
                </a:moveTo>
                <a:cubicBezTo>
                  <a:pt x="4357" y="6226"/>
                  <a:pt x="4424" y="6226"/>
                  <a:pt x="4490" y="6226"/>
                </a:cubicBezTo>
              </a:path>
              <a:path w="224" h="100">
                <a:moveTo>
                  <a:pt x="4291" y="6325"/>
                </a:moveTo>
                <a:cubicBezTo>
                  <a:pt x="4408" y="6325"/>
                  <a:pt x="4442" y="6327"/>
                  <a:pt x="4514" y="630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724040" y="2170080"/>
            <a:ext cx="374760" cy="196920"/>
          </a:xfrm>
          <a:custGeom>
            <a:avLst/>
            <a:gdLst/>
            <a:ahLst/>
            <a:rect l="l" t="t" r="r" b="b"/>
            <a:pathLst>
              <a:path w="1043" h="546">
                <a:moveTo>
                  <a:pt x="4787" y="6102"/>
                </a:moveTo>
                <a:cubicBezTo>
                  <a:pt x="4812" y="6260"/>
                  <a:pt x="4812" y="6412"/>
                  <a:pt x="4812" y="6573"/>
                </a:cubicBezTo>
              </a:path>
              <a:path w="1043" h="546">
                <a:moveTo>
                  <a:pt x="5135" y="6077"/>
                </a:moveTo>
                <a:cubicBezTo>
                  <a:pt x="5227" y="6048"/>
                  <a:pt x="5375" y="5977"/>
                  <a:pt x="5407" y="6127"/>
                </a:cubicBezTo>
                <a:cubicBezTo>
                  <a:pt x="5438" y="6275"/>
                  <a:pt x="5283" y="6368"/>
                  <a:pt x="5209" y="6474"/>
                </a:cubicBezTo>
                <a:cubicBezTo>
                  <a:pt x="5301" y="6502"/>
                  <a:pt x="5383" y="6499"/>
                  <a:pt x="5482" y="6499"/>
                </a:cubicBezTo>
              </a:path>
              <a:path w="1043" h="546">
                <a:moveTo>
                  <a:pt x="5060" y="6201"/>
                </a:moveTo>
                <a:cubicBezTo>
                  <a:pt x="5038" y="6260"/>
                  <a:pt x="5029" y="6332"/>
                  <a:pt x="5011" y="6400"/>
                </a:cubicBezTo>
              </a:path>
              <a:path w="1043" h="546">
                <a:moveTo>
                  <a:pt x="4961" y="6300"/>
                </a:moveTo>
                <a:cubicBezTo>
                  <a:pt x="5025" y="6283"/>
                  <a:pt x="5075" y="6273"/>
                  <a:pt x="5135" y="6251"/>
                </a:cubicBezTo>
              </a:path>
              <a:path w="1043" h="546">
                <a:moveTo>
                  <a:pt x="5606" y="6251"/>
                </a:moveTo>
                <a:cubicBezTo>
                  <a:pt x="5657" y="6243"/>
                  <a:pt x="5704" y="6232"/>
                  <a:pt x="5755" y="6226"/>
                </a:cubicBezTo>
              </a:path>
              <a:path w="1043" h="546">
                <a:moveTo>
                  <a:pt x="5631" y="6375"/>
                </a:moveTo>
                <a:cubicBezTo>
                  <a:pt x="5738" y="6353"/>
                  <a:pt x="5762" y="6345"/>
                  <a:pt x="5829" y="635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232000" y="2170080"/>
            <a:ext cx="117360" cy="187200"/>
          </a:xfrm>
          <a:custGeom>
            <a:avLst/>
            <a:gdLst/>
            <a:ahLst/>
            <a:rect l="l" t="t" r="r" b="b"/>
            <a:pathLst>
              <a:path w="324" h="521">
                <a:moveTo>
                  <a:pt x="6201" y="6152"/>
                </a:moveTo>
                <a:cubicBezTo>
                  <a:pt x="6291" y="6076"/>
                  <a:pt x="6361" y="6045"/>
                  <a:pt x="6474" y="6028"/>
                </a:cubicBezTo>
                <a:cubicBezTo>
                  <a:pt x="6495" y="6164"/>
                  <a:pt x="6474" y="6264"/>
                  <a:pt x="6325" y="6325"/>
                </a:cubicBezTo>
                <a:cubicBezTo>
                  <a:pt x="6309" y="6325"/>
                  <a:pt x="6292" y="6325"/>
                  <a:pt x="6276" y="6325"/>
                </a:cubicBezTo>
                <a:cubicBezTo>
                  <a:pt x="6436" y="6252"/>
                  <a:pt x="6464" y="6258"/>
                  <a:pt x="6524" y="6424"/>
                </a:cubicBezTo>
                <a:cubicBezTo>
                  <a:pt x="6420" y="6500"/>
                  <a:pt x="6331" y="6535"/>
                  <a:pt x="6201" y="654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867800" y="731880"/>
            <a:ext cx="847440" cy="241200"/>
          </a:xfrm>
          <a:custGeom>
            <a:avLst/>
            <a:gdLst/>
            <a:ahLst/>
            <a:rect l="l" t="t" r="r" b="b"/>
            <a:pathLst>
              <a:path w="2357" h="671">
                <a:moveTo>
                  <a:pt x="22027" y="2183"/>
                </a:moveTo>
                <a:cubicBezTo>
                  <a:pt x="22043" y="2166"/>
                  <a:pt x="22060" y="2150"/>
                  <a:pt x="22076" y="2133"/>
                </a:cubicBezTo>
                <a:cubicBezTo>
                  <a:pt x="22163" y="2269"/>
                  <a:pt x="22160" y="2427"/>
                  <a:pt x="22027" y="2555"/>
                </a:cubicBezTo>
                <a:cubicBezTo>
                  <a:pt x="21935" y="2643"/>
                  <a:pt x="21871" y="2551"/>
                  <a:pt x="21853" y="2480"/>
                </a:cubicBezTo>
                <a:cubicBezTo>
                  <a:pt x="21929" y="2416"/>
                  <a:pt x="22073" y="2419"/>
                  <a:pt x="22126" y="2555"/>
                </a:cubicBezTo>
                <a:cubicBezTo>
                  <a:pt x="22126" y="2629"/>
                  <a:pt x="22126" y="2638"/>
                  <a:pt x="22126" y="2679"/>
                </a:cubicBezTo>
              </a:path>
              <a:path w="2357" h="671">
                <a:moveTo>
                  <a:pt x="22275" y="2257"/>
                </a:moveTo>
                <a:cubicBezTo>
                  <a:pt x="22294" y="2367"/>
                  <a:pt x="22316" y="2470"/>
                  <a:pt x="22324" y="2580"/>
                </a:cubicBezTo>
              </a:path>
              <a:path w="2357" h="671">
                <a:moveTo>
                  <a:pt x="22175" y="2456"/>
                </a:moveTo>
                <a:cubicBezTo>
                  <a:pt x="22250" y="2456"/>
                  <a:pt x="22274" y="2456"/>
                  <a:pt x="22324" y="2456"/>
                </a:cubicBezTo>
              </a:path>
              <a:path w="2357" h="671">
                <a:moveTo>
                  <a:pt x="22523" y="2282"/>
                </a:moveTo>
                <a:cubicBezTo>
                  <a:pt x="22638" y="2188"/>
                  <a:pt x="22643" y="2316"/>
                  <a:pt x="22572" y="2406"/>
                </a:cubicBezTo>
                <a:cubicBezTo>
                  <a:pt x="22547" y="2423"/>
                  <a:pt x="22523" y="2439"/>
                  <a:pt x="22498" y="2456"/>
                </a:cubicBezTo>
                <a:cubicBezTo>
                  <a:pt x="22610" y="2412"/>
                  <a:pt x="22809" y="2421"/>
                  <a:pt x="22671" y="2604"/>
                </a:cubicBezTo>
                <a:cubicBezTo>
                  <a:pt x="22613" y="2681"/>
                  <a:pt x="22544" y="2670"/>
                  <a:pt x="22473" y="2654"/>
                </a:cubicBezTo>
              </a:path>
              <a:path w="2357" h="671">
                <a:moveTo>
                  <a:pt x="22944" y="2356"/>
                </a:moveTo>
                <a:cubicBezTo>
                  <a:pt x="22944" y="2422"/>
                  <a:pt x="22944" y="2489"/>
                  <a:pt x="22944" y="2555"/>
                </a:cubicBezTo>
              </a:path>
              <a:path w="2357" h="671">
                <a:moveTo>
                  <a:pt x="22845" y="2480"/>
                </a:moveTo>
                <a:cubicBezTo>
                  <a:pt x="22963" y="2480"/>
                  <a:pt x="23015" y="2474"/>
                  <a:pt x="23093" y="2431"/>
                </a:cubicBezTo>
              </a:path>
              <a:path w="2357" h="671">
                <a:moveTo>
                  <a:pt x="23292" y="2332"/>
                </a:moveTo>
                <a:cubicBezTo>
                  <a:pt x="23195" y="2463"/>
                  <a:pt x="23122" y="2561"/>
                  <a:pt x="23192" y="2704"/>
                </a:cubicBezTo>
                <a:cubicBezTo>
                  <a:pt x="23312" y="2680"/>
                  <a:pt x="23642" y="2571"/>
                  <a:pt x="23465" y="2381"/>
                </a:cubicBezTo>
                <a:cubicBezTo>
                  <a:pt x="23347" y="2310"/>
                  <a:pt x="23312" y="2286"/>
                  <a:pt x="23217" y="2307"/>
                </a:cubicBezTo>
              </a:path>
              <a:path w="2357" h="671">
                <a:moveTo>
                  <a:pt x="23664" y="2406"/>
                </a:moveTo>
                <a:cubicBezTo>
                  <a:pt x="23711" y="2335"/>
                  <a:pt x="23724" y="2311"/>
                  <a:pt x="23788" y="2307"/>
                </a:cubicBezTo>
              </a:path>
              <a:path w="2357" h="671">
                <a:moveTo>
                  <a:pt x="23713" y="2505"/>
                </a:moveTo>
                <a:cubicBezTo>
                  <a:pt x="23746" y="2505"/>
                  <a:pt x="23779" y="2505"/>
                  <a:pt x="23812" y="2505"/>
                </a:cubicBezTo>
              </a:path>
              <a:path w="2357" h="671">
                <a:moveTo>
                  <a:pt x="23887" y="2232"/>
                </a:moveTo>
                <a:cubicBezTo>
                  <a:pt x="23908" y="2348"/>
                  <a:pt x="23917" y="2356"/>
                  <a:pt x="24036" y="2356"/>
                </a:cubicBezTo>
                <a:cubicBezTo>
                  <a:pt x="24182" y="2356"/>
                  <a:pt x="24220" y="2518"/>
                  <a:pt x="24135" y="2629"/>
                </a:cubicBezTo>
                <a:cubicBezTo>
                  <a:pt x="24042" y="2751"/>
                  <a:pt x="23972" y="2682"/>
                  <a:pt x="23887" y="2629"/>
                </a:cubicBezTo>
              </a:path>
              <a:path w="2357" h="671">
                <a:moveTo>
                  <a:pt x="23912" y="2183"/>
                </a:moveTo>
                <a:cubicBezTo>
                  <a:pt x="24015" y="2111"/>
                  <a:pt x="24083" y="2052"/>
                  <a:pt x="24209" y="203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177920" y="2678040"/>
            <a:ext cx="36360" cy="9720"/>
          </a:xfrm>
          <a:custGeom>
            <a:avLst/>
            <a:gdLst/>
            <a:ahLst/>
            <a:rect l="l" t="t" r="r" b="b"/>
            <a:pathLst>
              <a:path w="100" h="26">
                <a:moveTo>
                  <a:pt x="3373" y="7441"/>
                </a:moveTo>
                <a:lnTo>
                  <a:pt x="3373" y="7441"/>
                </a:lnTo>
              </a:path>
              <a:path w="100" h="26">
                <a:moveTo>
                  <a:pt x="3274" y="7466"/>
                </a:moveTo>
                <a:cubicBezTo>
                  <a:pt x="3316" y="7466"/>
                  <a:pt x="3324" y="7466"/>
                  <a:pt x="3349" y="746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84160" y="2768760"/>
            <a:ext cx="277920" cy="268200"/>
          </a:xfrm>
          <a:custGeom>
            <a:avLst/>
            <a:gdLst/>
            <a:ahLst/>
            <a:rect l="l" t="t" r="r" b="b"/>
            <a:pathLst>
              <a:path w="770" h="746">
                <a:moveTo>
                  <a:pt x="3076" y="7913"/>
                </a:moveTo>
                <a:cubicBezTo>
                  <a:pt x="3096" y="7795"/>
                  <a:pt x="2968" y="7749"/>
                  <a:pt x="2853" y="7714"/>
                </a:cubicBezTo>
                <a:cubicBezTo>
                  <a:pt x="2711" y="7670"/>
                  <a:pt x="2581" y="7663"/>
                  <a:pt x="2505" y="7813"/>
                </a:cubicBezTo>
                <a:cubicBezTo>
                  <a:pt x="2426" y="7968"/>
                  <a:pt x="2399" y="8322"/>
                  <a:pt x="2604" y="8409"/>
                </a:cubicBezTo>
                <a:cubicBezTo>
                  <a:pt x="2781" y="8484"/>
                  <a:pt x="3044" y="8376"/>
                  <a:pt x="3200" y="8285"/>
                </a:cubicBezTo>
                <a:cubicBezTo>
                  <a:pt x="3208" y="8277"/>
                  <a:pt x="3217" y="8268"/>
                  <a:pt x="3225" y="826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429760" y="2678040"/>
            <a:ext cx="107640" cy="19080"/>
          </a:xfrm>
          <a:custGeom>
            <a:avLst/>
            <a:gdLst/>
            <a:ahLst/>
            <a:rect l="l" t="t" r="r" b="b"/>
            <a:pathLst>
              <a:path w="298" h="51">
                <a:moveTo>
                  <a:pt x="23416" y="7491"/>
                </a:moveTo>
                <a:cubicBezTo>
                  <a:pt x="23487" y="7447"/>
                  <a:pt x="23576" y="7445"/>
                  <a:pt x="23664" y="7441"/>
                </a:cubicBezTo>
                <a:cubicBezTo>
                  <a:pt x="23680" y="7441"/>
                  <a:pt x="23697" y="7441"/>
                  <a:pt x="23713" y="744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974000" y="2938320"/>
            <a:ext cx="473040" cy="482760"/>
          </a:xfrm>
          <a:custGeom>
            <a:avLst/>
            <a:gdLst/>
            <a:ahLst/>
            <a:rect l="l" t="t" r="r" b="b"/>
            <a:pathLst>
              <a:path w="1315" h="1340">
                <a:moveTo>
                  <a:pt x="22895" y="8384"/>
                </a:moveTo>
                <a:cubicBezTo>
                  <a:pt x="22997" y="8302"/>
                  <a:pt x="22905" y="8270"/>
                  <a:pt x="22796" y="8161"/>
                </a:cubicBezTo>
                <a:cubicBezTo>
                  <a:pt x="22483" y="8394"/>
                  <a:pt x="21703" y="9155"/>
                  <a:pt x="22423" y="9500"/>
                </a:cubicBezTo>
                <a:cubicBezTo>
                  <a:pt x="22749" y="9656"/>
                  <a:pt x="23180" y="9399"/>
                  <a:pt x="23465" y="927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70080" y="4106880"/>
            <a:ext cx="366840" cy="189000"/>
          </a:xfrm>
          <a:custGeom>
            <a:avLst/>
            <a:gdLst/>
            <a:ahLst/>
            <a:rect l="l" t="t" r="r" b="b"/>
            <a:pathLst>
              <a:path w="1018" h="522">
                <a:moveTo>
                  <a:pt x="6052" y="11509"/>
                </a:moveTo>
                <a:cubicBezTo>
                  <a:pt x="6032" y="11633"/>
                  <a:pt x="6024" y="11657"/>
                  <a:pt x="6028" y="11733"/>
                </a:cubicBezTo>
                <a:cubicBezTo>
                  <a:pt x="6173" y="11721"/>
                  <a:pt x="6240" y="11689"/>
                  <a:pt x="6375" y="11633"/>
                </a:cubicBezTo>
              </a:path>
              <a:path w="1018" h="522">
                <a:moveTo>
                  <a:pt x="6350" y="11410"/>
                </a:moveTo>
                <a:cubicBezTo>
                  <a:pt x="6308" y="11584"/>
                  <a:pt x="6278" y="11753"/>
                  <a:pt x="6251" y="11931"/>
                </a:cubicBezTo>
              </a:path>
              <a:path w="1018" h="522">
                <a:moveTo>
                  <a:pt x="6623" y="11485"/>
                </a:moveTo>
                <a:cubicBezTo>
                  <a:pt x="6600" y="11610"/>
                  <a:pt x="6581" y="11731"/>
                  <a:pt x="6573" y="11857"/>
                </a:cubicBezTo>
              </a:path>
              <a:path w="1018" h="522">
                <a:moveTo>
                  <a:pt x="6524" y="11683"/>
                </a:moveTo>
                <a:cubicBezTo>
                  <a:pt x="6582" y="11666"/>
                  <a:pt x="6639" y="11650"/>
                  <a:pt x="6697" y="11633"/>
                </a:cubicBezTo>
              </a:path>
              <a:path w="1018" h="522">
                <a:moveTo>
                  <a:pt x="7020" y="11485"/>
                </a:moveTo>
                <a:cubicBezTo>
                  <a:pt x="6916" y="11511"/>
                  <a:pt x="6760" y="11579"/>
                  <a:pt x="6871" y="11708"/>
                </a:cubicBezTo>
                <a:cubicBezTo>
                  <a:pt x="6942" y="11755"/>
                  <a:pt x="6968" y="11768"/>
                  <a:pt x="6921" y="11832"/>
                </a:cubicBezTo>
                <a:cubicBezTo>
                  <a:pt x="6888" y="11832"/>
                  <a:pt x="6854" y="11832"/>
                  <a:pt x="6821" y="11832"/>
                </a:cubicBezTo>
                <a:cubicBezTo>
                  <a:pt x="6862" y="11678"/>
                  <a:pt x="6953" y="11590"/>
                  <a:pt x="7045" y="1146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616120" y="4179960"/>
            <a:ext cx="54000" cy="52200"/>
          </a:xfrm>
          <a:custGeom>
            <a:avLst/>
            <a:gdLst/>
            <a:ahLst/>
            <a:rect l="l" t="t" r="r" b="b"/>
            <a:pathLst>
              <a:path w="150" h="149">
                <a:moveTo>
                  <a:pt x="7293" y="11609"/>
                </a:moveTo>
                <a:cubicBezTo>
                  <a:pt x="7351" y="11609"/>
                  <a:pt x="7376" y="11609"/>
                  <a:pt x="7417" y="11609"/>
                </a:cubicBezTo>
              </a:path>
              <a:path w="150" h="149">
                <a:moveTo>
                  <a:pt x="7268" y="11757"/>
                </a:moveTo>
                <a:cubicBezTo>
                  <a:pt x="7293" y="11757"/>
                  <a:pt x="7317" y="11757"/>
                  <a:pt x="7342" y="1175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03680" y="4098960"/>
            <a:ext cx="285480" cy="169920"/>
          </a:xfrm>
          <a:custGeom>
            <a:avLst/>
            <a:gdLst/>
            <a:ahLst/>
            <a:rect l="l" t="t" r="r" b="b"/>
            <a:pathLst>
              <a:path w="794" h="473">
                <a:moveTo>
                  <a:pt x="7789" y="11385"/>
                </a:moveTo>
                <a:cubicBezTo>
                  <a:pt x="7794" y="11535"/>
                  <a:pt x="7805" y="11682"/>
                  <a:pt x="7813" y="11832"/>
                </a:cubicBezTo>
              </a:path>
              <a:path w="794" h="473">
                <a:moveTo>
                  <a:pt x="8285" y="11385"/>
                </a:moveTo>
                <a:cubicBezTo>
                  <a:pt x="8400" y="11385"/>
                  <a:pt x="8457" y="11392"/>
                  <a:pt x="8558" y="11435"/>
                </a:cubicBezTo>
                <a:cubicBezTo>
                  <a:pt x="8516" y="11581"/>
                  <a:pt x="8405" y="11690"/>
                  <a:pt x="8334" y="11832"/>
                </a:cubicBezTo>
                <a:cubicBezTo>
                  <a:pt x="8445" y="11846"/>
                  <a:pt x="8477" y="11850"/>
                  <a:pt x="8582" y="11807"/>
                </a:cubicBezTo>
              </a:path>
              <a:path w="794" h="473">
                <a:moveTo>
                  <a:pt x="8037" y="11485"/>
                </a:moveTo>
                <a:cubicBezTo>
                  <a:pt x="8037" y="11601"/>
                  <a:pt x="8037" y="11634"/>
                  <a:pt x="8037" y="11708"/>
                </a:cubicBezTo>
              </a:path>
              <a:path w="794" h="473">
                <a:moveTo>
                  <a:pt x="8037" y="11633"/>
                </a:moveTo>
                <a:cubicBezTo>
                  <a:pt x="8095" y="11625"/>
                  <a:pt x="8152" y="11617"/>
                  <a:pt x="8210" y="1160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178080" y="4160880"/>
            <a:ext cx="216000" cy="144360"/>
          </a:xfrm>
          <a:custGeom>
            <a:avLst/>
            <a:gdLst/>
            <a:ahLst/>
            <a:rect l="l" t="t" r="r" b="b"/>
            <a:pathLst>
              <a:path w="597" h="398">
                <a:moveTo>
                  <a:pt x="8880" y="11584"/>
                </a:moveTo>
                <a:cubicBezTo>
                  <a:pt x="8905" y="11576"/>
                  <a:pt x="8929" y="11567"/>
                  <a:pt x="8954" y="11559"/>
                </a:cubicBezTo>
              </a:path>
              <a:path w="597" h="398">
                <a:moveTo>
                  <a:pt x="8830" y="11708"/>
                </a:moveTo>
                <a:lnTo>
                  <a:pt x="8830" y="11708"/>
                </a:lnTo>
              </a:path>
              <a:path w="597" h="398">
                <a:moveTo>
                  <a:pt x="9153" y="11584"/>
                </a:moveTo>
                <a:cubicBezTo>
                  <a:pt x="9260" y="11562"/>
                  <a:pt x="9284" y="11554"/>
                  <a:pt x="9351" y="11559"/>
                </a:cubicBezTo>
                <a:cubicBezTo>
                  <a:pt x="9273" y="11743"/>
                  <a:pt x="9240" y="11693"/>
                  <a:pt x="9426" y="11807"/>
                </a:cubicBezTo>
                <a:cubicBezTo>
                  <a:pt x="9325" y="11948"/>
                  <a:pt x="9330" y="11937"/>
                  <a:pt x="9153" y="1195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31840" y="5456160"/>
            <a:ext cx="2295360" cy="1204920"/>
          </a:xfrm>
          <a:custGeom>
            <a:avLst/>
            <a:gdLst/>
            <a:ahLst/>
            <a:rect l="l" t="t" r="r" b="b"/>
            <a:pathLst>
              <a:path w="6376" h="3349">
                <a:moveTo>
                  <a:pt x="2059" y="15180"/>
                </a:moveTo>
                <a:cubicBezTo>
                  <a:pt x="1926" y="15296"/>
                  <a:pt x="1831" y="15382"/>
                  <a:pt x="1736" y="15528"/>
                </a:cubicBezTo>
                <a:cubicBezTo>
                  <a:pt x="1836" y="15401"/>
                  <a:pt x="1933" y="15226"/>
                  <a:pt x="2084" y="15156"/>
                </a:cubicBezTo>
                <a:cubicBezTo>
                  <a:pt x="2092" y="15156"/>
                  <a:pt x="2100" y="15156"/>
                  <a:pt x="2108" y="15156"/>
                </a:cubicBezTo>
                <a:cubicBezTo>
                  <a:pt x="2188" y="15273"/>
                  <a:pt x="2266" y="15393"/>
                  <a:pt x="2356" y="15503"/>
                </a:cubicBezTo>
              </a:path>
              <a:path w="6376" h="3349">
                <a:moveTo>
                  <a:pt x="1116" y="15503"/>
                </a:moveTo>
                <a:cubicBezTo>
                  <a:pt x="1116" y="15564"/>
                  <a:pt x="1125" y="15580"/>
                  <a:pt x="1091" y="15602"/>
                </a:cubicBezTo>
                <a:cubicBezTo>
                  <a:pt x="1261" y="15585"/>
                  <a:pt x="1209" y="15759"/>
                  <a:pt x="1116" y="15875"/>
                </a:cubicBezTo>
                <a:cubicBezTo>
                  <a:pt x="1091" y="15892"/>
                  <a:pt x="1067" y="15908"/>
                  <a:pt x="1042" y="15925"/>
                </a:cubicBezTo>
                <a:cubicBezTo>
                  <a:pt x="1199" y="15852"/>
                  <a:pt x="1240" y="15849"/>
                  <a:pt x="1265" y="16024"/>
                </a:cubicBezTo>
              </a:path>
              <a:path w="6376" h="3349">
                <a:moveTo>
                  <a:pt x="2580" y="15553"/>
                </a:moveTo>
                <a:cubicBezTo>
                  <a:pt x="2512" y="15680"/>
                  <a:pt x="2445" y="15781"/>
                  <a:pt x="2431" y="15925"/>
                </a:cubicBezTo>
                <a:cubicBezTo>
                  <a:pt x="2636" y="15979"/>
                  <a:pt x="2679" y="15900"/>
                  <a:pt x="2803" y="15726"/>
                </a:cubicBezTo>
                <a:cubicBezTo>
                  <a:pt x="2684" y="15759"/>
                  <a:pt x="2695" y="15778"/>
                  <a:pt x="2629" y="15900"/>
                </a:cubicBezTo>
              </a:path>
              <a:path w="6376" h="3349">
                <a:moveTo>
                  <a:pt x="3051" y="15528"/>
                </a:moveTo>
                <a:cubicBezTo>
                  <a:pt x="2934" y="15658"/>
                  <a:pt x="2933" y="15602"/>
                  <a:pt x="3076" y="15701"/>
                </a:cubicBezTo>
              </a:path>
              <a:path w="6376" h="3349">
                <a:moveTo>
                  <a:pt x="3249" y="15379"/>
                </a:moveTo>
                <a:cubicBezTo>
                  <a:pt x="3184" y="15545"/>
                  <a:pt x="3119" y="15710"/>
                  <a:pt x="3051" y="15875"/>
                </a:cubicBezTo>
              </a:path>
              <a:path w="6376" h="3349">
                <a:moveTo>
                  <a:pt x="1042" y="16024"/>
                </a:moveTo>
                <a:cubicBezTo>
                  <a:pt x="1002" y="15914"/>
                  <a:pt x="1033" y="15898"/>
                  <a:pt x="943" y="15949"/>
                </a:cubicBezTo>
                <a:cubicBezTo>
                  <a:pt x="943" y="16031"/>
                  <a:pt x="927" y="16051"/>
                  <a:pt x="992" y="16098"/>
                </a:cubicBezTo>
                <a:cubicBezTo>
                  <a:pt x="1127" y="16195"/>
                  <a:pt x="1235" y="16139"/>
                  <a:pt x="1339" y="16024"/>
                </a:cubicBezTo>
                <a:cubicBezTo>
                  <a:pt x="1355" y="16006"/>
                  <a:pt x="1515" y="15871"/>
                  <a:pt x="1513" y="15825"/>
                </a:cubicBezTo>
                <a:cubicBezTo>
                  <a:pt x="1507" y="15669"/>
                  <a:pt x="1405" y="15565"/>
                  <a:pt x="1290" y="15478"/>
                </a:cubicBezTo>
                <a:cubicBezTo>
                  <a:pt x="1211" y="15418"/>
                  <a:pt x="1069" y="15364"/>
                  <a:pt x="967" y="15379"/>
                </a:cubicBezTo>
                <a:cubicBezTo>
                  <a:pt x="848" y="15397"/>
                  <a:pt x="754" y="15435"/>
                  <a:pt x="695" y="15553"/>
                </a:cubicBezTo>
                <a:cubicBezTo>
                  <a:pt x="626" y="15691"/>
                  <a:pt x="604" y="15904"/>
                  <a:pt x="695" y="16024"/>
                </a:cubicBezTo>
                <a:cubicBezTo>
                  <a:pt x="772" y="16125"/>
                  <a:pt x="999" y="16114"/>
                  <a:pt x="1116" y="16123"/>
                </a:cubicBezTo>
                <a:cubicBezTo>
                  <a:pt x="1190" y="16123"/>
                  <a:pt x="1199" y="16123"/>
                  <a:pt x="1240" y="16123"/>
                </a:cubicBezTo>
              </a:path>
              <a:path w="6376" h="3349">
                <a:moveTo>
                  <a:pt x="2828" y="16073"/>
                </a:moveTo>
                <a:cubicBezTo>
                  <a:pt x="2751" y="16197"/>
                  <a:pt x="2675" y="16319"/>
                  <a:pt x="2604" y="16446"/>
                </a:cubicBezTo>
                <a:cubicBezTo>
                  <a:pt x="2686" y="16319"/>
                  <a:pt x="2758" y="16189"/>
                  <a:pt x="2853" y="16073"/>
                </a:cubicBezTo>
                <a:cubicBezTo>
                  <a:pt x="3009" y="16118"/>
                  <a:pt x="3048" y="16260"/>
                  <a:pt x="3200" y="16371"/>
                </a:cubicBezTo>
                <a:cubicBezTo>
                  <a:pt x="3216" y="16379"/>
                  <a:pt x="3233" y="16388"/>
                  <a:pt x="3249" y="16396"/>
                </a:cubicBezTo>
              </a:path>
              <a:path w="6376" h="3349">
                <a:moveTo>
                  <a:pt x="2257" y="16446"/>
                </a:moveTo>
                <a:cubicBezTo>
                  <a:pt x="2347" y="16401"/>
                  <a:pt x="2369" y="16387"/>
                  <a:pt x="2431" y="16371"/>
                </a:cubicBezTo>
                <a:cubicBezTo>
                  <a:pt x="2431" y="16492"/>
                  <a:pt x="2296" y="16847"/>
                  <a:pt x="2084" y="16768"/>
                </a:cubicBezTo>
                <a:cubicBezTo>
                  <a:pt x="2084" y="16735"/>
                  <a:pt x="2084" y="16702"/>
                  <a:pt x="2084" y="16669"/>
                </a:cubicBezTo>
                <a:cubicBezTo>
                  <a:pt x="2208" y="16630"/>
                  <a:pt x="2392" y="16595"/>
                  <a:pt x="2406" y="16793"/>
                </a:cubicBezTo>
                <a:cubicBezTo>
                  <a:pt x="2398" y="16818"/>
                  <a:pt x="2389" y="16842"/>
                  <a:pt x="2381" y="16867"/>
                </a:cubicBezTo>
              </a:path>
              <a:path w="6376" h="3349">
                <a:moveTo>
                  <a:pt x="3721" y="16371"/>
                </a:moveTo>
                <a:cubicBezTo>
                  <a:pt x="3645" y="16371"/>
                  <a:pt x="3892" y="16397"/>
                  <a:pt x="3770" y="16495"/>
                </a:cubicBezTo>
                <a:cubicBezTo>
                  <a:pt x="3737" y="16503"/>
                  <a:pt x="3704" y="16512"/>
                  <a:pt x="3671" y="16520"/>
                </a:cubicBezTo>
                <a:cubicBezTo>
                  <a:pt x="3654" y="16528"/>
                  <a:pt x="3638" y="16537"/>
                  <a:pt x="3621" y="16545"/>
                </a:cubicBezTo>
                <a:cubicBezTo>
                  <a:pt x="3784" y="16568"/>
                  <a:pt x="3823" y="16640"/>
                  <a:pt x="3646" y="16743"/>
                </a:cubicBezTo>
                <a:cubicBezTo>
                  <a:pt x="3532" y="16789"/>
                  <a:pt x="3501" y="16808"/>
                  <a:pt x="3423" y="16768"/>
                </a:cubicBezTo>
              </a:path>
              <a:path w="6376" h="3349">
                <a:moveTo>
                  <a:pt x="4167" y="16371"/>
                </a:moveTo>
                <a:cubicBezTo>
                  <a:pt x="4274" y="16542"/>
                  <a:pt x="4306" y="16646"/>
                  <a:pt x="4068" y="16718"/>
                </a:cubicBezTo>
                <a:cubicBezTo>
                  <a:pt x="4043" y="16718"/>
                  <a:pt x="4019" y="16718"/>
                  <a:pt x="3994" y="16718"/>
                </a:cubicBezTo>
                <a:cubicBezTo>
                  <a:pt x="4079" y="16619"/>
                  <a:pt x="4153" y="16626"/>
                  <a:pt x="4242" y="16743"/>
                </a:cubicBezTo>
              </a:path>
              <a:path w="6376" h="3349">
                <a:moveTo>
                  <a:pt x="1885" y="16669"/>
                </a:moveTo>
                <a:cubicBezTo>
                  <a:pt x="1867" y="16904"/>
                  <a:pt x="2054" y="16984"/>
                  <a:pt x="2282" y="17016"/>
                </a:cubicBezTo>
                <a:cubicBezTo>
                  <a:pt x="2492" y="17046"/>
                  <a:pt x="2832" y="16998"/>
                  <a:pt x="2927" y="16768"/>
                </a:cubicBezTo>
                <a:cubicBezTo>
                  <a:pt x="3061" y="16445"/>
                  <a:pt x="2804" y="16216"/>
                  <a:pt x="2530" y="16123"/>
                </a:cubicBezTo>
                <a:cubicBezTo>
                  <a:pt x="2195" y="16010"/>
                  <a:pt x="1816" y="16133"/>
                  <a:pt x="1811" y="16545"/>
                </a:cubicBezTo>
                <a:cubicBezTo>
                  <a:pt x="1836" y="16636"/>
                  <a:pt x="1860" y="16727"/>
                  <a:pt x="1885" y="16818"/>
                </a:cubicBezTo>
              </a:path>
              <a:path w="6376" h="3349">
                <a:moveTo>
                  <a:pt x="3746" y="16867"/>
                </a:moveTo>
                <a:cubicBezTo>
                  <a:pt x="3674" y="17010"/>
                  <a:pt x="3605" y="17121"/>
                  <a:pt x="3497" y="17239"/>
                </a:cubicBezTo>
                <a:cubicBezTo>
                  <a:pt x="3621" y="17126"/>
                  <a:pt x="3730" y="17014"/>
                  <a:pt x="3845" y="16892"/>
                </a:cubicBezTo>
                <a:cubicBezTo>
                  <a:pt x="3954" y="17018"/>
                  <a:pt x="4038" y="17160"/>
                  <a:pt x="4142" y="17289"/>
                </a:cubicBezTo>
              </a:path>
              <a:path w="6376" h="3349">
                <a:moveTo>
                  <a:pt x="3076" y="17214"/>
                </a:moveTo>
                <a:cubicBezTo>
                  <a:pt x="3069" y="17247"/>
                  <a:pt x="3004" y="17427"/>
                  <a:pt x="3051" y="17289"/>
                </a:cubicBezTo>
                <a:cubicBezTo>
                  <a:pt x="3210" y="17305"/>
                  <a:pt x="3284" y="17390"/>
                  <a:pt x="3200" y="17562"/>
                </a:cubicBezTo>
                <a:cubicBezTo>
                  <a:pt x="3132" y="17701"/>
                  <a:pt x="3056" y="17715"/>
                  <a:pt x="2927" y="17735"/>
                </a:cubicBezTo>
                <a:cubicBezTo>
                  <a:pt x="2912" y="17642"/>
                  <a:pt x="2912" y="17466"/>
                  <a:pt x="3076" y="17537"/>
                </a:cubicBezTo>
                <a:cubicBezTo>
                  <a:pt x="3178" y="17581"/>
                  <a:pt x="3230" y="17685"/>
                  <a:pt x="3249" y="17785"/>
                </a:cubicBezTo>
              </a:path>
              <a:path w="6376" h="3349">
                <a:moveTo>
                  <a:pt x="4415" y="17314"/>
                </a:moveTo>
                <a:cubicBezTo>
                  <a:pt x="4443" y="17327"/>
                  <a:pt x="4394" y="17485"/>
                  <a:pt x="4366" y="17587"/>
                </a:cubicBezTo>
              </a:path>
              <a:path w="6376" h="3349">
                <a:moveTo>
                  <a:pt x="4688" y="17264"/>
                </a:moveTo>
                <a:cubicBezTo>
                  <a:pt x="4688" y="17376"/>
                  <a:pt x="4674" y="17478"/>
                  <a:pt x="4663" y="17587"/>
                </a:cubicBezTo>
                <a:cubicBezTo>
                  <a:pt x="4826" y="17586"/>
                  <a:pt x="4889" y="17557"/>
                  <a:pt x="4986" y="17413"/>
                </a:cubicBezTo>
                <a:cubicBezTo>
                  <a:pt x="4873" y="17438"/>
                  <a:pt x="4844" y="17485"/>
                  <a:pt x="4787" y="17587"/>
                </a:cubicBezTo>
              </a:path>
              <a:path w="6376" h="3349">
                <a:moveTo>
                  <a:pt x="2480" y="17735"/>
                </a:moveTo>
                <a:cubicBezTo>
                  <a:pt x="2583" y="17897"/>
                  <a:pt x="2710" y="18079"/>
                  <a:pt x="2877" y="18182"/>
                </a:cubicBezTo>
                <a:cubicBezTo>
                  <a:pt x="3055" y="18292"/>
                  <a:pt x="3421" y="18278"/>
                  <a:pt x="3572" y="18107"/>
                </a:cubicBezTo>
                <a:cubicBezTo>
                  <a:pt x="3676" y="17989"/>
                  <a:pt x="3671" y="17805"/>
                  <a:pt x="3671" y="17661"/>
                </a:cubicBezTo>
                <a:cubicBezTo>
                  <a:pt x="3671" y="17611"/>
                  <a:pt x="3671" y="17595"/>
                  <a:pt x="3671" y="17562"/>
                </a:cubicBezTo>
              </a:path>
              <a:path w="6376" h="3349">
                <a:moveTo>
                  <a:pt x="2679" y="17512"/>
                </a:moveTo>
                <a:cubicBezTo>
                  <a:pt x="2601" y="17564"/>
                  <a:pt x="2653" y="17379"/>
                  <a:pt x="2679" y="17289"/>
                </a:cubicBezTo>
                <a:cubicBezTo>
                  <a:pt x="2711" y="17179"/>
                  <a:pt x="2776" y="17069"/>
                  <a:pt x="2902" y="17041"/>
                </a:cubicBezTo>
                <a:cubicBezTo>
                  <a:pt x="3028" y="17013"/>
                  <a:pt x="3271" y="17068"/>
                  <a:pt x="3373" y="17140"/>
                </a:cubicBezTo>
                <a:cubicBezTo>
                  <a:pt x="3553" y="17267"/>
                  <a:pt x="3559" y="17521"/>
                  <a:pt x="3621" y="17711"/>
                </a:cubicBezTo>
                <a:cubicBezTo>
                  <a:pt x="3666" y="17850"/>
                  <a:pt x="3671" y="17873"/>
                  <a:pt x="3621" y="18008"/>
                </a:cubicBezTo>
              </a:path>
              <a:path w="6376" h="3349">
                <a:moveTo>
                  <a:pt x="4812" y="17686"/>
                </a:moveTo>
                <a:cubicBezTo>
                  <a:pt x="4728" y="17805"/>
                  <a:pt x="4691" y="17901"/>
                  <a:pt x="4638" y="18033"/>
                </a:cubicBezTo>
                <a:cubicBezTo>
                  <a:pt x="4544" y="18139"/>
                  <a:pt x="4744" y="17794"/>
                  <a:pt x="4787" y="17760"/>
                </a:cubicBezTo>
                <a:cubicBezTo>
                  <a:pt x="4874" y="17691"/>
                  <a:pt x="4962" y="17778"/>
                  <a:pt x="5035" y="17810"/>
                </a:cubicBezTo>
                <a:cubicBezTo>
                  <a:pt x="5108" y="17834"/>
                  <a:pt x="5132" y="17843"/>
                  <a:pt x="5184" y="17835"/>
                </a:cubicBezTo>
              </a:path>
              <a:path w="6376" h="3349">
                <a:moveTo>
                  <a:pt x="4961" y="18132"/>
                </a:moveTo>
                <a:cubicBezTo>
                  <a:pt x="4961" y="18097"/>
                  <a:pt x="4970" y="18084"/>
                  <a:pt x="5011" y="18083"/>
                </a:cubicBezTo>
                <a:cubicBezTo>
                  <a:pt x="5022" y="18204"/>
                  <a:pt x="4953" y="18269"/>
                  <a:pt x="4887" y="18380"/>
                </a:cubicBezTo>
                <a:cubicBezTo>
                  <a:pt x="5008" y="18405"/>
                  <a:pt x="5090" y="18352"/>
                  <a:pt x="5209" y="18306"/>
                </a:cubicBezTo>
              </a:path>
              <a:path w="6376" h="3349">
                <a:moveTo>
                  <a:pt x="5779" y="17661"/>
                </a:moveTo>
                <a:cubicBezTo>
                  <a:pt x="5672" y="17769"/>
                  <a:pt x="5866" y="17730"/>
                  <a:pt x="5879" y="17859"/>
                </a:cubicBezTo>
                <a:cubicBezTo>
                  <a:pt x="5849" y="17919"/>
                  <a:pt x="5831" y="17942"/>
                  <a:pt x="5779" y="17959"/>
                </a:cubicBezTo>
                <a:cubicBezTo>
                  <a:pt x="5720" y="17795"/>
                  <a:pt x="5798" y="17743"/>
                  <a:pt x="5928" y="17636"/>
                </a:cubicBezTo>
              </a:path>
              <a:path w="6376" h="3349">
                <a:moveTo>
                  <a:pt x="5209" y="17884"/>
                </a:moveTo>
                <a:cubicBezTo>
                  <a:pt x="5127" y="17794"/>
                  <a:pt x="5047" y="17742"/>
                  <a:pt x="4911" y="17760"/>
                </a:cubicBezTo>
                <a:cubicBezTo>
                  <a:pt x="4744" y="17783"/>
                  <a:pt x="4655" y="18040"/>
                  <a:pt x="4638" y="18182"/>
                </a:cubicBezTo>
                <a:cubicBezTo>
                  <a:pt x="4600" y="18500"/>
                  <a:pt x="4818" y="18508"/>
                  <a:pt x="5060" y="18479"/>
                </a:cubicBezTo>
                <a:cubicBezTo>
                  <a:pt x="5237" y="18458"/>
                  <a:pt x="5391" y="18402"/>
                  <a:pt x="5432" y="18207"/>
                </a:cubicBezTo>
                <a:cubicBezTo>
                  <a:pt x="5470" y="18026"/>
                  <a:pt x="5352" y="17858"/>
                  <a:pt x="5184" y="17810"/>
                </a:cubicBezTo>
                <a:cubicBezTo>
                  <a:pt x="5043" y="17790"/>
                  <a:pt x="5015" y="17771"/>
                  <a:pt x="4936" y="17810"/>
                </a:cubicBezTo>
              </a:path>
              <a:path w="6376" h="3349">
                <a:moveTo>
                  <a:pt x="6573" y="17562"/>
                </a:moveTo>
                <a:cubicBezTo>
                  <a:pt x="6407" y="17657"/>
                  <a:pt x="6254" y="17653"/>
                  <a:pt x="6077" y="17711"/>
                </a:cubicBezTo>
                <a:cubicBezTo>
                  <a:pt x="6069" y="17719"/>
                  <a:pt x="6060" y="17727"/>
                  <a:pt x="6052" y="17735"/>
                </a:cubicBezTo>
                <a:cubicBezTo>
                  <a:pt x="6076" y="17806"/>
                  <a:pt x="6139" y="17907"/>
                  <a:pt x="6226" y="17934"/>
                </a:cubicBezTo>
                <a:cubicBezTo>
                  <a:pt x="6243" y="17934"/>
                  <a:pt x="6259" y="17934"/>
                  <a:pt x="6276" y="17934"/>
                </a:cubicBezTo>
              </a:path>
              <a:path w="6376" h="3349">
                <a:moveTo>
                  <a:pt x="6747" y="17190"/>
                </a:moveTo>
                <a:cubicBezTo>
                  <a:pt x="6763" y="17173"/>
                  <a:pt x="6780" y="17157"/>
                  <a:pt x="6796" y="17140"/>
                </a:cubicBezTo>
                <a:cubicBezTo>
                  <a:pt x="6752" y="17299"/>
                  <a:pt x="6722" y="17345"/>
                  <a:pt x="6921" y="17264"/>
                </a:cubicBezTo>
                <a:cubicBezTo>
                  <a:pt x="6954" y="17247"/>
                  <a:pt x="6987" y="17231"/>
                  <a:pt x="7020" y="17214"/>
                </a:cubicBezTo>
              </a:path>
              <a:path w="6376" h="3349">
                <a:moveTo>
                  <a:pt x="6945" y="16867"/>
                </a:moveTo>
                <a:cubicBezTo>
                  <a:pt x="6898" y="17098"/>
                  <a:pt x="6861" y="17326"/>
                  <a:pt x="6846" y="17562"/>
                </a:cubicBezTo>
              </a:path>
              <a:path w="6376" h="3349">
                <a:moveTo>
                  <a:pt x="6573" y="17934"/>
                </a:moveTo>
                <a:cubicBezTo>
                  <a:pt x="6654" y="17893"/>
                  <a:pt x="6667" y="17876"/>
                  <a:pt x="6722" y="17884"/>
                </a:cubicBezTo>
                <a:cubicBezTo>
                  <a:pt x="6727" y="17983"/>
                  <a:pt x="6746" y="18182"/>
                  <a:pt x="6573" y="18182"/>
                </a:cubicBezTo>
                <a:cubicBezTo>
                  <a:pt x="6498" y="18182"/>
                  <a:pt x="6639" y="18164"/>
                  <a:pt x="6672" y="18231"/>
                </a:cubicBezTo>
              </a:path>
              <a:path w="6376" h="3349">
                <a:moveTo>
                  <a:pt x="6945" y="17785"/>
                </a:moveTo>
                <a:cubicBezTo>
                  <a:pt x="6796" y="17693"/>
                  <a:pt x="6679" y="17664"/>
                  <a:pt x="6499" y="17686"/>
                </a:cubicBezTo>
                <a:cubicBezTo>
                  <a:pt x="6325" y="17707"/>
                  <a:pt x="6181" y="18027"/>
                  <a:pt x="6176" y="18182"/>
                </a:cubicBezTo>
                <a:cubicBezTo>
                  <a:pt x="6165" y="18498"/>
                  <a:pt x="6614" y="18490"/>
                  <a:pt x="6796" y="18380"/>
                </a:cubicBezTo>
                <a:cubicBezTo>
                  <a:pt x="6949" y="18287"/>
                  <a:pt x="7127" y="18028"/>
                  <a:pt x="6970" y="17859"/>
                </a:cubicBezTo>
                <a:cubicBezTo>
                  <a:pt x="6937" y="17843"/>
                  <a:pt x="6904" y="17826"/>
                  <a:pt x="6871" y="1781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392880" y="5464080"/>
            <a:ext cx="2046240" cy="1270080"/>
          </a:xfrm>
          <a:custGeom>
            <a:avLst/>
            <a:gdLst/>
            <a:ahLst/>
            <a:rect l="l" t="t" r="r" b="b"/>
            <a:pathLst>
              <a:path w="5681" h="3524">
                <a:moveTo>
                  <a:pt x="22101" y="15230"/>
                </a:moveTo>
                <a:cubicBezTo>
                  <a:pt x="22095" y="15236"/>
                  <a:pt x="21866" y="15516"/>
                  <a:pt x="21779" y="15627"/>
                </a:cubicBezTo>
                <a:cubicBezTo>
                  <a:pt x="21927" y="15485"/>
                  <a:pt x="22040" y="15336"/>
                  <a:pt x="22175" y="15180"/>
                </a:cubicBezTo>
                <a:cubicBezTo>
                  <a:pt x="22277" y="15302"/>
                  <a:pt x="22301" y="15455"/>
                  <a:pt x="22324" y="15627"/>
                </a:cubicBezTo>
                <a:cubicBezTo>
                  <a:pt x="22324" y="15644"/>
                  <a:pt x="22324" y="15660"/>
                  <a:pt x="22324" y="15677"/>
                </a:cubicBezTo>
              </a:path>
              <a:path w="5681" h="3524">
                <a:moveTo>
                  <a:pt x="20985" y="15999"/>
                </a:moveTo>
                <a:cubicBezTo>
                  <a:pt x="21013" y="15942"/>
                  <a:pt x="21024" y="15919"/>
                  <a:pt x="21034" y="15875"/>
                </a:cubicBezTo>
                <a:cubicBezTo>
                  <a:pt x="20951" y="15773"/>
                  <a:pt x="20842" y="15847"/>
                  <a:pt x="20762" y="15949"/>
                </a:cubicBezTo>
                <a:cubicBezTo>
                  <a:pt x="20745" y="15982"/>
                  <a:pt x="20729" y="16016"/>
                  <a:pt x="20712" y="16049"/>
                </a:cubicBezTo>
                <a:cubicBezTo>
                  <a:pt x="20851" y="16024"/>
                  <a:pt x="20998" y="15857"/>
                  <a:pt x="20985" y="16024"/>
                </a:cubicBezTo>
                <a:cubicBezTo>
                  <a:pt x="20976" y="16146"/>
                  <a:pt x="20935" y="16237"/>
                  <a:pt x="20886" y="16346"/>
                </a:cubicBezTo>
              </a:path>
              <a:path w="5681" h="3524">
                <a:moveTo>
                  <a:pt x="21307" y="15925"/>
                </a:moveTo>
                <a:cubicBezTo>
                  <a:pt x="21241" y="16036"/>
                  <a:pt x="21216" y="16062"/>
                  <a:pt x="21233" y="16148"/>
                </a:cubicBezTo>
                <a:cubicBezTo>
                  <a:pt x="21349" y="16201"/>
                  <a:pt x="21598" y="16162"/>
                  <a:pt x="21555" y="15949"/>
                </a:cubicBezTo>
                <a:cubicBezTo>
                  <a:pt x="21482" y="15876"/>
                  <a:pt x="21460" y="15852"/>
                  <a:pt x="21382" y="15875"/>
                </a:cubicBezTo>
              </a:path>
              <a:path w="5681" h="3524">
                <a:moveTo>
                  <a:pt x="22597" y="15627"/>
                </a:moveTo>
                <a:cubicBezTo>
                  <a:pt x="22716" y="15615"/>
                  <a:pt x="22730" y="15616"/>
                  <a:pt x="22845" y="15652"/>
                </a:cubicBezTo>
                <a:cubicBezTo>
                  <a:pt x="22808" y="15839"/>
                  <a:pt x="22764" y="15930"/>
                  <a:pt x="22572" y="15999"/>
                </a:cubicBezTo>
                <a:cubicBezTo>
                  <a:pt x="22714" y="15858"/>
                  <a:pt x="22752" y="15872"/>
                  <a:pt x="22920" y="15974"/>
                </a:cubicBezTo>
              </a:path>
              <a:path w="5681" h="3524">
                <a:moveTo>
                  <a:pt x="22547" y="16148"/>
                </a:moveTo>
                <a:cubicBezTo>
                  <a:pt x="22878" y="16209"/>
                  <a:pt x="23135" y="16137"/>
                  <a:pt x="23341" y="15825"/>
                </a:cubicBezTo>
                <a:cubicBezTo>
                  <a:pt x="23435" y="15590"/>
                  <a:pt x="23469" y="15522"/>
                  <a:pt x="23416" y="15354"/>
                </a:cubicBezTo>
                <a:cubicBezTo>
                  <a:pt x="22897" y="15158"/>
                  <a:pt x="22407" y="15170"/>
                  <a:pt x="22200" y="15825"/>
                </a:cubicBezTo>
                <a:cubicBezTo>
                  <a:pt x="22224" y="16089"/>
                  <a:pt x="22226" y="16175"/>
                  <a:pt x="22423" y="16247"/>
                </a:cubicBezTo>
              </a:path>
              <a:path w="5681" h="3524">
                <a:moveTo>
                  <a:pt x="21010" y="16470"/>
                </a:moveTo>
                <a:cubicBezTo>
                  <a:pt x="20857" y="16584"/>
                  <a:pt x="20725" y="16730"/>
                  <a:pt x="20588" y="16867"/>
                </a:cubicBezTo>
                <a:cubicBezTo>
                  <a:pt x="20747" y="16740"/>
                  <a:pt x="20866" y="16528"/>
                  <a:pt x="21034" y="16421"/>
                </a:cubicBezTo>
                <a:cubicBezTo>
                  <a:pt x="21051" y="16421"/>
                  <a:pt x="21067" y="16421"/>
                  <a:pt x="21084" y="16421"/>
                </a:cubicBezTo>
                <a:cubicBezTo>
                  <a:pt x="21169" y="16529"/>
                  <a:pt x="21252" y="16653"/>
                  <a:pt x="21282" y="16793"/>
                </a:cubicBezTo>
                <a:cubicBezTo>
                  <a:pt x="21282" y="16837"/>
                  <a:pt x="21279" y="16851"/>
                  <a:pt x="21307" y="16867"/>
                </a:cubicBezTo>
              </a:path>
              <a:path w="5681" h="3524">
                <a:moveTo>
                  <a:pt x="20141" y="17016"/>
                </a:moveTo>
                <a:cubicBezTo>
                  <a:pt x="20170" y="16968"/>
                  <a:pt x="20181" y="16835"/>
                  <a:pt x="20092" y="16818"/>
                </a:cubicBezTo>
                <a:cubicBezTo>
                  <a:pt x="19929" y="16788"/>
                  <a:pt x="19886" y="17022"/>
                  <a:pt x="19893" y="17115"/>
                </a:cubicBezTo>
                <a:cubicBezTo>
                  <a:pt x="20007" y="17042"/>
                  <a:pt x="20094" y="16965"/>
                  <a:pt x="20191" y="16867"/>
                </a:cubicBezTo>
                <a:cubicBezTo>
                  <a:pt x="20175" y="17013"/>
                  <a:pt x="20151" y="17168"/>
                  <a:pt x="20117" y="17314"/>
                </a:cubicBezTo>
                <a:cubicBezTo>
                  <a:pt x="20109" y="17339"/>
                  <a:pt x="20100" y="17363"/>
                  <a:pt x="20092" y="17388"/>
                </a:cubicBezTo>
              </a:path>
              <a:path w="5681" h="3524">
                <a:moveTo>
                  <a:pt x="21282" y="16942"/>
                </a:moveTo>
                <a:cubicBezTo>
                  <a:pt x="21312" y="17082"/>
                  <a:pt x="21306" y="17177"/>
                  <a:pt x="21258" y="17314"/>
                </a:cubicBezTo>
              </a:path>
              <a:path w="5681" h="3524">
                <a:moveTo>
                  <a:pt x="21580" y="16867"/>
                </a:moveTo>
                <a:cubicBezTo>
                  <a:pt x="21554" y="16942"/>
                  <a:pt x="21409" y="17230"/>
                  <a:pt x="21630" y="17190"/>
                </a:cubicBezTo>
                <a:cubicBezTo>
                  <a:pt x="21761" y="17166"/>
                  <a:pt x="21818" y="16950"/>
                  <a:pt x="21679" y="16892"/>
                </a:cubicBezTo>
                <a:cubicBezTo>
                  <a:pt x="21663" y="16900"/>
                  <a:pt x="21646" y="16909"/>
                  <a:pt x="21630" y="16917"/>
                </a:cubicBezTo>
              </a:path>
              <a:path w="5681" h="3524">
                <a:moveTo>
                  <a:pt x="21754" y="17314"/>
                </a:moveTo>
                <a:cubicBezTo>
                  <a:pt x="21769" y="17405"/>
                  <a:pt x="21779" y="17472"/>
                  <a:pt x="21779" y="17562"/>
                </a:cubicBezTo>
                <a:cubicBezTo>
                  <a:pt x="21774" y="17457"/>
                  <a:pt x="21768" y="17389"/>
                  <a:pt x="21754" y="17289"/>
                </a:cubicBezTo>
                <a:cubicBezTo>
                  <a:pt x="21888" y="17299"/>
                  <a:pt x="22015" y="17332"/>
                  <a:pt x="22151" y="17338"/>
                </a:cubicBezTo>
                <a:cubicBezTo>
                  <a:pt x="22159" y="17338"/>
                  <a:pt x="22167" y="17338"/>
                  <a:pt x="22175" y="17338"/>
                </a:cubicBezTo>
              </a:path>
              <a:path w="5681" h="3524">
                <a:moveTo>
                  <a:pt x="21903" y="17661"/>
                </a:moveTo>
                <a:cubicBezTo>
                  <a:pt x="21864" y="17738"/>
                  <a:pt x="21779" y="17741"/>
                  <a:pt x="21729" y="17810"/>
                </a:cubicBezTo>
                <a:cubicBezTo>
                  <a:pt x="21684" y="17899"/>
                  <a:pt x="21671" y="17922"/>
                  <a:pt x="21654" y="17983"/>
                </a:cubicBezTo>
                <a:cubicBezTo>
                  <a:pt x="21726" y="17969"/>
                  <a:pt x="21773" y="17922"/>
                  <a:pt x="21853" y="17934"/>
                </a:cubicBezTo>
                <a:cubicBezTo>
                  <a:pt x="22113" y="17974"/>
                  <a:pt x="21879" y="18156"/>
                  <a:pt x="21779" y="18207"/>
                </a:cubicBezTo>
                <a:cubicBezTo>
                  <a:pt x="21625" y="18273"/>
                  <a:pt x="21589" y="18297"/>
                  <a:pt x="21481" y="18281"/>
                </a:cubicBezTo>
              </a:path>
              <a:path w="5681" h="3524">
                <a:moveTo>
                  <a:pt x="22473" y="17190"/>
                </a:moveTo>
                <a:cubicBezTo>
                  <a:pt x="22591" y="17190"/>
                  <a:pt x="22627" y="17185"/>
                  <a:pt x="22671" y="17264"/>
                </a:cubicBezTo>
                <a:cubicBezTo>
                  <a:pt x="22596" y="17469"/>
                  <a:pt x="22547" y="17525"/>
                  <a:pt x="22324" y="17512"/>
                </a:cubicBezTo>
                <a:cubicBezTo>
                  <a:pt x="22450" y="17480"/>
                  <a:pt x="22571" y="17477"/>
                  <a:pt x="22696" y="17512"/>
                </a:cubicBezTo>
              </a:path>
              <a:path w="5681" h="3524">
                <a:moveTo>
                  <a:pt x="22547" y="17735"/>
                </a:moveTo>
                <a:cubicBezTo>
                  <a:pt x="22791" y="17681"/>
                  <a:pt x="23011" y="17617"/>
                  <a:pt x="23044" y="17314"/>
                </a:cubicBezTo>
                <a:cubicBezTo>
                  <a:pt x="23081" y="16974"/>
                  <a:pt x="22752" y="16785"/>
                  <a:pt x="22448" y="16892"/>
                </a:cubicBezTo>
                <a:cubicBezTo>
                  <a:pt x="22220" y="16972"/>
                  <a:pt x="22100" y="17417"/>
                  <a:pt x="22151" y="17636"/>
                </a:cubicBezTo>
                <a:cubicBezTo>
                  <a:pt x="22232" y="17744"/>
                  <a:pt x="22267" y="17781"/>
                  <a:pt x="22374" y="17785"/>
                </a:cubicBezTo>
              </a:path>
              <a:path w="5681" h="3524">
                <a:moveTo>
                  <a:pt x="21679" y="18455"/>
                </a:moveTo>
                <a:cubicBezTo>
                  <a:pt x="21930" y="18403"/>
                  <a:pt x="22164" y="18340"/>
                  <a:pt x="22374" y="18182"/>
                </a:cubicBezTo>
                <a:cubicBezTo>
                  <a:pt x="22507" y="18082"/>
                  <a:pt x="22562" y="17853"/>
                  <a:pt x="22473" y="17711"/>
                </a:cubicBezTo>
                <a:cubicBezTo>
                  <a:pt x="22365" y="17537"/>
                  <a:pt x="22061" y="17522"/>
                  <a:pt x="21878" y="17512"/>
                </a:cubicBezTo>
                <a:cubicBezTo>
                  <a:pt x="21703" y="17502"/>
                  <a:pt x="21467" y="17576"/>
                  <a:pt x="21307" y="17636"/>
                </a:cubicBezTo>
                <a:cubicBezTo>
                  <a:pt x="21032" y="17740"/>
                  <a:pt x="20984" y="18009"/>
                  <a:pt x="21134" y="18256"/>
                </a:cubicBezTo>
                <a:cubicBezTo>
                  <a:pt x="21310" y="18546"/>
                  <a:pt x="21502" y="18417"/>
                  <a:pt x="21754" y="18355"/>
                </a:cubicBezTo>
              </a:path>
              <a:path w="5681" h="3524">
                <a:moveTo>
                  <a:pt x="19298" y="17661"/>
                </a:moveTo>
                <a:cubicBezTo>
                  <a:pt x="19397" y="17628"/>
                  <a:pt x="19495" y="17555"/>
                  <a:pt x="19596" y="17512"/>
                </a:cubicBezTo>
                <a:cubicBezTo>
                  <a:pt x="19700" y="17468"/>
                  <a:pt x="19756" y="17431"/>
                  <a:pt x="19794" y="17562"/>
                </a:cubicBezTo>
                <a:cubicBezTo>
                  <a:pt x="19826" y="17673"/>
                  <a:pt x="19784" y="17812"/>
                  <a:pt x="19844" y="17909"/>
                </a:cubicBezTo>
                <a:cubicBezTo>
                  <a:pt x="19852" y="17917"/>
                  <a:pt x="19861" y="17926"/>
                  <a:pt x="19869" y="17934"/>
                </a:cubicBezTo>
              </a:path>
              <a:path w="5681" h="3524">
                <a:moveTo>
                  <a:pt x="18579" y="17562"/>
                </a:moveTo>
                <a:cubicBezTo>
                  <a:pt x="18659" y="17517"/>
                  <a:pt x="18770" y="17415"/>
                  <a:pt x="18827" y="17537"/>
                </a:cubicBezTo>
                <a:cubicBezTo>
                  <a:pt x="18884" y="17661"/>
                  <a:pt x="18727" y="17767"/>
                  <a:pt x="18728" y="17735"/>
                </a:cubicBezTo>
                <a:cubicBezTo>
                  <a:pt x="18938" y="17724"/>
                  <a:pt x="19003" y="17796"/>
                  <a:pt x="18827" y="17983"/>
                </a:cubicBezTo>
                <a:cubicBezTo>
                  <a:pt x="18724" y="18066"/>
                  <a:pt x="18708" y="18091"/>
                  <a:pt x="18628" y="18107"/>
                </a:cubicBezTo>
              </a:path>
              <a:path w="5681" h="3524">
                <a:moveTo>
                  <a:pt x="19695" y="18231"/>
                </a:moveTo>
                <a:cubicBezTo>
                  <a:pt x="19746" y="18203"/>
                  <a:pt x="20042" y="18079"/>
                  <a:pt x="19918" y="18281"/>
                </a:cubicBezTo>
                <a:cubicBezTo>
                  <a:pt x="19855" y="18344"/>
                  <a:pt x="19845" y="18361"/>
                  <a:pt x="19794" y="18380"/>
                </a:cubicBezTo>
                <a:cubicBezTo>
                  <a:pt x="19925" y="18358"/>
                  <a:pt x="19980" y="18349"/>
                  <a:pt x="20092" y="18405"/>
                </a:cubicBezTo>
                <a:cubicBezTo>
                  <a:pt x="19970" y="18519"/>
                  <a:pt x="19914" y="18538"/>
                  <a:pt x="19745" y="18579"/>
                </a:cubicBezTo>
              </a:path>
              <a:path w="5681" h="3524">
                <a:moveTo>
                  <a:pt x="19968" y="17909"/>
                </a:moveTo>
                <a:cubicBezTo>
                  <a:pt x="19634" y="18159"/>
                  <a:pt x="19476" y="18255"/>
                  <a:pt x="19596" y="18653"/>
                </a:cubicBezTo>
                <a:cubicBezTo>
                  <a:pt x="20032" y="18685"/>
                  <a:pt x="20205" y="18651"/>
                  <a:pt x="20439" y="18281"/>
                </a:cubicBezTo>
                <a:cubicBezTo>
                  <a:pt x="20257" y="17942"/>
                  <a:pt x="20238" y="17986"/>
                  <a:pt x="19844" y="17934"/>
                </a:cubicBezTo>
              </a:path>
              <a:path w="5681" h="3524">
                <a:moveTo>
                  <a:pt x="17884" y="18455"/>
                </a:moveTo>
                <a:cubicBezTo>
                  <a:pt x="18252" y="18549"/>
                  <a:pt x="18542" y="18523"/>
                  <a:pt x="18876" y="18306"/>
                </a:cubicBezTo>
                <a:cubicBezTo>
                  <a:pt x="19108" y="18155"/>
                  <a:pt x="19416" y="17655"/>
                  <a:pt x="19075" y="17438"/>
                </a:cubicBezTo>
                <a:cubicBezTo>
                  <a:pt x="18814" y="17272"/>
                  <a:pt x="18170" y="17374"/>
                  <a:pt x="17909" y="17512"/>
                </a:cubicBezTo>
                <a:cubicBezTo>
                  <a:pt x="17612" y="17669"/>
                  <a:pt x="17813" y="18225"/>
                  <a:pt x="17934" y="18430"/>
                </a:cubicBezTo>
                <a:cubicBezTo>
                  <a:pt x="17992" y="18488"/>
                  <a:pt x="18049" y="18546"/>
                  <a:pt x="18107" y="1860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626160" y="4697280"/>
            <a:ext cx="1455840" cy="893880"/>
          </a:xfrm>
          <a:custGeom>
            <a:avLst/>
            <a:gdLst/>
            <a:ahLst/>
            <a:rect l="l" t="t" r="r" b="b"/>
            <a:pathLst>
              <a:path w="4044" h="2482">
                <a:moveTo>
                  <a:pt x="20141" y="13791"/>
                </a:moveTo>
                <a:cubicBezTo>
                  <a:pt x="20040" y="13791"/>
                  <a:pt x="20246" y="13730"/>
                  <a:pt x="20340" y="13767"/>
                </a:cubicBezTo>
                <a:cubicBezTo>
                  <a:pt x="20365" y="13792"/>
                  <a:pt x="20389" y="13816"/>
                  <a:pt x="20414" y="13841"/>
                </a:cubicBezTo>
                <a:cubicBezTo>
                  <a:pt x="20376" y="13918"/>
                  <a:pt x="20090" y="14338"/>
                  <a:pt x="20191" y="14139"/>
                </a:cubicBezTo>
                <a:cubicBezTo>
                  <a:pt x="20433" y="14177"/>
                  <a:pt x="20530" y="14297"/>
                  <a:pt x="20315" y="14511"/>
                </a:cubicBezTo>
                <a:cubicBezTo>
                  <a:pt x="20174" y="14604"/>
                  <a:pt x="20135" y="14637"/>
                  <a:pt x="20017" y="14610"/>
                </a:cubicBezTo>
              </a:path>
              <a:path w="4044" h="2482">
                <a:moveTo>
                  <a:pt x="20513" y="13395"/>
                </a:moveTo>
                <a:cubicBezTo>
                  <a:pt x="20678" y="13346"/>
                  <a:pt x="20903" y="13382"/>
                  <a:pt x="20811" y="13643"/>
                </a:cubicBezTo>
                <a:cubicBezTo>
                  <a:pt x="20755" y="13802"/>
                  <a:pt x="20662" y="13806"/>
                  <a:pt x="20563" y="13767"/>
                </a:cubicBezTo>
                <a:cubicBezTo>
                  <a:pt x="20636" y="13620"/>
                  <a:pt x="20610" y="13658"/>
                  <a:pt x="20786" y="13717"/>
                </a:cubicBezTo>
              </a:path>
              <a:path w="4044" h="2482">
                <a:moveTo>
                  <a:pt x="19521" y="14114"/>
                </a:moveTo>
                <a:cubicBezTo>
                  <a:pt x="19672" y="14178"/>
                  <a:pt x="19704" y="14304"/>
                  <a:pt x="19794" y="14436"/>
                </a:cubicBezTo>
                <a:cubicBezTo>
                  <a:pt x="19802" y="14444"/>
                  <a:pt x="19811" y="14453"/>
                  <a:pt x="19819" y="14461"/>
                </a:cubicBezTo>
              </a:path>
              <a:path w="4044" h="2482">
                <a:moveTo>
                  <a:pt x="19670" y="14064"/>
                </a:moveTo>
                <a:cubicBezTo>
                  <a:pt x="19639" y="14234"/>
                  <a:pt x="19608" y="14389"/>
                  <a:pt x="19596" y="14560"/>
                </a:cubicBezTo>
              </a:path>
              <a:path w="4044" h="2482">
                <a:moveTo>
                  <a:pt x="18852" y="14163"/>
                </a:moveTo>
                <a:cubicBezTo>
                  <a:pt x="18924" y="14048"/>
                  <a:pt x="19026" y="13934"/>
                  <a:pt x="19174" y="14064"/>
                </a:cubicBezTo>
                <a:cubicBezTo>
                  <a:pt x="19374" y="14239"/>
                  <a:pt x="19327" y="14646"/>
                  <a:pt x="19100" y="14784"/>
                </a:cubicBezTo>
                <a:cubicBezTo>
                  <a:pt x="19059" y="14784"/>
                  <a:pt x="19017" y="14784"/>
                  <a:pt x="18976" y="14784"/>
                </a:cubicBezTo>
                <a:cubicBezTo>
                  <a:pt x="18917" y="14662"/>
                  <a:pt x="18751" y="14271"/>
                  <a:pt x="19075" y="14387"/>
                </a:cubicBezTo>
                <a:cubicBezTo>
                  <a:pt x="19210" y="14435"/>
                  <a:pt x="19278" y="14514"/>
                  <a:pt x="19372" y="14610"/>
                </a:cubicBezTo>
              </a:path>
              <a:path w="4044" h="2482">
                <a:moveTo>
                  <a:pt x="19174" y="13618"/>
                </a:moveTo>
                <a:cubicBezTo>
                  <a:pt x="19288" y="13618"/>
                  <a:pt x="19461" y="13619"/>
                  <a:pt x="19496" y="13767"/>
                </a:cubicBezTo>
                <a:cubicBezTo>
                  <a:pt x="19549" y="13996"/>
                  <a:pt x="19324" y="13977"/>
                  <a:pt x="19224" y="13915"/>
                </a:cubicBezTo>
                <a:cubicBezTo>
                  <a:pt x="19336" y="13820"/>
                  <a:pt x="19437" y="13902"/>
                  <a:pt x="19571" y="13965"/>
                </a:cubicBezTo>
              </a:path>
              <a:path w="4044" h="2482">
                <a:moveTo>
                  <a:pt x="20811" y="13965"/>
                </a:moveTo>
                <a:cubicBezTo>
                  <a:pt x="20873" y="14099"/>
                  <a:pt x="20949" y="14224"/>
                  <a:pt x="21010" y="14362"/>
                </a:cubicBezTo>
                <a:cubicBezTo>
                  <a:pt x="21018" y="14379"/>
                  <a:pt x="21026" y="14395"/>
                  <a:pt x="21034" y="14412"/>
                </a:cubicBezTo>
              </a:path>
              <a:path w="4044" h="2482">
                <a:moveTo>
                  <a:pt x="20935" y="14015"/>
                </a:moveTo>
                <a:cubicBezTo>
                  <a:pt x="20888" y="14143"/>
                  <a:pt x="20853" y="14261"/>
                  <a:pt x="20811" y="14387"/>
                </a:cubicBezTo>
              </a:path>
              <a:path w="4044" h="2482">
                <a:moveTo>
                  <a:pt x="21481" y="13618"/>
                </a:moveTo>
                <a:cubicBezTo>
                  <a:pt x="21296" y="13659"/>
                  <a:pt x="21294" y="13639"/>
                  <a:pt x="21258" y="13816"/>
                </a:cubicBezTo>
                <a:cubicBezTo>
                  <a:pt x="21240" y="13907"/>
                  <a:pt x="21231" y="13914"/>
                  <a:pt x="21233" y="13965"/>
                </a:cubicBezTo>
                <a:cubicBezTo>
                  <a:pt x="21366" y="13944"/>
                  <a:pt x="21547" y="13812"/>
                  <a:pt x="21654" y="13965"/>
                </a:cubicBezTo>
                <a:cubicBezTo>
                  <a:pt x="21795" y="14167"/>
                  <a:pt x="21485" y="14270"/>
                  <a:pt x="21382" y="14337"/>
                </a:cubicBezTo>
              </a:path>
              <a:path w="4044" h="2482">
                <a:moveTo>
                  <a:pt x="19149" y="15528"/>
                </a:moveTo>
                <a:cubicBezTo>
                  <a:pt x="19358" y="15437"/>
                  <a:pt x="19564" y="15391"/>
                  <a:pt x="19794" y="15329"/>
                </a:cubicBezTo>
                <a:cubicBezTo>
                  <a:pt x="20173" y="15226"/>
                  <a:pt x="20572" y="15156"/>
                  <a:pt x="20935" y="15007"/>
                </a:cubicBezTo>
                <a:cubicBezTo>
                  <a:pt x="21270" y="14870"/>
                  <a:pt x="21624" y="14738"/>
                  <a:pt x="21927" y="14536"/>
                </a:cubicBezTo>
                <a:cubicBezTo>
                  <a:pt x="22078" y="14436"/>
                  <a:pt x="22175" y="14291"/>
                  <a:pt x="22299" y="14163"/>
                </a:cubicBezTo>
                <a:cubicBezTo>
                  <a:pt x="22411" y="14048"/>
                  <a:pt x="22501" y="13856"/>
                  <a:pt x="22423" y="13692"/>
                </a:cubicBezTo>
                <a:cubicBezTo>
                  <a:pt x="22296" y="13425"/>
                  <a:pt x="21882" y="13275"/>
                  <a:pt x="21630" y="13196"/>
                </a:cubicBezTo>
                <a:cubicBezTo>
                  <a:pt x="21301" y="13093"/>
                  <a:pt x="20910" y="13010"/>
                  <a:pt x="20563" y="13047"/>
                </a:cubicBezTo>
                <a:cubicBezTo>
                  <a:pt x="20269" y="13078"/>
                  <a:pt x="19986" y="13213"/>
                  <a:pt x="19695" y="13246"/>
                </a:cubicBezTo>
                <a:cubicBezTo>
                  <a:pt x="19422" y="13277"/>
                  <a:pt x="19229" y="13317"/>
                  <a:pt x="18976" y="13419"/>
                </a:cubicBezTo>
                <a:cubicBezTo>
                  <a:pt x="18764" y="13505"/>
                  <a:pt x="18631" y="13626"/>
                  <a:pt x="18529" y="13841"/>
                </a:cubicBezTo>
                <a:cubicBezTo>
                  <a:pt x="18443" y="14023"/>
                  <a:pt x="18375" y="14236"/>
                  <a:pt x="18430" y="14436"/>
                </a:cubicBezTo>
                <a:cubicBezTo>
                  <a:pt x="18488" y="14649"/>
                  <a:pt x="18610" y="14928"/>
                  <a:pt x="18827" y="15007"/>
                </a:cubicBezTo>
                <a:cubicBezTo>
                  <a:pt x="19077" y="15098"/>
                  <a:pt x="19412" y="15074"/>
                  <a:pt x="19670" y="15032"/>
                </a:cubicBezTo>
                <a:cubicBezTo>
                  <a:pt x="19811" y="15009"/>
                  <a:pt x="19956" y="14965"/>
                  <a:pt x="20092" y="1493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ite in standard form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  (5 10) + (7 10) + (2 10) + (8 10) + (6 10º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.  (9 10) + (7 10) + (8 10) + (4 10º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.  (7 10) + (5 10) + (8 10) + (7 10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 the equivalent decimal and percent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.  1/4                             16.  5/20                           17.  4/5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der the numbers from least to greatest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.  3/4, 0.77, 4/5,  0.07                      19.  0.06,  3/5,  33/50,  0.7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.  8/10,  0.888,  9/20,  0.0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44720" y="892080"/>
            <a:ext cx="733320" cy="716040"/>
          </a:xfrm>
          <a:custGeom>
            <a:avLst/>
            <a:gdLst/>
            <a:ahLst/>
            <a:rect l="l" t="t" r="r" b="b"/>
            <a:pathLst>
              <a:path w="2035" h="1986">
                <a:moveTo>
                  <a:pt x="4093" y="3076"/>
                </a:moveTo>
                <a:cubicBezTo>
                  <a:pt x="4076" y="3076"/>
                  <a:pt x="4060" y="3076"/>
                  <a:pt x="4043" y="3076"/>
                </a:cubicBezTo>
              </a:path>
              <a:path w="2035" h="1986">
                <a:moveTo>
                  <a:pt x="4862" y="2480"/>
                </a:moveTo>
                <a:cubicBezTo>
                  <a:pt x="4841" y="2489"/>
                  <a:pt x="4690" y="2527"/>
                  <a:pt x="4688" y="2530"/>
                </a:cubicBezTo>
                <a:cubicBezTo>
                  <a:pt x="4652" y="2620"/>
                  <a:pt x="4635" y="2625"/>
                  <a:pt x="4638" y="2679"/>
                </a:cubicBezTo>
                <a:cubicBezTo>
                  <a:pt x="4723" y="2651"/>
                  <a:pt x="4786" y="2608"/>
                  <a:pt x="4862" y="2654"/>
                </a:cubicBezTo>
                <a:cubicBezTo>
                  <a:pt x="4813" y="2732"/>
                  <a:pt x="4798" y="2739"/>
                  <a:pt x="4713" y="2778"/>
                </a:cubicBezTo>
              </a:path>
              <a:path w="2035" h="1986">
                <a:moveTo>
                  <a:pt x="3448" y="3373"/>
                </a:moveTo>
                <a:cubicBezTo>
                  <a:pt x="3232" y="3373"/>
                  <a:pt x="3173" y="3315"/>
                  <a:pt x="3076" y="3497"/>
                </a:cubicBezTo>
                <a:cubicBezTo>
                  <a:pt x="3068" y="3522"/>
                  <a:pt x="3059" y="3547"/>
                  <a:pt x="3051" y="3572"/>
                </a:cubicBezTo>
                <a:cubicBezTo>
                  <a:pt x="3203" y="3572"/>
                  <a:pt x="3266" y="3573"/>
                  <a:pt x="3373" y="3671"/>
                </a:cubicBezTo>
                <a:cubicBezTo>
                  <a:pt x="3280" y="3814"/>
                  <a:pt x="3162" y="3866"/>
                  <a:pt x="2977" y="3845"/>
                </a:cubicBezTo>
                <a:cubicBezTo>
                  <a:pt x="2952" y="3837"/>
                  <a:pt x="2927" y="3828"/>
                  <a:pt x="2902" y="3820"/>
                </a:cubicBezTo>
              </a:path>
              <a:path w="2035" h="1986">
                <a:moveTo>
                  <a:pt x="3597" y="3547"/>
                </a:moveTo>
                <a:cubicBezTo>
                  <a:pt x="3597" y="3512"/>
                  <a:pt x="3601" y="3495"/>
                  <a:pt x="3621" y="3473"/>
                </a:cubicBezTo>
                <a:cubicBezTo>
                  <a:pt x="3538" y="3545"/>
                  <a:pt x="3425" y="3703"/>
                  <a:pt x="3621" y="3721"/>
                </a:cubicBezTo>
                <a:cubicBezTo>
                  <a:pt x="3710" y="3729"/>
                  <a:pt x="3734" y="3543"/>
                  <a:pt x="3646" y="3522"/>
                </a:cubicBezTo>
                <a:cubicBezTo>
                  <a:pt x="3621" y="3522"/>
                  <a:pt x="3597" y="3522"/>
                  <a:pt x="3572" y="3522"/>
                </a:cubicBezTo>
              </a:path>
              <a:path w="2035" h="1986">
                <a:moveTo>
                  <a:pt x="3994" y="3497"/>
                </a:moveTo>
                <a:cubicBezTo>
                  <a:pt x="3880" y="3546"/>
                  <a:pt x="3903" y="3610"/>
                  <a:pt x="3994" y="3671"/>
                </a:cubicBezTo>
                <a:cubicBezTo>
                  <a:pt x="4037" y="3584"/>
                  <a:pt x="4074" y="3523"/>
                  <a:pt x="3944" y="3497"/>
                </a:cubicBezTo>
                <a:cubicBezTo>
                  <a:pt x="3919" y="3497"/>
                  <a:pt x="3895" y="3497"/>
                  <a:pt x="3870" y="3497"/>
                </a:cubicBezTo>
              </a:path>
              <a:path w="2035" h="1986">
                <a:moveTo>
                  <a:pt x="4242" y="3497"/>
                </a:moveTo>
                <a:cubicBezTo>
                  <a:pt x="4124" y="3523"/>
                  <a:pt x="4116" y="3564"/>
                  <a:pt x="4068" y="3671"/>
                </a:cubicBezTo>
                <a:cubicBezTo>
                  <a:pt x="4106" y="3668"/>
                  <a:pt x="4410" y="3619"/>
                  <a:pt x="4266" y="3522"/>
                </a:cubicBezTo>
                <a:cubicBezTo>
                  <a:pt x="4233" y="3514"/>
                  <a:pt x="4200" y="3505"/>
                  <a:pt x="4167" y="3497"/>
                </a:cubicBezTo>
              </a:path>
              <a:path w="2035" h="1986">
                <a:moveTo>
                  <a:pt x="4415" y="3497"/>
                </a:moveTo>
                <a:cubicBezTo>
                  <a:pt x="4351" y="3601"/>
                  <a:pt x="4331" y="3651"/>
                  <a:pt x="4316" y="3770"/>
                </a:cubicBezTo>
                <a:cubicBezTo>
                  <a:pt x="4411" y="3777"/>
                  <a:pt x="4676" y="3746"/>
                  <a:pt x="4564" y="3572"/>
                </a:cubicBezTo>
                <a:cubicBezTo>
                  <a:pt x="4487" y="3520"/>
                  <a:pt x="4459" y="3503"/>
                  <a:pt x="4390" y="3522"/>
                </a:cubicBezTo>
              </a:path>
              <a:path w="2035" h="1986">
                <a:moveTo>
                  <a:pt x="4812" y="3497"/>
                </a:moveTo>
                <a:cubicBezTo>
                  <a:pt x="4748" y="3553"/>
                  <a:pt x="4730" y="3584"/>
                  <a:pt x="4713" y="3671"/>
                </a:cubicBezTo>
                <a:cubicBezTo>
                  <a:pt x="4767" y="3710"/>
                  <a:pt x="4986" y="3709"/>
                  <a:pt x="4936" y="3547"/>
                </a:cubicBezTo>
                <a:cubicBezTo>
                  <a:pt x="4911" y="3522"/>
                  <a:pt x="4887" y="3498"/>
                  <a:pt x="4862" y="3473"/>
                </a:cubicBezTo>
              </a:path>
              <a:path w="2035" h="1986">
                <a:moveTo>
                  <a:pt x="4068" y="3770"/>
                </a:moveTo>
                <a:cubicBezTo>
                  <a:pt x="4036" y="3791"/>
                  <a:pt x="4004" y="3913"/>
                  <a:pt x="3969" y="3969"/>
                </a:cubicBezTo>
                <a:cubicBezTo>
                  <a:pt x="3927" y="4032"/>
                  <a:pt x="3923" y="4057"/>
                  <a:pt x="3870" y="4043"/>
                </a:cubicBezTo>
              </a:path>
              <a:path w="2035" h="1986">
                <a:moveTo>
                  <a:pt x="4043" y="4465"/>
                </a:moveTo>
                <a:lnTo>
                  <a:pt x="4043" y="4465"/>
                </a:lnTo>
              </a:path>
              <a:path w="2035" h="1986">
                <a:moveTo>
                  <a:pt x="4812" y="3994"/>
                </a:moveTo>
                <a:cubicBezTo>
                  <a:pt x="4747" y="4081"/>
                  <a:pt x="4708" y="4109"/>
                  <a:pt x="4812" y="4118"/>
                </a:cubicBezTo>
              </a:path>
              <a:path w="2035" h="1986">
                <a:moveTo>
                  <a:pt x="4862" y="3944"/>
                </a:moveTo>
                <a:cubicBezTo>
                  <a:pt x="4862" y="4035"/>
                  <a:pt x="4862" y="4126"/>
                  <a:pt x="4862" y="421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071800" y="1258920"/>
            <a:ext cx="642960" cy="196920"/>
          </a:xfrm>
          <a:custGeom>
            <a:avLst/>
            <a:gdLst/>
            <a:ahLst/>
            <a:rect l="l" t="t" r="r" b="b"/>
            <a:pathLst>
              <a:path w="1787" h="547">
                <a:moveTo>
                  <a:pt x="5755" y="3547"/>
                </a:moveTo>
                <a:cubicBezTo>
                  <a:pt x="5842" y="3527"/>
                  <a:pt x="5913" y="3522"/>
                  <a:pt x="6003" y="3522"/>
                </a:cubicBezTo>
                <a:cubicBezTo>
                  <a:pt x="5971" y="3629"/>
                  <a:pt x="5922" y="3735"/>
                  <a:pt x="5904" y="3845"/>
                </a:cubicBezTo>
              </a:path>
              <a:path w="1787" h="547">
                <a:moveTo>
                  <a:pt x="6325" y="3497"/>
                </a:moveTo>
                <a:cubicBezTo>
                  <a:pt x="6202" y="3538"/>
                  <a:pt x="6176" y="3631"/>
                  <a:pt x="6127" y="3746"/>
                </a:cubicBezTo>
                <a:cubicBezTo>
                  <a:pt x="6251" y="3782"/>
                  <a:pt x="6415" y="3789"/>
                  <a:pt x="6449" y="3621"/>
                </a:cubicBezTo>
                <a:cubicBezTo>
                  <a:pt x="6478" y="3477"/>
                  <a:pt x="6281" y="3540"/>
                  <a:pt x="6226" y="3547"/>
                </a:cubicBezTo>
              </a:path>
              <a:path w="1787" h="547">
                <a:moveTo>
                  <a:pt x="6672" y="3522"/>
                </a:moveTo>
                <a:cubicBezTo>
                  <a:pt x="6604" y="3619"/>
                  <a:pt x="6582" y="3678"/>
                  <a:pt x="6548" y="3795"/>
                </a:cubicBezTo>
                <a:cubicBezTo>
                  <a:pt x="6597" y="3795"/>
                  <a:pt x="7043" y="3721"/>
                  <a:pt x="6796" y="3597"/>
                </a:cubicBezTo>
                <a:cubicBezTo>
                  <a:pt x="6755" y="3589"/>
                  <a:pt x="6713" y="3580"/>
                  <a:pt x="6672" y="3572"/>
                </a:cubicBezTo>
              </a:path>
              <a:path w="1787" h="547">
                <a:moveTo>
                  <a:pt x="6970" y="3597"/>
                </a:moveTo>
                <a:cubicBezTo>
                  <a:pt x="6870" y="3684"/>
                  <a:pt x="6888" y="3692"/>
                  <a:pt x="6896" y="3820"/>
                </a:cubicBezTo>
                <a:cubicBezTo>
                  <a:pt x="6986" y="3862"/>
                  <a:pt x="7247" y="3901"/>
                  <a:pt x="7218" y="3696"/>
                </a:cubicBezTo>
                <a:cubicBezTo>
                  <a:pt x="7143" y="3596"/>
                  <a:pt x="7118" y="3563"/>
                  <a:pt x="7020" y="3572"/>
                </a:cubicBezTo>
              </a:path>
              <a:path w="1787" h="547">
                <a:moveTo>
                  <a:pt x="7342" y="3547"/>
                </a:moveTo>
                <a:cubicBezTo>
                  <a:pt x="7252" y="3637"/>
                  <a:pt x="7222" y="3658"/>
                  <a:pt x="7218" y="3746"/>
                </a:cubicBezTo>
                <a:cubicBezTo>
                  <a:pt x="7342" y="3819"/>
                  <a:pt x="7495" y="3806"/>
                  <a:pt x="7541" y="3621"/>
                </a:cubicBezTo>
                <a:cubicBezTo>
                  <a:pt x="7533" y="3596"/>
                  <a:pt x="7524" y="3572"/>
                  <a:pt x="7516" y="3547"/>
                </a:cubicBezTo>
              </a:path>
              <a:path w="1787" h="547">
                <a:moveTo>
                  <a:pt x="6325" y="3845"/>
                </a:moveTo>
                <a:cubicBezTo>
                  <a:pt x="6358" y="3943"/>
                  <a:pt x="6306" y="3979"/>
                  <a:pt x="6226" y="404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901960" y="1231920"/>
            <a:ext cx="546120" cy="233280"/>
          </a:xfrm>
          <a:custGeom>
            <a:avLst/>
            <a:gdLst/>
            <a:ahLst/>
            <a:rect l="l" t="t" r="r" b="b"/>
            <a:pathLst>
              <a:path w="1514" h="646">
                <a:moveTo>
                  <a:pt x="8161" y="3522"/>
                </a:moveTo>
                <a:cubicBezTo>
                  <a:pt x="8236" y="3472"/>
                  <a:pt x="8322" y="3378"/>
                  <a:pt x="8409" y="3448"/>
                </a:cubicBezTo>
                <a:cubicBezTo>
                  <a:pt x="8509" y="3528"/>
                  <a:pt x="8323" y="3616"/>
                  <a:pt x="8285" y="3646"/>
                </a:cubicBezTo>
                <a:cubicBezTo>
                  <a:pt x="8218" y="3701"/>
                  <a:pt x="8154" y="3744"/>
                  <a:pt x="8086" y="3795"/>
                </a:cubicBezTo>
                <a:cubicBezTo>
                  <a:pt x="8078" y="3803"/>
                  <a:pt x="8070" y="3812"/>
                  <a:pt x="8062" y="3820"/>
                </a:cubicBezTo>
                <a:cubicBezTo>
                  <a:pt x="8157" y="3839"/>
                  <a:pt x="8238" y="3765"/>
                  <a:pt x="8310" y="3770"/>
                </a:cubicBezTo>
                <a:cubicBezTo>
                  <a:pt x="8350" y="3790"/>
                  <a:pt x="8356" y="3799"/>
                  <a:pt x="8384" y="3795"/>
                </a:cubicBezTo>
              </a:path>
              <a:path w="1514" h="646">
                <a:moveTo>
                  <a:pt x="8731" y="3572"/>
                </a:moveTo>
                <a:cubicBezTo>
                  <a:pt x="8593" y="3572"/>
                  <a:pt x="8550" y="3595"/>
                  <a:pt x="8533" y="3746"/>
                </a:cubicBezTo>
                <a:cubicBezTo>
                  <a:pt x="8680" y="3813"/>
                  <a:pt x="8778" y="3825"/>
                  <a:pt x="8830" y="3646"/>
                </a:cubicBezTo>
                <a:cubicBezTo>
                  <a:pt x="8853" y="3567"/>
                  <a:pt x="8758" y="3551"/>
                  <a:pt x="8706" y="3522"/>
                </a:cubicBezTo>
              </a:path>
              <a:path w="1514" h="646">
                <a:moveTo>
                  <a:pt x="9079" y="3522"/>
                </a:moveTo>
                <a:cubicBezTo>
                  <a:pt x="8997" y="3491"/>
                  <a:pt x="8874" y="3499"/>
                  <a:pt x="8855" y="3621"/>
                </a:cubicBezTo>
                <a:cubicBezTo>
                  <a:pt x="8863" y="3646"/>
                  <a:pt x="8872" y="3671"/>
                  <a:pt x="8880" y="3696"/>
                </a:cubicBezTo>
                <a:cubicBezTo>
                  <a:pt x="8936" y="3711"/>
                  <a:pt x="9254" y="3732"/>
                  <a:pt x="9178" y="3572"/>
                </a:cubicBezTo>
                <a:cubicBezTo>
                  <a:pt x="9091" y="3506"/>
                  <a:pt x="9073" y="3486"/>
                  <a:pt x="9004" y="3473"/>
                </a:cubicBezTo>
              </a:path>
              <a:path w="1514" h="646">
                <a:moveTo>
                  <a:pt x="9451" y="3497"/>
                </a:moveTo>
                <a:cubicBezTo>
                  <a:pt x="9317" y="3531"/>
                  <a:pt x="9281" y="3578"/>
                  <a:pt x="9252" y="3721"/>
                </a:cubicBezTo>
                <a:cubicBezTo>
                  <a:pt x="9323" y="3731"/>
                  <a:pt x="9634" y="3747"/>
                  <a:pt x="9575" y="3572"/>
                </a:cubicBezTo>
                <a:cubicBezTo>
                  <a:pt x="9550" y="3547"/>
                  <a:pt x="9525" y="3522"/>
                  <a:pt x="9500" y="3497"/>
                </a:cubicBezTo>
              </a:path>
              <a:path w="1514" h="646">
                <a:moveTo>
                  <a:pt x="8334" y="3795"/>
                </a:moveTo>
                <a:cubicBezTo>
                  <a:pt x="8380" y="3887"/>
                  <a:pt x="8355" y="3978"/>
                  <a:pt x="8260" y="4043"/>
                </a:cubicBezTo>
                <a:cubicBezTo>
                  <a:pt x="8235" y="4051"/>
                  <a:pt x="8211" y="4060"/>
                  <a:pt x="8186" y="406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40120" y="1224000"/>
            <a:ext cx="428760" cy="115920"/>
          </a:xfrm>
          <a:custGeom>
            <a:avLst/>
            <a:gdLst/>
            <a:ahLst/>
            <a:rect l="l" t="t" r="r" b="b"/>
            <a:pathLst>
              <a:path w="1192" h="324">
                <a:moveTo>
                  <a:pt x="10964" y="3448"/>
                </a:moveTo>
                <a:cubicBezTo>
                  <a:pt x="10851" y="3403"/>
                  <a:pt x="10781" y="3388"/>
                  <a:pt x="10666" y="3423"/>
                </a:cubicBezTo>
                <a:cubicBezTo>
                  <a:pt x="10702" y="3451"/>
                  <a:pt x="11042" y="3638"/>
                  <a:pt x="10988" y="3696"/>
                </a:cubicBezTo>
                <a:cubicBezTo>
                  <a:pt x="10955" y="3704"/>
                  <a:pt x="10922" y="3713"/>
                  <a:pt x="10889" y="3721"/>
                </a:cubicBezTo>
                <a:cubicBezTo>
                  <a:pt x="10584" y="3670"/>
                  <a:pt x="10827" y="3579"/>
                  <a:pt x="10988" y="3448"/>
                </a:cubicBezTo>
                <a:cubicBezTo>
                  <a:pt x="11005" y="3431"/>
                  <a:pt x="11021" y="3415"/>
                  <a:pt x="11038" y="3398"/>
                </a:cubicBezTo>
              </a:path>
              <a:path w="1192" h="324">
                <a:moveTo>
                  <a:pt x="11410" y="3398"/>
                </a:moveTo>
                <a:cubicBezTo>
                  <a:pt x="11291" y="3411"/>
                  <a:pt x="11221" y="3447"/>
                  <a:pt x="11187" y="3572"/>
                </a:cubicBezTo>
                <a:cubicBezTo>
                  <a:pt x="11187" y="3588"/>
                  <a:pt x="11187" y="3605"/>
                  <a:pt x="11187" y="3621"/>
                </a:cubicBezTo>
                <a:cubicBezTo>
                  <a:pt x="11264" y="3631"/>
                  <a:pt x="11517" y="3665"/>
                  <a:pt x="11460" y="3497"/>
                </a:cubicBezTo>
                <a:cubicBezTo>
                  <a:pt x="11440" y="3437"/>
                  <a:pt x="11381" y="3430"/>
                  <a:pt x="11336" y="3423"/>
                </a:cubicBezTo>
              </a:path>
              <a:path w="1192" h="324">
                <a:moveTo>
                  <a:pt x="11733" y="3473"/>
                </a:moveTo>
                <a:cubicBezTo>
                  <a:pt x="11638" y="3504"/>
                  <a:pt x="11630" y="3530"/>
                  <a:pt x="11584" y="3621"/>
                </a:cubicBezTo>
                <a:cubicBezTo>
                  <a:pt x="11694" y="3638"/>
                  <a:pt x="11758" y="3658"/>
                  <a:pt x="11857" y="3621"/>
                </a:cubicBezTo>
                <a:cubicBezTo>
                  <a:pt x="11834" y="3496"/>
                  <a:pt x="11829" y="3517"/>
                  <a:pt x="11708" y="344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64000" y="1133640"/>
            <a:ext cx="28800" cy="9360"/>
          </a:xfrm>
          <a:custGeom>
            <a:avLst/>
            <a:gdLst/>
            <a:ahLst/>
            <a:rect l="l" t="t" r="r" b="b"/>
            <a:pathLst>
              <a:path w="76" h="26">
                <a:moveTo>
                  <a:pt x="12402" y="3175"/>
                </a:moveTo>
                <a:cubicBezTo>
                  <a:pt x="12427" y="3167"/>
                  <a:pt x="12452" y="3158"/>
                  <a:pt x="12477" y="315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884840" y="1098720"/>
            <a:ext cx="179280" cy="250560"/>
          </a:xfrm>
          <a:custGeom>
            <a:avLst/>
            <a:gdLst/>
            <a:ahLst/>
            <a:rect l="l" t="t" r="r" b="b"/>
            <a:pathLst>
              <a:path w="497" h="696">
                <a:moveTo>
                  <a:pt x="13667" y="3051"/>
                </a:moveTo>
                <a:lnTo>
                  <a:pt x="13667" y="3051"/>
                </a:lnTo>
              </a:path>
              <a:path w="497" h="696">
                <a:moveTo>
                  <a:pt x="13791" y="3274"/>
                </a:moveTo>
                <a:cubicBezTo>
                  <a:pt x="13699" y="3344"/>
                  <a:pt x="13651" y="3444"/>
                  <a:pt x="13593" y="3547"/>
                </a:cubicBezTo>
                <a:cubicBezTo>
                  <a:pt x="13585" y="3564"/>
                  <a:pt x="13576" y="3580"/>
                  <a:pt x="13568" y="3597"/>
                </a:cubicBezTo>
                <a:cubicBezTo>
                  <a:pt x="13696" y="3698"/>
                  <a:pt x="13778" y="3697"/>
                  <a:pt x="13940" y="3671"/>
                </a:cubicBezTo>
                <a:cubicBezTo>
                  <a:pt x="14017" y="3651"/>
                  <a:pt x="14035" y="3659"/>
                  <a:pt x="14064" y="3621"/>
                </a:cubicBezTo>
                <a:cubicBezTo>
                  <a:pt x="14023" y="3512"/>
                  <a:pt x="13977" y="3495"/>
                  <a:pt x="13866" y="3572"/>
                </a:cubicBezTo>
                <a:cubicBezTo>
                  <a:pt x="13798" y="3619"/>
                  <a:pt x="13799" y="3673"/>
                  <a:pt x="13791" y="374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46200" y="2320920"/>
            <a:ext cx="1206720" cy="295200"/>
          </a:xfrm>
          <a:custGeom>
            <a:avLst/>
            <a:gdLst/>
            <a:ahLst/>
            <a:rect l="l" t="t" r="r" b="b"/>
            <a:pathLst>
              <a:path w="3350" h="820">
                <a:moveTo>
                  <a:pt x="6796" y="6573"/>
                </a:moveTo>
                <a:cubicBezTo>
                  <a:pt x="6959" y="6587"/>
                  <a:pt x="7104" y="6582"/>
                  <a:pt x="7268" y="6573"/>
                </a:cubicBezTo>
                <a:cubicBezTo>
                  <a:pt x="7192" y="6764"/>
                  <a:pt x="7088" y="6926"/>
                  <a:pt x="6970" y="7094"/>
                </a:cubicBezTo>
              </a:path>
              <a:path w="3350" h="820">
                <a:moveTo>
                  <a:pt x="7541" y="6548"/>
                </a:moveTo>
                <a:cubicBezTo>
                  <a:pt x="7416" y="6705"/>
                  <a:pt x="7355" y="6821"/>
                  <a:pt x="7367" y="7020"/>
                </a:cubicBezTo>
                <a:cubicBezTo>
                  <a:pt x="7507" y="6989"/>
                  <a:pt x="7812" y="6871"/>
                  <a:pt x="7714" y="6648"/>
                </a:cubicBezTo>
                <a:cubicBezTo>
                  <a:pt x="7622" y="6578"/>
                  <a:pt x="7597" y="6553"/>
                  <a:pt x="7516" y="6573"/>
                </a:cubicBezTo>
              </a:path>
              <a:path w="3350" h="820">
                <a:moveTo>
                  <a:pt x="8260" y="6573"/>
                </a:moveTo>
                <a:cubicBezTo>
                  <a:pt x="8141" y="6573"/>
                  <a:pt x="7901" y="6521"/>
                  <a:pt x="7838" y="6623"/>
                </a:cubicBezTo>
                <a:cubicBezTo>
                  <a:pt x="7813" y="6696"/>
                  <a:pt x="7805" y="6720"/>
                  <a:pt x="7813" y="6772"/>
                </a:cubicBezTo>
                <a:cubicBezTo>
                  <a:pt x="7918" y="6765"/>
                  <a:pt x="8122" y="6708"/>
                  <a:pt x="8210" y="6796"/>
                </a:cubicBezTo>
                <a:cubicBezTo>
                  <a:pt x="8320" y="6906"/>
                  <a:pt x="8223" y="7008"/>
                  <a:pt x="8111" y="7045"/>
                </a:cubicBezTo>
                <a:cubicBezTo>
                  <a:pt x="7995" y="7083"/>
                  <a:pt x="7902" y="7068"/>
                  <a:pt x="7789" y="7045"/>
                </a:cubicBezTo>
              </a:path>
              <a:path w="3350" h="820">
                <a:moveTo>
                  <a:pt x="8434" y="7020"/>
                </a:moveTo>
                <a:cubicBezTo>
                  <a:pt x="8456" y="7120"/>
                  <a:pt x="8456" y="7168"/>
                  <a:pt x="8434" y="7268"/>
                </a:cubicBezTo>
              </a:path>
              <a:path w="3350" h="820">
                <a:moveTo>
                  <a:pt x="9054" y="6499"/>
                </a:moveTo>
                <a:cubicBezTo>
                  <a:pt x="8913" y="6480"/>
                  <a:pt x="8827" y="6487"/>
                  <a:pt x="8706" y="6573"/>
                </a:cubicBezTo>
                <a:cubicBezTo>
                  <a:pt x="8761" y="6646"/>
                  <a:pt x="9064" y="6835"/>
                  <a:pt x="8954" y="6945"/>
                </a:cubicBezTo>
                <a:cubicBezTo>
                  <a:pt x="8913" y="6962"/>
                  <a:pt x="8871" y="6978"/>
                  <a:pt x="8830" y="6995"/>
                </a:cubicBezTo>
                <a:cubicBezTo>
                  <a:pt x="8667" y="6854"/>
                  <a:pt x="8867" y="6718"/>
                  <a:pt x="8979" y="6598"/>
                </a:cubicBezTo>
                <a:cubicBezTo>
                  <a:pt x="9012" y="6565"/>
                  <a:pt x="9046" y="6532"/>
                  <a:pt x="9079" y="6499"/>
                </a:cubicBezTo>
              </a:path>
              <a:path w="3350" h="820">
                <a:moveTo>
                  <a:pt x="9351" y="6474"/>
                </a:moveTo>
                <a:cubicBezTo>
                  <a:pt x="9435" y="6466"/>
                  <a:pt x="9514" y="6454"/>
                  <a:pt x="9599" y="6449"/>
                </a:cubicBezTo>
                <a:cubicBezTo>
                  <a:pt x="9631" y="6656"/>
                  <a:pt x="9529" y="6796"/>
                  <a:pt x="9475" y="6995"/>
                </a:cubicBezTo>
                <a:cubicBezTo>
                  <a:pt x="9475" y="7012"/>
                  <a:pt x="9475" y="7028"/>
                  <a:pt x="9475" y="7045"/>
                </a:cubicBezTo>
              </a:path>
              <a:path w="3350" h="820">
                <a:moveTo>
                  <a:pt x="10021" y="6474"/>
                </a:moveTo>
                <a:cubicBezTo>
                  <a:pt x="9890" y="6605"/>
                  <a:pt x="9751" y="6752"/>
                  <a:pt x="9723" y="6945"/>
                </a:cubicBezTo>
                <a:cubicBezTo>
                  <a:pt x="9731" y="6970"/>
                  <a:pt x="9740" y="6995"/>
                  <a:pt x="9748" y="7020"/>
                </a:cubicBezTo>
                <a:cubicBezTo>
                  <a:pt x="9943" y="6993"/>
                  <a:pt x="10241" y="6929"/>
                  <a:pt x="10120" y="6648"/>
                </a:cubicBezTo>
                <a:cubicBezTo>
                  <a:pt x="10087" y="6615"/>
                  <a:pt x="10054" y="6581"/>
                  <a:pt x="10021" y="654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75640" y="125280"/>
            <a:ext cx="1107720" cy="250920"/>
          </a:xfrm>
          <a:custGeom>
            <a:avLst/>
            <a:gdLst/>
            <a:ahLst/>
            <a:rect l="l" t="t" r="r" b="b"/>
            <a:pathLst>
              <a:path w="3076" h="696">
                <a:moveTo>
                  <a:pt x="19695" y="372"/>
                </a:moveTo>
                <a:cubicBezTo>
                  <a:pt x="19583" y="354"/>
                  <a:pt x="19465" y="302"/>
                  <a:pt x="19397" y="397"/>
                </a:cubicBezTo>
                <a:cubicBezTo>
                  <a:pt x="19363" y="445"/>
                  <a:pt x="19318" y="497"/>
                  <a:pt x="19298" y="546"/>
                </a:cubicBezTo>
                <a:cubicBezTo>
                  <a:pt x="19435" y="581"/>
                  <a:pt x="19506" y="582"/>
                  <a:pt x="19621" y="670"/>
                </a:cubicBezTo>
                <a:cubicBezTo>
                  <a:pt x="19523" y="837"/>
                  <a:pt x="19399" y="861"/>
                  <a:pt x="19199" y="843"/>
                </a:cubicBezTo>
                <a:cubicBezTo>
                  <a:pt x="19166" y="835"/>
                  <a:pt x="19133" y="827"/>
                  <a:pt x="19100" y="819"/>
                </a:cubicBezTo>
              </a:path>
              <a:path w="3076" h="696">
                <a:moveTo>
                  <a:pt x="19844" y="471"/>
                </a:moveTo>
                <a:cubicBezTo>
                  <a:pt x="19733" y="496"/>
                  <a:pt x="19627" y="579"/>
                  <a:pt x="19670" y="719"/>
                </a:cubicBezTo>
                <a:cubicBezTo>
                  <a:pt x="19720" y="880"/>
                  <a:pt x="20021" y="828"/>
                  <a:pt x="20092" y="719"/>
                </a:cubicBezTo>
                <a:cubicBezTo>
                  <a:pt x="20204" y="548"/>
                  <a:pt x="20045" y="513"/>
                  <a:pt x="19943" y="471"/>
                </a:cubicBezTo>
              </a:path>
              <a:path w="3076" h="696">
                <a:moveTo>
                  <a:pt x="20389" y="446"/>
                </a:moveTo>
                <a:cubicBezTo>
                  <a:pt x="20254" y="413"/>
                  <a:pt x="20182" y="526"/>
                  <a:pt x="20117" y="645"/>
                </a:cubicBezTo>
                <a:cubicBezTo>
                  <a:pt x="20109" y="670"/>
                  <a:pt x="20100" y="694"/>
                  <a:pt x="20092" y="719"/>
                </a:cubicBezTo>
                <a:cubicBezTo>
                  <a:pt x="20277" y="823"/>
                  <a:pt x="20510" y="870"/>
                  <a:pt x="20638" y="620"/>
                </a:cubicBezTo>
                <a:cubicBezTo>
                  <a:pt x="20727" y="447"/>
                  <a:pt x="20507" y="426"/>
                  <a:pt x="20414" y="397"/>
                </a:cubicBezTo>
              </a:path>
              <a:path w="3076" h="696">
                <a:moveTo>
                  <a:pt x="20712" y="794"/>
                </a:moveTo>
                <a:cubicBezTo>
                  <a:pt x="20737" y="917"/>
                  <a:pt x="20745" y="958"/>
                  <a:pt x="20737" y="1042"/>
                </a:cubicBezTo>
              </a:path>
              <a:path w="3076" h="696">
                <a:moveTo>
                  <a:pt x="21059" y="422"/>
                </a:moveTo>
                <a:cubicBezTo>
                  <a:pt x="20954" y="448"/>
                  <a:pt x="20868" y="569"/>
                  <a:pt x="20886" y="695"/>
                </a:cubicBezTo>
                <a:cubicBezTo>
                  <a:pt x="20902" y="720"/>
                  <a:pt x="20919" y="744"/>
                  <a:pt x="20935" y="769"/>
                </a:cubicBezTo>
                <a:cubicBezTo>
                  <a:pt x="21080" y="777"/>
                  <a:pt x="21304" y="783"/>
                  <a:pt x="21233" y="571"/>
                </a:cubicBezTo>
                <a:cubicBezTo>
                  <a:pt x="21190" y="443"/>
                  <a:pt x="21100" y="422"/>
                  <a:pt x="20985" y="422"/>
                </a:cubicBezTo>
              </a:path>
              <a:path w="3076" h="696">
                <a:moveTo>
                  <a:pt x="21580" y="446"/>
                </a:moveTo>
                <a:cubicBezTo>
                  <a:pt x="21433" y="415"/>
                  <a:pt x="21405" y="498"/>
                  <a:pt x="21332" y="620"/>
                </a:cubicBezTo>
                <a:cubicBezTo>
                  <a:pt x="21372" y="778"/>
                  <a:pt x="21550" y="739"/>
                  <a:pt x="21679" y="670"/>
                </a:cubicBezTo>
                <a:cubicBezTo>
                  <a:pt x="21704" y="645"/>
                  <a:pt x="21729" y="620"/>
                  <a:pt x="21754" y="595"/>
                </a:cubicBezTo>
                <a:cubicBezTo>
                  <a:pt x="21675" y="438"/>
                  <a:pt x="21613" y="421"/>
                  <a:pt x="21431" y="446"/>
                </a:cubicBezTo>
              </a:path>
              <a:path w="3076" h="696">
                <a:moveTo>
                  <a:pt x="22076" y="471"/>
                </a:moveTo>
                <a:cubicBezTo>
                  <a:pt x="21899" y="493"/>
                  <a:pt x="21840" y="535"/>
                  <a:pt x="21754" y="695"/>
                </a:cubicBezTo>
                <a:cubicBezTo>
                  <a:pt x="21887" y="752"/>
                  <a:pt x="22123" y="777"/>
                  <a:pt x="22175" y="571"/>
                </a:cubicBezTo>
                <a:cubicBezTo>
                  <a:pt x="22159" y="563"/>
                  <a:pt x="22142" y="554"/>
                  <a:pt x="22126" y="54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286680" y="696960"/>
            <a:ext cx="142560" cy="133200"/>
          </a:xfrm>
          <a:custGeom>
            <a:avLst/>
            <a:gdLst/>
            <a:ahLst/>
            <a:rect l="l" t="t" r="r" b="b"/>
            <a:pathLst>
              <a:path w="398" h="373">
                <a:moveTo>
                  <a:pt x="17487" y="1935"/>
                </a:moveTo>
                <a:cubicBezTo>
                  <a:pt x="17487" y="2059"/>
                  <a:pt x="17487" y="2183"/>
                  <a:pt x="17487" y="2307"/>
                </a:cubicBezTo>
              </a:path>
              <a:path w="398" h="373">
                <a:moveTo>
                  <a:pt x="17462" y="2084"/>
                </a:moveTo>
                <a:cubicBezTo>
                  <a:pt x="17595" y="2049"/>
                  <a:pt x="17727" y="2020"/>
                  <a:pt x="17859" y="198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99200" y="347760"/>
            <a:ext cx="839880" cy="241200"/>
          </a:xfrm>
          <a:custGeom>
            <a:avLst/>
            <a:gdLst/>
            <a:ahLst/>
            <a:rect l="l" t="t" r="r" b="b"/>
            <a:pathLst>
              <a:path w="2332" h="671">
                <a:moveTo>
                  <a:pt x="19745" y="1091"/>
                </a:moveTo>
                <a:cubicBezTo>
                  <a:pt x="19721" y="1139"/>
                  <a:pt x="19713" y="1154"/>
                  <a:pt x="19720" y="1191"/>
                </a:cubicBezTo>
                <a:cubicBezTo>
                  <a:pt x="19741" y="1064"/>
                  <a:pt x="19777" y="1013"/>
                  <a:pt x="19918" y="992"/>
                </a:cubicBezTo>
                <a:cubicBezTo>
                  <a:pt x="19984" y="992"/>
                  <a:pt x="20001" y="992"/>
                  <a:pt x="20042" y="992"/>
                </a:cubicBezTo>
                <a:cubicBezTo>
                  <a:pt x="20020" y="1195"/>
                  <a:pt x="19953" y="1340"/>
                  <a:pt x="19844" y="1513"/>
                </a:cubicBezTo>
              </a:path>
              <a:path w="2332" h="671">
                <a:moveTo>
                  <a:pt x="20241" y="1166"/>
                </a:moveTo>
                <a:cubicBezTo>
                  <a:pt x="20085" y="1275"/>
                  <a:pt x="20063" y="1354"/>
                  <a:pt x="20042" y="1538"/>
                </a:cubicBezTo>
                <a:cubicBezTo>
                  <a:pt x="20203" y="1603"/>
                  <a:pt x="20318" y="1588"/>
                  <a:pt x="20389" y="1389"/>
                </a:cubicBezTo>
                <a:cubicBezTo>
                  <a:pt x="20455" y="1204"/>
                  <a:pt x="20272" y="1136"/>
                  <a:pt x="20141" y="1116"/>
                </a:cubicBezTo>
              </a:path>
              <a:path w="2332" h="671">
                <a:moveTo>
                  <a:pt x="20538" y="1414"/>
                </a:moveTo>
                <a:cubicBezTo>
                  <a:pt x="20530" y="1492"/>
                  <a:pt x="20512" y="1561"/>
                  <a:pt x="20489" y="1637"/>
                </a:cubicBezTo>
              </a:path>
              <a:path w="2332" h="671">
                <a:moveTo>
                  <a:pt x="20960" y="967"/>
                </a:moveTo>
                <a:cubicBezTo>
                  <a:pt x="20812" y="1017"/>
                  <a:pt x="20769" y="1145"/>
                  <a:pt x="20712" y="1290"/>
                </a:cubicBezTo>
                <a:cubicBezTo>
                  <a:pt x="20834" y="1367"/>
                  <a:pt x="21050" y="1389"/>
                  <a:pt x="21134" y="1215"/>
                </a:cubicBezTo>
                <a:cubicBezTo>
                  <a:pt x="21170" y="1140"/>
                  <a:pt x="21000" y="1047"/>
                  <a:pt x="20960" y="1017"/>
                </a:cubicBezTo>
              </a:path>
              <a:path w="2332" h="671">
                <a:moveTo>
                  <a:pt x="21456" y="1166"/>
                </a:moveTo>
                <a:cubicBezTo>
                  <a:pt x="21342" y="1131"/>
                  <a:pt x="21178" y="1160"/>
                  <a:pt x="21158" y="1339"/>
                </a:cubicBezTo>
                <a:cubicBezTo>
                  <a:pt x="21166" y="1372"/>
                  <a:pt x="21175" y="1406"/>
                  <a:pt x="21183" y="1439"/>
                </a:cubicBezTo>
                <a:cubicBezTo>
                  <a:pt x="21359" y="1465"/>
                  <a:pt x="21525" y="1417"/>
                  <a:pt x="21530" y="1191"/>
                </a:cubicBezTo>
                <a:cubicBezTo>
                  <a:pt x="21478" y="1060"/>
                  <a:pt x="21454" y="1016"/>
                  <a:pt x="21332" y="1017"/>
                </a:cubicBezTo>
              </a:path>
              <a:path w="2332" h="671">
                <a:moveTo>
                  <a:pt x="21853" y="1042"/>
                </a:moveTo>
                <a:cubicBezTo>
                  <a:pt x="21792" y="1093"/>
                  <a:pt x="21594" y="1239"/>
                  <a:pt x="21704" y="1339"/>
                </a:cubicBezTo>
                <a:cubicBezTo>
                  <a:pt x="21804" y="1430"/>
                  <a:pt x="22086" y="1314"/>
                  <a:pt x="22051" y="1166"/>
                </a:cubicBezTo>
                <a:cubicBezTo>
                  <a:pt x="21967" y="1109"/>
                  <a:pt x="21930" y="1090"/>
                  <a:pt x="21853" y="109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116840" y="625320"/>
            <a:ext cx="687240" cy="231840"/>
          </a:xfrm>
          <a:custGeom>
            <a:avLst/>
            <a:gdLst/>
            <a:ahLst/>
            <a:rect l="l" t="t" r="r" b="b"/>
            <a:pathLst>
              <a:path w="1911" h="646">
                <a:moveTo>
                  <a:pt x="19869" y="1836"/>
                </a:moveTo>
                <a:cubicBezTo>
                  <a:pt x="19943" y="1798"/>
                  <a:pt x="20015" y="1766"/>
                  <a:pt x="20092" y="1736"/>
                </a:cubicBezTo>
                <a:cubicBezTo>
                  <a:pt x="20069" y="1953"/>
                  <a:pt x="19984" y="2017"/>
                  <a:pt x="19844" y="2183"/>
                </a:cubicBezTo>
                <a:cubicBezTo>
                  <a:pt x="19819" y="2216"/>
                  <a:pt x="19794" y="2249"/>
                  <a:pt x="19769" y="2282"/>
                </a:cubicBezTo>
                <a:cubicBezTo>
                  <a:pt x="19859" y="2168"/>
                  <a:pt x="19961" y="2215"/>
                  <a:pt x="20117" y="2257"/>
                </a:cubicBezTo>
                <a:cubicBezTo>
                  <a:pt x="20142" y="2265"/>
                  <a:pt x="20166" y="2274"/>
                  <a:pt x="20191" y="2282"/>
                </a:cubicBezTo>
              </a:path>
              <a:path w="1911" h="646">
                <a:moveTo>
                  <a:pt x="20365" y="2183"/>
                </a:moveTo>
                <a:cubicBezTo>
                  <a:pt x="20343" y="2291"/>
                  <a:pt x="20340" y="2317"/>
                  <a:pt x="20315" y="2381"/>
                </a:cubicBezTo>
              </a:path>
              <a:path w="1911" h="646">
                <a:moveTo>
                  <a:pt x="20638" y="1885"/>
                </a:moveTo>
                <a:cubicBezTo>
                  <a:pt x="20524" y="1935"/>
                  <a:pt x="20473" y="2030"/>
                  <a:pt x="20439" y="2158"/>
                </a:cubicBezTo>
                <a:cubicBezTo>
                  <a:pt x="20533" y="2194"/>
                  <a:pt x="20757" y="2226"/>
                  <a:pt x="20737" y="2034"/>
                </a:cubicBezTo>
                <a:cubicBezTo>
                  <a:pt x="20680" y="1950"/>
                  <a:pt x="20655" y="1919"/>
                  <a:pt x="20588" y="1885"/>
                </a:cubicBezTo>
              </a:path>
              <a:path w="1911" h="646">
                <a:moveTo>
                  <a:pt x="20985" y="1885"/>
                </a:moveTo>
                <a:cubicBezTo>
                  <a:pt x="20839" y="1933"/>
                  <a:pt x="20799" y="2003"/>
                  <a:pt x="20811" y="2158"/>
                </a:cubicBezTo>
                <a:cubicBezTo>
                  <a:pt x="20969" y="2177"/>
                  <a:pt x="21178" y="2167"/>
                  <a:pt x="21158" y="1935"/>
                </a:cubicBezTo>
                <a:cubicBezTo>
                  <a:pt x="21142" y="1910"/>
                  <a:pt x="21125" y="1885"/>
                  <a:pt x="21109" y="1860"/>
                </a:cubicBezTo>
              </a:path>
              <a:path w="1911" h="646">
                <a:moveTo>
                  <a:pt x="21481" y="1811"/>
                </a:moveTo>
                <a:cubicBezTo>
                  <a:pt x="21362" y="1910"/>
                  <a:pt x="21317" y="1960"/>
                  <a:pt x="21282" y="2108"/>
                </a:cubicBezTo>
                <a:cubicBezTo>
                  <a:pt x="21406" y="2170"/>
                  <a:pt x="21628" y="2184"/>
                  <a:pt x="21679" y="1984"/>
                </a:cubicBezTo>
                <a:cubicBezTo>
                  <a:pt x="21649" y="1865"/>
                  <a:pt x="21622" y="1822"/>
                  <a:pt x="21506" y="181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473880" y="812880"/>
            <a:ext cx="1420920" cy="428400"/>
          </a:xfrm>
          <a:custGeom>
            <a:avLst/>
            <a:gdLst/>
            <a:ahLst/>
            <a:rect l="l" t="t" r="r" b="b"/>
            <a:pathLst>
              <a:path w="3945" h="1192">
                <a:moveTo>
                  <a:pt x="20613" y="2282"/>
                </a:moveTo>
                <a:cubicBezTo>
                  <a:pt x="20547" y="2249"/>
                  <a:pt x="20432" y="2252"/>
                  <a:pt x="20365" y="2307"/>
                </a:cubicBezTo>
                <a:cubicBezTo>
                  <a:pt x="20357" y="2323"/>
                  <a:pt x="20348" y="2340"/>
                  <a:pt x="20340" y="2356"/>
                </a:cubicBezTo>
                <a:cubicBezTo>
                  <a:pt x="20430" y="2438"/>
                  <a:pt x="20539" y="2495"/>
                  <a:pt x="20613" y="2580"/>
                </a:cubicBezTo>
                <a:cubicBezTo>
                  <a:pt x="20559" y="2603"/>
                  <a:pt x="20269" y="2689"/>
                  <a:pt x="20365" y="2530"/>
                </a:cubicBezTo>
                <a:cubicBezTo>
                  <a:pt x="20453" y="2420"/>
                  <a:pt x="20473" y="2391"/>
                  <a:pt x="20538" y="2332"/>
                </a:cubicBezTo>
              </a:path>
              <a:path w="3945" h="1192">
                <a:moveTo>
                  <a:pt x="20985" y="2356"/>
                </a:moveTo>
                <a:cubicBezTo>
                  <a:pt x="20869" y="2440"/>
                  <a:pt x="20858" y="2437"/>
                  <a:pt x="20836" y="2580"/>
                </a:cubicBezTo>
                <a:cubicBezTo>
                  <a:pt x="20921" y="2618"/>
                  <a:pt x="21165" y="2631"/>
                  <a:pt x="21183" y="2456"/>
                </a:cubicBezTo>
                <a:cubicBezTo>
                  <a:pt x="21126" y="2369"/>
                  <a:pt x="21096" y="2338"/>
                  <a:pt x="21010" y="2332"/>
                </a:cubicBezTo>
              </a:path>
              <a:path w="3945" h="1192">
                <a:moveTo>
                  <a:pt x="21530" y="2381"/>
                </a:moveTo>
                <a:cubicBezTo>
                  <a:pt x="21459" y="2433"/>
                  <a:pt x="21427" y="2457"/>
                  <a:pt x="21382" y="2530"/>
                </a:cubicBezTo>
                <a:cubicBezTo>
                  <a:pt x="21455" y="2629"/>
                  <a:pt x="21605" y="2689"/>
                  <a:pt x="21679" y="2530"/>
                </a:cubicBezTo>
                <a:cubicBezTo>
                  <a:pt x="21679" y="2423"/>
                  <a:pt x="21672" y="2385"/>
                  <a:pt x="21580" y="2356"/>
                </a:cubicBezTo>
              </a:path>
              <a:path w="3945" h="1192">
                <a:moveTo>
                  <a:pt x="21233" y="2704"/>
                </a:moveTo>
                <a:cubicBezTo>
                  <a:pt x="21254" y="2807"/>
                  <a:pt x="21142" y="2939"/>
                  <a:pt x="21183" y="3026"/>
                </a:cubicBezTo>
                <a:cubicBezTo>
                  <a:pt x="21275" y="3222"/>
                  <a:pt x="21544" y="3157"/>
                  <a:pt x="21630" y="3001"/>
                </a:cubicBezTo>
                <a:cubicBezTo>
                  <a:pt x="21729" y="2823"/>
                  <a:pt x="21466" y="3002"/>
                  <a:pt x="21431" y="3051"/>
                </a:cubicBezTo>
              </a:path>
              <a:path w="3945" h="1192">
                <a:moveTo>
                  <a:pt x="17983" y="3448"/>
                </a:moveTo>
                <a:cubicBezTo>
                  <a:pt x="18279" y="3448"/>
                  <a:pt x="18559" y="3389"/>
                  <a:pt x="18852" y="3373"/>
                </a:cubicBezTo>
                <a:cubicBezTo>
                  <a:pt x="19116" y="3358"/>
                  <a:pt x="19380" y="3349"/>
                  <a:pt x="19645" y="3349"/>
                </a:cubicBezTo>
                <a:cubicBezTo>
                  <a:pt x="19904" y="3349"/>
                  <a:pt x="20159" y="3353"/>
                  <a:pt x="20414" y="3373"/>
                </a:cubicBezTo>
                <a:cubicBezTo>
                  <a:pt x="20874" y="3409"/>
                  <a:pt x="21344" y="3365"/>
                  <a:pt x="21803" y="3398"/>
                </a:cubicBezTo>
                <a:cubicBezTo>
                  <a:pt x="21878" y="3398"/>
                  <a:pt x="21886" y="3398"/>
                  <a:pt x="21927" y="339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545160" y="1268280"/>
            <a:ext cx="1258920" cy="330480"/>
          </a:xfrm>
          <a:custGeom>
            <a:avLst/>
            <a:gdLst/>
            <a:ahLst/>
            <a:rect l="l" t="t" r="r" b="b"/>
            <a:pathLst>
              <a:path w="3498" h="919">
                <a:moveTo>
                  <a:pt x="21431" y="3522"/>
                </a:moveTo>
                <a:cubicBezTo>
                  <a:pt x="21389" y="3657"/>
                  <a:pt x="21332" y="3787"/>
                  <a:pt x="21282" y="3919"/>
                </a:cubicBezTo>
                <a:cubicBezTo>
                  <a:pt x="21251" y="3999"/>
                  <a:pt x="21241" y="4057"/>
                  <a:pt x="21357" y="4068"/>
                </a:cubicBezTo>
                <a:cubicBezTo>
                  <a:pt x="21465" y="4078"/>
                  <a:pt x="21564" y="4036"/>
                  <a:pt x="21630" y="3969"/>
                </a:cubicBezTo>
                <a:cubicBezTo>
                  <a:pt x="21668" y="3930"/>
                  <a:pt x="21685" y="3928"/>
                  <a:pt x="21679" y="3894"/>
                </a:cubicBezTo>
                <a:cubicBezTo>
                  <a:pt x="21604" y="3830"/>
                  <a:pt x="21564" y="3811"/>
                  <a:pt x="21506" y="3919"/>
                </a:cubicBezTo>
                <a:cubicBezTo>
                  <a:pt x="21474" y="3978"/>
                  <a:pt x="21481" y="4030"/>
                  <a:pt x="21481" y="4093"/>
                </a:cubicBezTo>
              </a:path>
              <a:path w="3498" h="919">
                <a:moveTo>
                  <a:pt x="20836" y="3746"/>
                </a:moveTo>
                <a:cubicBezTo>
                  <a:pt x="20701" y="3819"/>
                  <a:pt x="20690" y="3873"/>
                  <a:pt x="20662" y="4018"/>
                </a:cubicBezTo>
                <a:cubicBezTo>
                  <a:pt x="20647" y="4093"/>
                  <a:pt x="20597" y="4216"/>
                  <a:pt x="20712" y="4242"/>
                </a:cubicBezTo>
                <a:cubicBezTo>
                  <a:pt x="20794" y="4261"/>
                  <a:pt x="20937" y="4147"/>
                  <a:pt x="20960" y="4068"/>
                </a:cubicBezTo>
                <a:cubicBezTo>
                  <a:pt x="20994" y="3951"/>
                  <a:pt x="20958" y="3874"/>
                  <a:pt x="20861" y="3820"/>
                </a:cubicBezTo>
                <a:cubicBezTo>
                  <a:pt x="20844" y="3812"/>
                  <a:pt x="20828" y="3803"/>
                  <a:pt x="20811" y="3795"/>
                </a:cubicBezTo>
              </a:path>
              <a:path w="3498" h="919">
                <a:moveTo>
                  <a:pt x="20315" y="3621"/>
                </a:moveTo>
                <a:cubicBezTo>
                  <a:pt x="20208" y="3600"/>
                  <a:pt x="20184" y="3592"/>
                  <a:pt x="20117" y="3597"/>
                </a:cubicBezTo>
                <a:cubicBezTo>
                  <a:pt x="20144" y="3801"/>
                  <a:pt x="20255" y="3762"/>
                  <a:pt x="20365" y="3919"/>
                </a:cubicBezTo>
                <a:cubicBezTo>
                  <a:pt x="20463" y="4059"/>
                  <a:pt x="20349" y="4138"/>
                  <a:pt x="20241" y="4192"/>
                </a:cubicBezTo>
                <a:cubicBezTo>
                  <a:pt x="20241" y="3983"/>
                  <a:pt x="20303" y="3857"/>
                  <a:pt x="20414" y="3671"/>
                </a:cubicBezTo>
              </a:path>
              <a:path w="3498" h="919">
                <a:moveTo>
                  <a:pt x="19943" y="4142"/>
                </a:moveTo>
                <a:cubicBezTo>
                  <a:pt x="19926" y="4309"/>
                  <a:pt x="19879" y="4350"/>
                  <a:pt x="19745" y="4440"/>
                </a:cubicBezTo>
              </a:path>
              <a:path w="3498" h="919">
                <a:moveTo>
                  <a:pt x="19422" y="3770"/>
                </a:moveTo>
                <a:cubicBezTo>
                  <a:pt x="19466" y="3699"/>
                  <a:pt x="19488" y="3653"/>
                  <a:pt x="19571" y="3646"/>
                </a:cubicBezTo>
                <a:cubicBezTo>
                  <a:pt x="19579" y="3646"/>
                  <a:pt x="19588" y="3646"/>
                  <a:pt x="19596" y="3646"/>
                </a:cubicBezTo>
                <a:cubicBezTo>
                  <a:pt x="19638" y="3840"/>
                  <a:pt x="19598" y="3907"/>
                  <a:pt x="19447" y="4043"/>
                </a:cubicBezTo>
                <a:cubicBezTo>
                  <a:pt x="19341" y="4128"/>
                  <a:pt x="19319" y="4148"/>
                  <a:pt x="19248" y="4192"/>
                </a:cubicBezTo>
                <a:cubicBezTo>
                  <a:pt x="19342" y="4160"/>
                  <a:pt x="19443" y="4113"/>
                  <a:pt x="19546" y="4142"/>
                </a:cubicBezTo>
                <a:cubicBezTo>
                  <a:pt x="19591" y="4154"/>
                  <a:pt x="19625" y="4183"/>
                  <a:pt x="19670" y="4192"/>
                </a:cubicBezTo>
              </a:path>
              <a:path w="3498" h="919">
                <a:moveTo>
                  <a:pt x="19000" y="3646"/>
                </a:moveTo>
                <a:cubicBezTo>
                  <a:pt x="18984" y="3646"/>
                  <a:pt x="18967" y="3646"/>
                  <a:pt x="18951" y="3646"/>
                </a:cubicBezTo>
                <a:cubicBezTo>
                  <a:pt x="19006" y="3532"/>
                  <a:pt x="19148" y="3621"/>
                  <a:pt x="19124" y="3746"/>
                </a:cubicBezTo>
                <a:cubicBezTo>
                  <a:pt x="19091" y="3923"/>
                  <a:pt x="18983" y="4094"/>
                  <a:pt x="18926" y="4266"/>
                </a:cubicBezTo>
              </a:path>
              <a:path w="3498" h="919">
                <a:moveTo>
                  <a:pt x="18703" y="3671"/>
                </a:moveTo>
                <a:cubicBezTo>
                  <a:pt x="18611" y="3671"/>
                  <a:pt x="18469" y="3562"/>
                  <a:pt x="18430" y="3646"/>
                </a:cubicBezTo>
                <a:cubicBezTo>
                  <a:pt x="18408" y="3754"/>
                  <a:pt x="18405" y="3781"/>
                  <a:pt x="18380" y="3845"/>
                </a:cubicBezTo>
                <a:cubicBezTo>
                  <a:pt x="18444" y="3893"/>
                  <a:pt x="18478" y="3829"/>
                  <a:pt x="18554" y="3845"/>
                </a:cubicBezTo>
                <a:cubicBezTo>
                  <a:pt x="18649" y="3865"/>
                  <a:pt x="18706" y="4009"/>
                  <a:pt x="18703" y="4093"/>
                </a:cubicBezTo>
                <a:cubicBezTo>
                  <a:pt x="18700" y="4166"/>
                  <a:pt x="18628" y="4337"/>
                  <a:pt x="18554" y="4366"/>
                </a:cubicBezTo>
                <a:cubicBezTo>
                  <a:pt x="18441" y="4410"/>
                  <a:pt x="18339" y="4316"/>
                  <a:pt x="18256" y="4266"/>
                </a:cubicBezTo>
                <a:cubicBezTo>
                  <a:pt x="18213" y="4245"/>
                  <a:pt x="18201" y="4241"/>
                  <a:pt x="18182" y="421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55760" y="3125880"/>
            <a:ext cx="893520" cy="847800"/>
          </a:xfrm>
          <a:custGeom>
            <a:avLst/>
            <a:gdLst/>
            <a:ahLst/>
            <a:rect l="l" t="t" r="r" b="b"/>
            <a:pathLst>
              <a:path w="2482" h="2357">
                <a:moveTo>
                  <a:pt x="2084" y="9327"/>
                </a:moveTo>
                <a:cubicBezTo>
                  <a:pt x="2084" y="9256"/>
                  <a:pt x="2084" y="9520"/>
                  <a:pt x="2084" y="9550"/>
                </a:cubicBezTo>
              </a:path>
              <a:path w="2482" h="2357">
                <a:moveTo>
                  <a:pt x="1786" y="9699"/>
                </a:moveTo>
                <a:cubicBezTo>
                  <a:pt x="1723" y="9572"/>
                  <a:pt x="1712" y="9496"/>
                  <a:pt x="1712" y="9351"/>
                </a:cubicBezTo>
                <a:cubicBezTo>
                  <a:pt x="1712" y="9310"/>
                  <a:pt x="1712" y="9302"/>
                  <a:pt x="1712" y="9277"/>
                </a:cubicBezTo>
                <a:cubicBezTo>
                  <a:pt x="1984" y="9244"/>
                  <a:pt x="2255" y="9252"/>
                  <a:pt x="2530" y="9252"/>
                </a:cubicBezTo>
                <a:cubicBezTo>
                  <a:pt x="2646" y="9252"/>
                  <a:pt x="2663" y="9252"/>
                  <a:pt x="2729" y="9252"/>
                </a:cubicBezTo>
              </a:path>
              <a:path w="2482" h="2357">
                <a:moveTo>
                  <a:pt x="1315" y="9351"/>
                </a:moveTo>
                <a:cubicBezTo>
                  <a:pt x="1218" y="9529"/>
                  <a:pt x="1328" y="9475"/>
                  <a:pt x="1488" y="9475"/>
                </a:cubicBezTo>
              </a:path>
              <a:path w="2482" h="2357">
                <a:moveTo>
                  <a:pt x="1513" y="9252"/>
                </a:moveTo>
                <a:cubicBezTo>
                  <a:pt x="1483" y="9386"/>
                  <a:pt x="1465" y="9521"/>
                  <a:pt x="1414" y="9649"/>
                </a:cubicBezTo>
              </a:path>
              <a:path w="2482" h="2357">
                <a:moveTo>
                  <a:pt x="2431" y="9599"/>
                </a:moveTo>
                <a:lnTo>
                  <a:pt x="2431" y="9599"/>
                </a:lnTo>
              </a:path>
              <a:path w="2482" h="2357">
                <a:moveTo>
                  <a:pt x="2406" y="9227"/>
                </a:moveTo>
                <a:lnTo>
                  <a:pt x="2406" y="9227"/>
                </a:lnTo>
              </a:path>
              <a:path w="2482" h="2357">
                <a:moveTo>
                  <a:pt x="2803" y="9351"/>
                </a:moveTo>
                <a:cubicBezTo>
                  <a:pt x="2702" y="9426"/>
                  <a:pt x="2660" y="9448"/>
                  <a:pt x="2604" y="9550"/>
                </a:cubicBezTo>
                <a:cubicBezTo>
                  <a:pt x="2687" y="9605"/>
                  <a:pt x="2841" y="9636"/>
                  <a:pt x="2853" y="9475"/>
                </a:cubicBezTo>
                <a:cubicBezTo>
                  <a:pt x="2830" y="9408"/>
                  <a:pt x="2829" y="9387"/>
                  <a:pt x="2778" y="9376"/>
                </a:cubicBezTo>
              </a:path>
              <a:path w="2482" h="2357">
                <a:moveTo>
                  <a:pt x="2282" y="9029"/>
                </a:moveTo>
                <a:lnTo>
                  <a:pt x="2282" y="9029"/>
                </a:lnTo>
              </a:path>
              <a:path w="2482" h="2357">
                <a:moveTo>
                  <a:pt x="2580" y="8756"/>
                </a:moveTo>
                <a:cubicBezTo>
                  <a:pt x="2612" y="8674"/>
                  <a:pt x="2621" y="8697"/>
                  <a:pt x="2704" y="8682"/>
                </a:cubicBezTo>
                <a:cubicBezTo>
                  <a:pt x="2689" y="8797"/>
                  <a:pt x="2612" y="8848"/>
                  <a:pt x="2530" y="8930"/>
                </a:cubicBezTo>
                <a:cubicBezTo>
                  <a:pt x="2488" y="8971"/>
                  <a:pt x="2480" y="8979"/>
                  <a:pt x="2456" y="9004"/>
                </a:cubicBezTo>
                <a:cubicBezTo>
                  <a:pt x="2533" y="9021"/>
                  <a:pt x="2593" y="9004"/>
                  <a:pt x="2679" y="9004"/>
                </a:cubicBezTo>
              </a:path>
              <a:path w="2482" h="2357">
                <a:moveTo>
                  <a:pt x="2778" y="9773"/>
                </a:moveTo>
                <a:cubicBezTo>
                  <a:pt x="2692" y="9715"/>
                  <a:pt x="2665" y="9704"/>
                  <a:pt x="2580" y="9773"/>
                </a:cubicBezTo>
                <a:cubicBezTo>
                  <a:pt x="2563" y="9790"/>
                  <a:pt x="2547" y="9806"/>
                  <a:pt x="2530" y="9823"/>
                </a:cubicBezTo>
                <a:cubicBezTo>
                  <a:pt x="2598" y="9853"/>
                  <a:pt x="2790" y="9849"/>
                  <a:pt x="2828" y="9897"/>
                </a:cubicBezTo>
                <a:cubicBezTo>
                  <a:pt x="2895" y="9982"/>
                  <a:pt x="2761" y="10118"/>
                  <a:pt x="2679" y="10071"/>
                </a:cubicBezTo>
                <a:cubicBezTo>
                  <a:pt x="2616" y="10035"/>
                  <a:pt x="2665" y="9939"/>
                  <a:pt x="2679" y="9897"/>
                </a:cubicBezTo>
              </a:path>
              <a:path w="2482" h="2357">
                <a:moveTo>
                  <a:pt x="2059" y="10195"/>
                </a:moveTo>
                <a:cubicBezTo>
                  <a:pt x="2307" y="10185"/>
                  <a:pt x="2557" y="10156"/>
                  <a:pt x="2803" y="10120"/>
                </a:cubicBezTo>
                <a:cubicBezTo>
                  <a:pt x="2894" y="10102"/>
                  <a:pt x="2901" y="10094"/>
                  <a:pt x="2952" y="10096"/>
                </a:cubicBezTo>
              </a:path>
              <a:path w="2482" h="2357">
                <a:moveTo>
                  <a:pt x="2654" y="10344"/>
                </a:moveTo>
                <a:cubicBezTo>
                  <a:pt x="2765" y="10322"/>
                  <a:pt x="2833" y="10286"/>
                  <a:pt x="2902" y="10368"/>
                </a:cubicBezTo>
                <a:cubicBezTo>
                  <a:pt x="2880" y="10406"/>
                  <a:pt x="2717" y="10599"/>
                  <a:pt x="2778" y="10616"/>
                </a:cubicBezTo>
                <a:cubicBezTo>
                  <a:pt x="2862" y="10616"/>
                  <a:pt x="2882" y="10622"/>
                  <a:pt x="2927" y="10592"/>
                </a:cubicBezTo>
              </a:path>
              <a:path w="2482" h="2357">
                <a:moveTo>
                  <a:pt x="2009" y="10021"/>
                </a:moveTo>
                <a:cubicBezTo>
                  <a:pt x="2026" y="10013"/>
                  <a:pt x="2042" y="10004"/>
                  <a:pt x="2059" y="9996"/>
                </a:cubicBezTo>
              </a:path>
              <a:path w="2482" h="2357">
                <a:moveTo>
                  <a:pt x="2604" y="9351"/>
                </a:moveTo>
                <a:cubicBezTo>
                  <a:pt x="2892" y="9351"/>
                  <a:pt x="3222" y="9394"/>
                  <a:pt x="3497" y="9327"/>
                </a:cubicBezTo>
              </a:path>
              <a:path w="2482" h="2357">
                <a:moveTo>
                  <a:pt x="3200" y="9426"/>
                </a:moveTo>
                <a:cubicBezTo>
                  <a:pt x="3081" y="9497"/>
                  <a:pt x="3007" y="9537"/>
                  <a:pt x="2977" y="9674"/>
                </a:cubicBezTo>
                <a:cubicBezTo>
                  <a:pt x="3073" y="9689"/>
                  <a:pt x="3254" y="9704"/>
                  <a:pt x="3249" y="9550"/>
                </a:cubicBezTo>
                <a:cubicBezTo>
                  <a:pt x="3241" y="9525"/>
                  <a:pt x="3233" y="9500"/>
                  <a:pt x="3225" y="9475"/>
                </a:cubicBezTo>
              </a:path>
              <a:path w="2482" h="2357">
                <a:moveTo>
                  <a:pt x="3125" y="9699"/>
                </a:moveTo>
                <a:cubicBezTo>
                  <a:pt x="3125" y="9848"/>
                  <a:pt x="3125" y="9996"/>
                  <a:pt x="3125" y="10145"/>
                </a:cubicBezTo>
              </a:path>
              <a:path w="2482" h="2357">
                <a:moveTo>
                  <a:pt x="3200" y="10244"/>
                </a:moveTo>
                <a:cubicBezTo>
                  <a:pt x="3096" y="10286"/>
                  <a:pt x="3018" y="10302"/>
                  <a:pt x="3001" y="10418"/>
                </a:cubicBezTo>
                <a:cubicBezTo>
                  <a:pt x="3173" y="10455"/>
                  <a:pt x="3259" y="10480"/>
                  <a:pt x="3324" y="10294"/>
                </a:cubicBezTo>
                <a:cubicBezTo>
                  <a:pt x="3347" y="10228"/>
                  <a:pt x="3242" y="10197"/>
                  <a:pt x="3200" y="10170"/>
                </a:cubicBezTo>
              </a:path>
              <a:path w="2482" h="2357">
                <a:moveTo>
                  <a:pt x="3200" y="8682"/>
                </a:moveTo>
                <a:cubicBezTo>
                  <a:pt x="3076" y="8682"/>
                  <a:pt x="3009" y="8652"/>
                  <a:pt x="2927" y="8756"/>
                </a:cubicBezTo>
                <a:cubicBezTo>
                  <a:pt x="2919" y="8773"/>
                  <a:pt x="2910" y="8789"/>
                  <a:pt x="2902" y="8806"/>
                </a:cubicBezTo>
                <a:cubicBezTo>
                  <a:pt x="3002" y="8832"/>
                  <a:pt x="3070" y="8834"/>
                  <a:pt x="3150" y="8905"/>
                </a:cubicBezTo>
                <a:cubicBezTo>
                  <a:pt x="3167" y="8921"/>
                  <a:pt x="3183" y="8938"/>
                  <a:pt x="3200" y="8954"/>
                </a:cubicBezTo>
                <a:cubicBezTo>
                  <a:pt x="3122" y="9059"/>
                  <a:pt x="3057" y="9069"/>
                  <a:pt x="2927" y="9079"/>
                </a:cubicBezTo>
              </a:path>
              <a:path w="2482" h="2357">
                <a:moveTo>
                  <a:pt x="2902" y="10716"/>
                </a:moveTo>
                <a:cubicBezTo>
                  <a:pt x="2961" y="10637"/>
                  <a:pt x="2960" y="10631"/>
                  <a:pt x="3051" y="10641"/>
                </a:cubicBezTo>
                <a:cubicBezTo>
                  <a:pt x="2987" y="10721"/>
                  <a:pt x="2925" y="10792"/>
                  <a:pt x="2853" y="10864"/>
                </a:cubicBezTo>
                <a:cubicBezTo>
                  <a:pt x="2953" y="10853"/>
                  <a:pt x="3051" y="10838"/>
                  <a:pt x="3150" y="10815"/>
                </a:cubicBezTo>
              </a:path>
              <a:path w="2482" h="2357">
                <a:moveTo>
                  <a:pt x="3373" y="10567"/>
                </a:moveTo>
                <a:cubicBezTo>
                  <a:pt x="3292" y="10615"/>
                  <a:pt x="3267" y="10618"/>
                  <a:pt x="3225" y="10716"/>
                </a:cubicBezTo>
                <a:cubicBezTo>
                  <a:pt x="3360" y="10727"/>
                  <a:pt x="3440" y="10691"/>
                  <a:pt x="3398" y="10567"/>
                </a:cubicBezTo>
              </a:path>
              <a:path w="2482" h="2357">
                <a:moveTo>
                  <a:pt x="3671" y="10468"/>
                </a:moveTo>
                <a:cubicBezTo>
                  <a:pt x="3542" y="10676"/>
                  <a:pt x="3390" y="10812"/>
                  <a:pt x="3200" y="10964"/>
                </a:cubicBezTo>
                <a:cubicBezTo>
                  <a:pt x="3167" y="10989"/>
                  <a:pt x="3134" y="11013"/>
                  <a:pt x="3101" y="11038"/>
                </a:cubicBezTo>
              </a:path>
              <a:path w="2482" h="2357">
                <a:moveTo>
                  <a:pt x="3547" y="10864"/>
                </a:moveTo>
                <a:cubicBezTo>
                  <a:pt x="3510" y="10938"/>
                  <a:pt x="3493" y="10942"/>
                  <a:pt x="3497" y="10988"/>
                </a:cubicBezTo>
                <a:cubicBezTo>
                  <a:pt x="3610" y="11000"/>
                  <a:pt x="3697" y="10963"/>
                  <a:pt x="3746" y="1086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589040" y="3027240"/>
            <a:ext cx="1260360" cy="411120"/>
          </a:xfrm>
          <a:custGeom>
            <a:avLst/>
            <a:gdLst/>
            <a:ahLst/>
            <a:rect l="l" t="t" r="r" b="b"/>
            <a:pathLst>
              <a:path w="3499" h="1142">
                <a:moveTo>
                  <a:pt x="4415" y="9128"/>
                </a:moveTo>
                <a:lnTo>
                  <a:pt x="4415" y="9128"/>
                </a:lnTo>
              </a:path>
              <a:path w="3499" h="1142">
                <a:moveTo>
                  <a:pt x="4812" y="8806"/>
                </a:moveTo>
                <a:cubicBezTo>
                  <a:pt x="4875" y="8775"/>
                  <a:pt x="4906" y="8766"/>
                  <a:pt x="4961" y="8781"/>
                </a:cubicBezTo>
                <a:cubicBezTo>
                  <a:pt x="5017" y="8936"/>
                  <a:pt x="5005" y="9058"/>
                  <a:pt x="4812" y="9103"/>
                </a:cubicBezTo>
                <a:cubicBezTo>
                  <a:pt x="4787" y="9103"/>
                  <a:pt x="4763" y="9103"/>
                  <a:pt x="4738" y="9103"/>
                </a:cubicBezTo>
                <a:cubicBezTo>
                  <a:pt x="4776" y="9028"/>
                  <a:pt x="4882" y="8937"/>
                  <a:pt x="4961" y="9054"/>
                </a:cubicBezTo>
                <a:cubicBezTo>
                  <a:pt x="4969" y="9079"/>
                  <a:pt x="4978" y="9103"/>
                  <a:pt x="4986" y="9128"/>
                </a:cubicBezTo>
              </a:path>
              <a:path w="3499" h="1142">
                <a:moveTo>
                  <a:pt x="5135" y="8781"/>
                </a:moveTo>
                <a:cubicBezTo>
                  <a:pt x="5113" y="8824"/>
                  <a:pt x="5109" y="8836"/>
                  <a:pt x="5085" y="8855"/>
                </a:cubicBezTo>
                <a:cubicBezTo>
                  <a:pt x="5172" y="8873"/>
                  <a:pt x="5434" y="8891"/>
                  <a:pt x="5308" y="9054"/>
                </a:cubicBezTo>
                <a:cubicBezTo>
                  <a:pt x="5237" y="9146"/>
                  <a:pt x="5150" y="9115"/>
                  <a:pt x="5060" y="9103"/>
                </a:cubicBezTo>
              </a:path>
              <a:path w="3499" h="1142">
                <a:moveTo>
                  <a:pt x="5209" y="8756"/>
                </a:moveTo>
                <a:cubicBezTo>
                  <a:pt x="5273" y="8724"/>
                  <a:pt x="5304" y="8712"/>
                  <a:pt x="5358" y="8706"/>
                </a:cubicBezTo>
              </a:path>
              <a:path w="3499" h="1142">
                <a:moveTo>
                  <a:pt x="5829" y="8855"/>
                </a:moveTo>
                <a:cubicBezTo>
                  <a:pt x="5936" y="8813"/>
                  <a:pt x="5960" y="8791"/>
                  <a:pt x="6028" y="8830"/>
                </a:cubicBezTo>
              </a:path>
              <a:path w="3499" h="1142">
                <a:moveTo>
                  <a:pt x="5904" y="9004"/>
                </a:moveTo>
                <a:cubicBezTo>
                  <a:pt x="5970" y="9004"/>
                  <a:pt x="6003" y="9004"/>
                  <a:pt x="6052" y="9004"/>
                </a:cubicBezTo>
              </a:path>
              <a:path w="3499" h="1142">
                <a:moveTo>
                  <a:pt x="4490" y="9376"/>
                </a:moveTo>
                <a:cubicBezTo>
                  <a:pt x="4535" y="9478"/>
                  <a:pt x="4583" y="9561"/>
                  <a:pt x="4713" y="9550"/>
                </a:cubicBezTo>
                <a:cubicBezTo>
                  <a:pt x="4832" y="9540"/>
                  <a:pt x="4919" y="9480"/>
                  <a:pt x="4961" y="9376"/>
                </a:cubicBezTo>
                <a:cubicBezTo>
                  <a:pt x="5047" y="9463"/>
                  <a:pt x="5101" y="9491"/>
                  <a:pt x="5234" y="9475"/>
                </a:cubicBezTo>
                <a:cubicBezTo>
                  <a:pt x="5342" y="9462"/>
                  <a:pt x="5372" y="9366"/>
                  <a:pt x="5383" y="9277"/>
                </a:cubicBezTo>
              </a:path>
              <a:path w="3499" h="1142">
                <a:moveTo>
                  <a:pt x="6548" y="8682"/>
                </a:moveTo>
                <a:cubicBezTo>
                  <a:pt x="6619" y="8635"/>
                  <a:pt x="6638" y="8618"/>
                  <a:pt x="6697" y="8632"/>
                </a:cubicBezTo>
                <a:cubicBezTo>
                  <a:pt x="6818" y="8779"/>
                  <a:pt x="6770" y="8948"/>
                  <a:pt x="6573" y="9054"/>
                </a:cubicBezTo>
                <a:cubicBezTo>
                  <a:pt x="6474" y="9074"/>
                  <a:pt x="6459" y="9082"/>
                  <a:pt x="6400" y="9079"/>
                </a:cubicBezTo>
                <a:cubicBezTo>
                  <a:pt x="6456" y="8955"/>
                  <a:pt x="6499" y="8897"/>
                  <a:pt x="6598" y="9029"/>
                </a:cubicBezTo>
                <a:cubicBezTo>
                  <a:pt x="6638" y="9088"/>
                  <a:pt x="6642" y="9099"/>
                  <a:pt x="6672" y="9128"/>
                </a:cubicBezTo>
              </a:path>
              <a:path w="3499" h="1142">
                <a:moveTo>
                  <a:pt x="7094" y="8632"/>
                </a:moveTo>
                <a:cubicBezTo>
                  <a:pt x="6976" y="8619"/>
                  <a:pt x="6974" y="8592"/>
                  <a:pt x="6921" y="8657"/>
                </a:cubicBezTo>
                <a:cubicBezTo>
                  <a:pt x="6865" y="8712"/>
                  <a:pt x="6840" y="8710"/>
                  <a:pt x="6846" y="8756"/>
                </a:cubicBezTo>
                <a:cubicBezTo>
                  <a:pt x="6962" y="8756"/>
                  <a:pt x="7104" y="8738"/>
                  <a:pt x="7119" y="8905"/>
                </a:cubicBezTo>
                <a:cubicBezTo>
                  <a:pt x="7134" y="9081"/>
                  <a:pt x="6939" y="9096"/>
                  <a:pt x="6821" y="9054"/>
                </a:cubicBezTo>
                <a:cubicBezTo>
                  <a:pt x="6796" y="9037"/>
                  <a:pt x="6772" y="9021"/>
                  <a:pt x="6747" y="9004"/>
                </a:cubicBezTo>
              </a:path>
              <a:path w="3499" h="1142">
                <a:moveTo>
                  <a:pt x="7441" y="8483"/>
                </a:moveTo>
                <a:cubicBezTo>
                  <a:pt x="7392" y="8502"/>
                  <a:pt x="7263" y="8593"/>
                  <a:pt x="7367" y="8657"/>
                </a:cubicBezTo>
                <a:cubicBezTo>
                  <a:pt x="7392" y="8665"/>
                  <a:pt x="7416" y="8674"/>
                  <a:pt x="7441" y="8682"/>
                </a:cubicBezTo>
                <a:cubicBezTo>
                  <a:pt x="7505" y="8576"/>
                  <a:pt x="7462" y="8505"/>
                  <a:pt x="7516" y="8409"/>
                </a:cubicBezTo>
                <a:cubicBezTo>
                  <a:pt x="7709" y="8448"/>
                  <a:pt x="7746" y="8558"/>
                  <a:pt x="7640" y="8756"/>
                </a:cubicBezTo>
                <a:cubicBezTo>
                  <a:pt x="7530" y="8910"/>
                  <a:pt x="7506" y="8951"/>
                  <a:pt x="7417" y="9029"/>
                </a:cubicBezTo>
              </a:path>
              <a:path w="3499" h="1142">
                <a:moveTo>
                  <a:pt x="7789" y="8979"/>
                </a:moveTo>
                <a:cubicBezTo>
                  <a:pt x="7758" y="9088"/>
                  <a:pt x="7822" y="9054"/>
                  <a:pt x="7913" y="9029"/>
                </a:cubicBezTo>
                <a:cubicBezTo>
                  <a:pt x="7913" y="8969"/>
                  <a:pt x="7904" y="8950"/>
                  <a:pt x="7838" y="895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65160" y="4500720"/>
            <a:ext cx="1436760" cy="554040"/>
          </a:xfrm>
          <a:custGeom>
            <a:avLst/>
            <a:gdLst/>
            <a:ahLst/>
            <a:rect l="l" t="t" r="r" b="b"/>
            <a:pathLst>
              <a:path w="3994" h="1538">
                <a:moveTo>
                  <a:pt x="2679" y="13667"/>
                </a:moveTo>
                <a:lnTo>
                  <a:pt x="2679" y="13667"/>
                </a:lnTo>
              </a:path>
              <a:path w="3994" h="1538">
                <a:moveTo>
                  <a:pt x="3225" y="13196"/>
                </a:moveTo>
                <a:cubicBezTo>
                  <a:pt x="3073" y="13366"/>
                  <a:pt x="3056" y="13506"/>
                  <a:pt x="3125" y="13717"/>
                </a:cubicBezTo>
                <a:cubicBezTo>
                  <a:pt x="3260" y="13655"/>
                  <a:pt x="3367" y="13609"/>
                  <a:pt x="3324" y="13444"/>
                </a:cubicBezTo>
                <a:cubicBezTo>
                  <a:pt x="3299" y="13395"/>
                  <a:pt x="3290" y="13378"/>
                  <a:pt x="3274" y="13345"/>
                </a:cubicBezTo>
              </a:path>
              <a:path w="3994" h="1538">
                <a:moveTo>
                  <a:pt x="3398" y="13196"/>
                </a:moveTo>
                <a:cubicBezTo>
                  <a:pt x="3482" y="13188"/>
                  <a:pt x="3560" y="13171"/>
                  <a:pt x="3646" y="13171"/>
                </a:cubicBezTo>
                <a:cubicBezTo>
                  <a:pt x="3688" y="13324"/>
                  <a:pt x="3645" y="13486"/>
                  <a:pt x="3671" y="13643"/>
                </a:cubicBezTo>
                <a:cubicBezTo>
                  <a:pt x="3679" y="13659"/>
                  <a:pt x="3688" y="13676"/>
                  <a:pt x="3696" y="13692"/>
                </a:cubicBezTo>
              </a:path>
              <a:path w="3994" h="1538">
                <a:moveTo>
                  <a:pt x="3944" y="13246"/>
                </a:moveTo>
                <a:lnTo>
                  <a:pt x="3944" y="13246"/>
                </a:lnTo>
              </a:path>
              <a:path w="3994" h="1538">
                <a:moveTo>
                  <a:pt x="3994" y="13692"/>
                </a:moveTo>
                <a:cubicBezTo>
                  <a:pt x="4009" y="13836"/>
                  <a:pt x="3997" y="13903"/>
                  <a:pt x="3944" y="14039"/>
                </a:cubicBezTo>
              </a:path>
              <a:path w="3994" h="1538">
                <a:moveTo>
                  <a:pt x="4316" y="13692"/>
                </a:moveTo>
                <a:lnTo>
                  <a:pt x="4316" y="13692"/>
                </a:lnTo>
              </a:path>
              <a:path w="3994" h="1538">
                <a:moveTo>
                  <a:pt x="4390" y="13295"/>
                </a:moveTo>
                <a:cubicBezTo>
                  <a:pt x="4546" y="13229"/>
                  <a:pt x="4579" y="13210"/>
                  <a:pt x="4589" y="13395"/>
                </a:cubicBezTo>
                <a:cubicBezTo>
                  <a:pt x="4594" y="13479"/>
                  <a:pt x="4578" y="13499"/>
                  <a:pt x="4564" y="13568"/>
                </a:cubicBezTo>
              </a:path>
              <a:path w="3994" h="1538">
                <a:moveTo>
                  <a:pt x="4713" y="13246"/>
                </a:moveTo>
                <a:cubicBezTo>
                  <a:pt x="4812" y="13308"/>
                  <a:pt x="4911" y="13356"/>
                  <a:pt x="4911" y="13494"/>
                </a:cubicBezTo>
                <a:cubicBezTo>
                  <a:pt x="4911" y="13602"/>
                  <a:pt x="4836" y="13586"/>
                  <a:pt x="4762" y="13593"/>
                </a:cubicBezTo>
              </a:path>
              <a:path w="3994" h="1538">
                <a:moveTo>
                  <a:pt x="4812" y="13146"/>
                </a:moveTo>
                <a:cubicBezTo>
                  <a:pt x="4829" y="13138"/>
                  <a:pt x="4845" y="13130"/>
                  <a:pt x="4862" y="13122"/>
                </a:cubicBezTo>
              </a:path>
              <a:path w="3994" h="1538">
                <a:moveTo>
                  <a:pt x="4638" y="12502"/>
                </a:moveTo>
                <a:cubicBezTo>
                  <a:pt x="4701" y="12533"/>
                  <a:pt x="4679" y="12536"/>
                  <a:pt x="4663" y="12601"/>
                </a:cubicBezTo>
                <a:cubicBezTo>
                  <a:pt x="4746" y="12628"/>
                  <a:pt x="4718" y="12627"/>
                  <a:pt x="4663" y="12700"/>
                </a:cubicBezTo>
              </a:path>
              <a:path w="3994" h="1538">
                <a:moveTo>
                  <a:pt x="4614" y="12874"/>
                </a:moveTo>
                <a:cubicBezTo>
                  <a:pt x="4731" y="12827"/>
                  <a:pt x="4766" y="12814"/>
                  <a:pt x="4837" y="12774"/>
                </a:cubicBezTo>
              </a:path>
              <a:path w="3994" h="1538">
                <a:moveTo>
                  <a:pt x="4539" y="12998"/>
                </a:moveTo>
                <a:cubicBezTo>
                  <a:pt x="4539" y="13057"/>
                  <a:pt x="4549" y="13077"/>
                  <a:pt x="4614" y="13072"/>
                </a:cubicBezTo>
              </a:path>
              <a:path w="3994" h="1538">
                <a:moveTo>
                  <a:pt x="4688" y="13022"/>
                </a:moveTo>
                <a:cubicBezTo>
                  <a:pt x="4668" y="13123"/>
                  <a:pt x="4670" y="13143"/>
                  <a:pt x="4638" y="13196"/>
                </a:cubicBezTo>
              </a:path>
              <a:path w="3994" h="1538">
                <a:moveTo>
                  <a:pt x="5209" y="13246"/>
                </a:moveTo>
                <a:lnTo>
                  <a:pt x="5209" y="13246"/>
                </a:lnTo>
              </a:path>
              <a:path w="3994" h="1538">
                <a:moveTo>
                  <a:pt x="5308" y="13618"/>
                </a:moveTo>
                <a:cubicBezTo>
                  <a:pt x="5353" y="13804"/>
                  <a:pt x="5352" y="13821"/>
                  <a:pt x="5259" y="13990"/>
                </a:cubicBezTo>
              </a:path>
              <a:path w="3994" h="1538">
                <a:moveTo>
                  <a:pt x="5631" y="13593"/>
                </a:moveTo>
                <a:lnTo>
                  <a:pt x="5631" y="13593"/>
                </a:lnTo>
              </a:path>
              <a:path w="3994" h="1538">
                <a:moveTo>
                  <a:pt x="5854" y="13171"/>
                </a:moveTo>
                <a:cubicBezTo>
                  <a:pt x="5931" y="13120"/>
                  <a:pt x="5960" y="13104"/>
                  <a:pt x="6028" y="13122"/>
                </a:cubicBezTo>
                <a:cubicBezTo>
                  <a:pt x="6061" y="13267"/>
                  <a:pt x="6040" y="13394"/>
                  <a:pt x="6028" y="13543"/>
                </a:cubicBezTo>
              </a:path>
              <a:path w="3994" h="1538">
                <a:moveTo>
                  <a:pt x="6226" y="13122"/>
                </a:moveTo>
                <a:cubicBezTo>
                  <a:pt x="6295" y="13099"/>
                  <a:pt x="6353" y="13080"/>
                  <a:pt x="6424" y="13072"/>
                </a:cubicBezTo>
                <a:cubicBezTo>
                  <a:pt x="6454" y="13231"/>
                  <a:pt x="6431" y="13336"/>
                  <a:pt x="6400" y="13494"/>
                </a:cubicBezTo>
                <a:cubicBezTo>
                  <a:pt x="6400" y="13502"/>
                  <a:pt x="6400" y="13511"/>
                  <a:pt x="6400" y="13519"/>
                </a:cubicBezTo>
              </a:path>
              <a:path w="3994" h="1538">
                <a:moveTo>
                  <a:pt x="6672" y="13618"/>
                </a:moveTo>
                <a:cubicBezTo>
                  <a:pt x="6672" y="13686"/>
                  <a:pt x="6675" y="13705"/>
                  <a:pt x="6648" y="1374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598840" y="4491000"/>
            <a:ext cx="196920" cy="393840"/>
          </a:xfrm>
          <a:custGeom>
            <a:avLst/>
            <a:gdLst/>
            <a:ahLst/>
            <a:rect l="l" t="t" r="r" b="b"/>
            <a:pathLst>
              <a:path w="547" h="1092">
                <a:moveTo>
                  <a:pt x="7218" y="13568"/>
                </a:moveTo>
                <a:lnTo>
                  <a:pt x="7218" y="13568"/>
                </a:lnTo>
              </a:path>
              <a:path w="547" h="1092">
                <a:moveTo>
                  <a:pt x="7640" y="13171"/>
                </a:moveTo>
                <a:cubicBezTo>
                  <a:pt x="7559" y="13229"/>
                  <a:pt x="7537" y="13256"/>
                  <a:pt x="7615" y="13345"/>
                </a:cubicBezTo>
                <a:cubicBezTo>
                  <a:pt x="7706" y="13450"/>
                  <a:pt x="7753" y="13434"/>
                  <a:pt x="7739" y="13543"/>
                </a:cubicBezTo>
                <a:cubicBezTo>
                  <a:pt x="7528" y="13523"/>
                  <a:pt x="7722" y="13417"/>
                  <a:pt x="7739" y="13271"/>
                </a:cubicBezTo>
                <a:cubicBezTo>
                  <a:pt x="7731" y="13254"/>
                  <a:pt x="7722" y="13238"/>
                  <a:pt x="7714" y="13221"/>
                </a:cubicBezTo>
              </a:path>
              <a:path w="547" h="1092">
                <a:moveTo>
                  <a:pt x="7441" y="12601"/>
                </a:moveTo>
                <a:cubicBezTo>
                  <a:pt x="7441" y="12693"/>
                  <a:pt x="7451" y="12675"/>
                  <a:pt x="7541" y="12675"/>
                </a:cubicBezTo>
              </a:path>
              <a:path w="547" h="1092">
                <a:moveTo>
                  <a:pt x="7565" y="12477"/>
                </a:moveTo>
                <a:cubicBezTo>
                  <a:pt x="7565" y="12568"/>
                  <a:pt x="7565" y="12659"/>
                  <a:pt x="7565" y="12750"/>
                </a:cubicBezTo>
              </a:path>
              <a:path w="547" h="1092">
                <a:moveTo>
                  <a:pt x="7516" y="12948"/>
                </a:moveTo>
                <a:cubicBezTo>
                  <a:pt x="7557" y="12940"/>
                  <a:pt x="7599" y="12931"/>
                  <a:pt x="7640" y="12923"/>
                </a:cubicBezTo>
              </a:path>
              <a:path w="547" h="1092">
                <a:moveTo>
                  <a:pt x="7491" y="13047"/>
                </a:moveTo>
                <a:cubicBezTo>
                  <a:pt x="7428" y="13152"/>
                  <a:pt x="7533" y="13134"/>
                  <a:pt x="7541" y="13221"/>
                </a:cubicBezTo>
                <a:cubicBezTo>
                  <a:pt x="7551" y="13340"/>
                  <a:pt x="7442" y="13363"/>
                  <a:pt x="7367" y="13395"/>
                </a:cubicBezTo>
              </a:path>
              <a:path w="547" h="1092">
                <a:moveTo>
                  <a:pt x="7640" y="13022"/>
                </a:moveTo>
                <a:lnTo>
                  <a:pt x="7640" y="13022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394080" y="2955960"/>
            <a:ext cx="2409840" cy="1009440"/>
          </a:xfrm>
          <a:custGeom>
            <a:avLst/>
            <a:gdLst/>
            <a:ahLst/>
            <a:rect l="l" t="t" r="r" b="b"/>
            <a:pathLst>
              <a:path w="6698" h="2804">
                <a:moveTo>
                  <a:pt x="10964" y="9376"/>
                </a:moveTo>
                <a:cubicBezTo>
                  <a:pt x="10943" y="9346"/>
                  <a:pt x="10813" y="9389"/>
                  <a:pt x="10740" y="9500"/>
                </a:cubicBezTo>
                <a:cubicBezTo>
                  <a:pt x="10732" y="9517"/>
                  <a:pt x="10724" y="9533"/>
                  <a:pt x="10716" y="9550"/>
                </a:cubicBezTo>
                <a:cubicBezTo>
                  <a:pt x="10893" y="9564"/>
                  <a:pt x="10941" y="9603"/>
                  <a:pt x="11038" y="9748"/>
                </a:cubicBezTo>
                <a:cubicBezTo>
                  <a:pt x="10925" y="9843"/>
                  <a:pt x="10875" y="9840"/>
                  <a:pt x="10716" y="9847"/>
                </a:cubicBezTo>
              </a:path>
              <a:path w="6698" h="2804">
                <a:moveTo>
                  <a:pt x="10418" y="10096"/>
                </a:moveTo>
                <a:cubicBezTo>
                  <a:pt x="10461" y="9956"/>
                  <a:pt x="10468" y="9845"/>
                  <a:pt x="10468" y="9699"/>
                </a:cubicBezTo>
                <a:cubicBezTo>
                  <a:pt x="10468" y="9630"/>
                  <a:pt x="10417" y="9484"/>
                  <a:pt x="10468" y="9426"/>
                </a:cubicBezTo>
                <a:cubicBezTo>
                  <a:pt x="10535" y="9349"/>
                  <a:pt x="10652" y="9364"/>
                  <a:pt x="10740" y="9351"/>
                </a:cubicBezTo>
                <a:cubicBezTo>
                  <a:pt x="11110" y="9297"/>
                  <a:pt x="11484" y="9236"/>
                  <a:pt x="11857" y="9203"/>
                </a:cubicBezTo>
                <a:cubicBezTo>
                  <a:pt x="11882" y="9203"/>
                  <a:pt x="11906" y="9203"/>
                  <a:pt x="11931" y="9203"/>
                </a:cubicBezTo>
              </a:path>
              <a:path w="6698" h="2804">
                <a:moveTo>
                  <a:pt x="9624" y="9599"/>
                </a:moveTo>
                <a:cubicBezTo>
                  <a:pt x="9681" y="9572"/>
                  <a:pt x="9705" y="9561"/>
                  <a:pt x="9748" y="9550"/>
                </a:cubicBezTo>
                <a:cubicBezTo>
                  <a:pt x="9879" y="9699"/>
                  <a:pt x="9790" y="9839"/>
                  <a:pt x="9624" y="9947"/>
                </a:cubicBezTo>
                <a:cubicBezTo>
                  <a:pt x="9464" y="10051"/>
                  <a:pt x="9405" y="9959"/>
                  <a:pt x="9451" y="9823"/>
                </a:cubicBezTo>
                <a:cubicBezTo>
                  <a:pt x="9584" y="9850"/>
                  <a:pt x="9596" y="9869"/>
                  <a:pt x="9699" y="9971"/>
                </a:cubicBezTo>
              </a:path>
              <a:path w="6698" h="2804">
                <a:moveTo>
                  <a:pt x="10046" y="9550"/>
                </a:moveTo>
                <a:cubicBezTo>
                  <a:pt x="9933" y="9690"/>
                  <a:pt x="9922" y="9724"/>
                  <a:pt x="9922" y="9897"/>
                </a:cubicBezTo>
                <a:cubicBezTo>
                  <a:pt x="10092" y="9937"/>
                  <a:pt x="10262" y="9917"/>
                  <a:pt x="10220" y="9674"/>
                </a:cubicBezTo>
                <a:cubicBezTo>
                  <a:pt x="10203" y="9641"/>
                  <a:pt x="10187" y="9608"/>
                  <a:pt x="10170" y="9575"/>
                </a:cubicBezTo>
              </a:path>
              <a:path w="6698" h="2804">
                <a:moveTo>
                  <a:pt x="11336" y="9748"/>
                </a:moveTo>
                <a:lnTo>
                  <a:pt x="11336" y="9748"/>
                </a:lnTo>
              </a:path>
              <a:path w="6698" h="2804">
                <a:moveTo>
                  <a:pt x="11237" y="9079"/>
                </a:moveTo>
                <a:lnTo>
                  <a:pt x="11237" y="9079"/>
                </a:lnTo>
              </a:path>
              <a:path w="6698" h="2804">
                <a:moveTo>
                  <a:pt x="11559" y="9426"/>
                </a:moveTo>
                <a:cubicBezTo>
                  <a:pt x="11511" y="9504"/>
                  <a:pt x="11477" y="9561"/>
                  <a:pt x="11460" y="9649"/>
                </a:cubicBezTo>
                <a:cubicBezTo>
                  <a:pt x="11602" y="9649"/>
                  <a:pt x="11639" y="9622"/>
                  <a:pt x="11658" y="9475"/>
                </a:cubicBezTo>
                <a:cubicBezTo>
                  <a:pt x="11658" y="9459"/>
                  <a:pt x="11658" y="9442"/>
                  <a:pt x="11658" y="9426"/>
                </a:cubicBezTo>
              </a:path>
              <a:path w="6698" h="2804">
                <a:moveTo>
                  <a:pt x="11460" y="8806"/>
                </a:moveTo>
                <a:cubicBezTo>
                  <a:pt x="11525" y="8762"/>
                  <a:pt x="11539" y="8751"/>
                  <a:pt x="11584" y="8731"/>
                </a:cubicBezTo>
                <a:cubicBezTo>
                  <a:pt x="11571" y="8857"/>
                  <a:pt x="11524" y="8922"/>
                  <a:pt x="11460" y="9029"/>
                </a:cubicBezTo>
                <a:cubicBezTo>
                  <a:pt x="11560" y="9029"/>
                  <a:pt x="11594" y="9029"/>
                  <a:pt x="11658" y="9004"/>
                </a:cubicBezTo>
              </a:path>
              <a:path w="6698" h="2804">
                <a:moveTo>
                  <a:pt x="10864" y="10046"/>
                </a:moveTo>
                <a:cubicBezTo>
                  <a:pt x="10728" y="10046"/>
                  <a:pt x="10762" y="10062"/>
                  <a:pt x="10889" y="10120"/>
                </a:cubicBezTo>
              </a:path>
              <a:path w="6698" h="2804">
                <a:moveTo>
                  <a:pt x="11013" y="9922"/>
                </a:moveTo>
                <a:cubicBezTo>
                  <a:pt x="10969" y="10030"/>
                  <a:pt x="10941" y="10129"/>
                  <a:pt x="10914" y="10244"/>
                </a:cubicBezTo>
              </a:path>
              <a:path w="6698" h="2804">
                <a:moveTo>
                  <a:pt x="11584" y="9971"/>
                </a:moveTo>
                <a:cubicBezTo>
                  <a:pt x="11491" y="10031"/>
                  <a:pt x="11470" y="10016"/>
                  <a:pt x="11435" y="10120"/>
                </a:cubicBezTo>
                <a:cubicBezTo>
                  <a:pt x="11501" y="10111"/>
                  <a:pt x="11713" y="10088"/>
                  <a:pt x="11633" y="9971"/>
                </a:cubicBezTo>
                <a:cubicBezTo>
                  <a:pt x="11617" y="9955"/>
                  <a:pt x="11600" y="9938"/>
                  <a:pt x="11584" y="9922"/>
                </a:cubicBezTo>
              </a:path>
              <a:path w="6698" h="2804">
                <a:moveTo>
                  <a:pt x="10666" y="10344"/>
                </a:moveTo>
                <a:cubicBezTo>
                  <a:pt x="11036" y="10313"/>
                  <a:pt x="11367" y="10183"/>
                  <a:pt x="11733" y="10120"/>
                </a:cubicBezTo>
                <a:cubicBezTo>
                  <a:pt x="11758" y="10120"/>
                  <a:pt x="11782" y="10120"/>
                  <a:pt x="11807" y="10120"/>
                </a:cubicBezTo>
              </a:path>
              <a:path w="6698" h="2804">
                <a:moveTo>
                  <a:pt x="11013" y="10319"/>
                </a:moveTo>
                <a:cubicBezTo>
                  <a:pt x="10978" y="10413"/>
                  <a:pt x="10923" y="10484"/>
                  <a:pt x="10864" y="10567"/>
                </a:cubicBezTo>
              </a:path>
              <a:path w="6698" h="2804">
                <a:moveTo>
                  <a:pt x="11460" y="10319"/>
                </a:moveTo>
                <a:cubicBezTo>
                  <a:pt x="11407" y="10389"/>
                  <a:pt x="11361" y="10442"/>
                  <a:pt x="11336" y="10517"/>
                </a:cubicBezTo>
                <a:cubicBezTo>
                  <a:pt x="11510" y="10488"/>
                  <a:pt x="11491" y="10498"/>
                  <a:pt x="11584" y="10344"/>
                </a:cubicBezTo>
              </a:path>
              <a:path w="6698" h="2804">
                <a:moveTo>
                  <a:pt x="12080" y="10244"/>
                </a:moveTo>
                <a:cubicBezTo>
                  <a:pt x="12016" y="10329"/>
                  <a:pt x="12004" y="10349"/>
                  <a:pt x="11956" y="10393"/>
                </a:cubicBezTo>
                <a:cubicBezTo>
                  <a:pt x="12087" y="10354"/>
                  <a:pt x="12273" y="10344"/>
                  <a:pt x="12179" y="10195"/>
                </a:cubicBezTo>
              </a:path>
              <a:path w="6698" h="2804">
                <a:moveTo>
                  <a:pt x="12179" y="9376"/>
                </a:moveTo>
                <a:cubicBezTo>
                  <a:pt x="12061" y="9436"/>
                  <a:pt x="12027" y="9443"/>
                  <a:pt x="11956" y="9550"/>
                </a:cubicBezTo>
                <a:cubicBezTo>
                  <a:pt x="12008" y="9564"/>
                  <a:pt x="12292" y="9575"/>
                  <a:pt x="12204" y="9426"/>
                </a:cubicBezTo>
                <a:cubicBezTo>
                  <a:pt x="12179" y="9418"/>
                  <a:pt x="12154" y="9409"/>
                  <a:pt x="12129" y="9401"/>
                </a:cubicBezTo>
              </a:path>
              <a:path w="6698" h="2804">
                <a:moveTo>
                  <a:pt x="12080" y="9649"/>
                </a:moveTo>
                <a:cubicBezTo>
                  <a:pt x="12100" y="9750"/>
                  <a:pt x="12105" y="9842"/>
                  <a:pt x="12105" y="9947"/>
                </a:cubicBezTo>
              </a:path>
              <a:path w="6698" h="2804">
                <a:moveTo>
                  <a:pt x="11931" y="8731"/>
                </a:moveTo>
                <a:cubicBezTo>
                  <a:pt x="12008" y="8757"/>
                  <a:pt x="12125" y="8752"/>
                  <a:pt x="12080" y="8880"/>
                </a:cubicBezTo>
                <a:cubicBezTo>
                  <a:pt x="12043" y="8985"/>
                  <a:pt x="11970" y="8972"/>
                  <a:pt x="11881" y="8979"/>
                </a:cubicBezTo>
              </a:path>
              <a:path w="6698" h="2804">
                <a:moveTo>
                  <a:pt x="11956" y="8682"/>
                </a:moveTo>
                <a:cubicBezTo>
                  <a:pt x="12056" y="8645"/>
                  <a:pt x="12152" y="8613"/>
                  <a:pt x="12254" y="8582"/>
                </a:cubicBezTo>
              </a:path>
              <a:path w="6698" h="2804">
                <a:moveTo>
                  <a:pt x="10939" y="10716"/>
                </a:moveTo>
                <a:cubicBezTo>
                  <a:pt x="10939" y="10802"/>
                  <a:pt x="10933" y="10838"/>
                  <a:pt x="10889" y="10889"/>
                </a:cubicBezTo>
              </a:path>
              <a:path w="6698" h="2804">
                <a:moveTo>
                  <a:pt x="11435" y="10641"/>
                </a:moveTo>
                <a:cubicBezTo>
                  <a:pt x="11383" y="10720"/>
                  <a:pt x="11357" y="10753"/>
                  <a:pt x="11336" y="10840"/>
                </a:cubicBezTo>
                <a:cubicBezTo>
                  <a:pt x="11453" y="10889"/>
                  <a:pt x="11554" y="10840"/>
                  <a:pt x="11559" y="10691"/>
                </a:cubicBezTo>
                <a:cubicBezTo>
                  <a:pt x="11535" y="10619"/>
                  <a:pt x="11529" y="10596"/>
                  <a:pt x="11485" y="10567"/>
                </a:cubicBezTo>
              </a:path>
              <a:path w="6698" h="2804">
                <a:moveTo>
                  <a:pt x="12005" y="10517"/>
                </a:moveTo>
                <a:cubicBezTo>
                  <a:pt x="11962" y="10586"/>
                  <a:pt x="11840" y="10779"/>
                  <a:pt x="12005" y="10790"/>
                </a:cubicBezTo>
                <a:cubicBezTo>
                  <a:pt x="12158" y="10800"/>
                  <a:pt x="12159" y="10694"/>
                  <a:pt x="12179" y="10592"/>
                </a:cubicBezTo>
              </a:path>
              <a:path w="6698" h="2804">
                <a:moveTo>
                  <a:pt x="10641" y="10790"/>
                </a:moveTo>
                <a:cubicBezTo>
                  <a:pt x="10666" y="10782"/>
                  <a:pt x="10691" y="10773"/>
                  <a:pt x="10716" y="10765"/>
                </a:cubicBezTo>
              </a:path>
              <a:path w="6698" h="2804">
                <a:moveTo>
                  <a:pt x="12204" y="10691"/>
                </a:moveTo>
                <a:lnTo>
                  <a:pt x="12204" y="10691"/>
                </a:lnTo>
              </a:path>
              <a:path w="6698" h="2804">
                <a:moveTo>
                  <a:pt x="12700" y="10567"/>
                </a:moveTo>
                <a:cubicBezTo>
                  <a:pt x="12399" y="10729"/>
                  <a:pt x="12146" y="10820"/>
                  <a:pt x="11807" y="10889"/>
                </a:cubicBezTo>
                <a:cubicBezTo>
                  <a:pt x="11420" y="10958"/>
                  <a:pt x="11314" y="10980"/>
                  <a:pt x="11063" y="10988"/>
                </a:cubicBezTo>
              </a:path>
              <a:path w="6698" h="2804">
                <a:moveTo>
                  <a:pt x="12650" y="10815"/>
                </a:moveTo>
                <a:cubicBezTo>
                  <a:pt x="12527" y="10869"/>
                  <a:pt x="12444" y="10876"/>
                  <a:pt x="12427" y="11013"/>
                </a:cubicBezTo>
                <a:cubicBezTo>
                  <a:pt x="12549" y="10994"/>
                  <a:pt x="12568" y="10980"/>
                  <a:pt x="12650" y="10889"/>
                </a:cubicBezTo>
              </a:path>
              <a:path w="6698" h="2804">
                <a:moveTo>
                  <a:pt x="12973" y="9153"/>
                </a:moveTo>
                <a:lnTo>
                  <a:pt x="12973" y="9153"/>
                </a:lnTo>
              </a:path>
              <a:path w="6698" h="2804">
                <a:moveTo>
                  <a:pt x="13345" y="8706"/>
                </a:moveTo>
                <a:cubicBezTo>
                  <a:pt x="13470" y="8740"/>
                  <a:pt x="13544" y="8853"/>
                  <a:pt x="13469" y="9004"/>
                </a:cubicBezTo>
                <a:cubicBezTo>
                  <a:pt x="13396" y="9078"/>
                  <a:pt x="13372" y="9103"/>
                  <a:pt x="13295" y="9103"/>
                </a:cubicBezTo>
                <a:cubicBezTo>
                  <a:pt x="13328" y="8961"/>
                  <a:pt x="13354" y="8953"/>
                  <a:pt x="13469" y="9054"/>
                </a:cubicBezTo>
              </a:path>
              <a:path w="6698" h="2804">
                <a:moveTo>
                  <a:pt x="13643" y="8706"/>
                </a:moveTo>
                <a:cubicBezTo>
                  <a:pt x="13626" y="8723"/>
                  <a:pt x="13610" y="8739"/>
                  <a:pt x="13593" y="8756"/>
                </a:cubicBezTo>
                <a:cubicBezTo>
                  <a:pt x="13660" y="8834"/>
                  <a:pt x="13768" y="8843"/>
                  <a:pt x="13841" y="8930"/>
                </a:cubicBezTo>
                <a:cubicBezTo>
                  <a:pt x="13975" y="9089"/>
                  <a:pt x="13618" y="9038"/>
                  <a:pt x="13568" y="9029"/>
                </a:cubicBezTo>
              </a:path>
              <a:path w="6698" h="2804">
                <a:moveTo>
                  <a:pt x="13742" y="8632"/>
                </a:moveTo>
                <a:cubicBezTo>
                  <a:pt x="13816" y="8607"/>
                  <a:pt x="13841" y="8598"/>
                  <a:pt x="13891" y="8582"/>
                </a:cubicBezTo>
              </a:path>
              <a:path w="6698" h="2804">
                <a:moveTo>
                  <a:pt x="14387" y="8731"/>
                </a:moveTo>
                <a:cubicBezTo>
                  <a:pt x="14412" y="8723"/>
                  <a:pt x="14436" y="8714"/>
                  <a:pt x="14461" y="8706"/>
                </a:cubicBezTo>
              </a:path>
              <a:path w="6698" h="2804">
                <a:moveTo>
                  <a:pt x="14312" y="8905"/>
                </a:moveTo>
                <a:cubicBezTo>
                  <a:pt x="14387" y="8905"/>
                  <a:pt x="14411" y="8905"/>
                  <a:pt x="14461" y="8905"/>
                </a:cubicBezTo>
              </a:path>
              <a:path w="6698" h="2804">
                <a:moveTo>
                  <a:pt x="13122" y="9401"/>
                </a:moveTo>
                <a:cubicBezTo>
                  <a:pt x="13251" y="9519"/>
                  <a:pt x="13404" y="9533"/>
                  <a:pt x="13543" y="9376"/>
                </a:cubicBezTo>
                <a:cubicBezTo>
                  <a:pt x="13551" y="9351"/>
                  <a:pt x="13560" y="9327"/>
                  <a:pt x="13568" y="9302"/>
                </a:cubicBezTo>
                <a:cubicBezTo>
                  <a:pt x="13628" y="9421"/>
                  <a:pt x="13750" y="9430"/>
                  <a:pt x="13866" y="9327"/>
                </a:cubicBezTo>
                <a:cubicBezTo>
                  <a:pt x="13874" y="9310"/>
                  <a:pt x="13883" y="9294"/>
                  <a:pt x="13891" y="9277"/>
                </a:cubicBezTo>
              </a:path>
              <a:path w="6698" h="2804">
                <a:moveTo>
                  <a:pt x="14858" y="8582"/>
                </a:moveTo>
                <a:cubicBezTo>
                  <a:pt x="14915" y="8555"/>
                  <a:pt x="14939" y="8544"/>
                  <a:pt x="14982" y="8533"/>
                </a:cubicBezTo>
                <a:cubicBezTo>
                  <a:pt x="15020" y="8787"/>
                  <a:pt x="15024" y="8831"/>
                  <a:pt x="14808" y="8979"/>
                </a:cubicBezTo>
                <a:cubicBezTo>
                  <a:pt x="14844" y="8837"/>
                  <a:pt x="14904" y="8851"/>
                  <a:pt x="15032" y="8954"/>
                </a:cubicBezTo>
                <a:cubicBezTo>
                  <a:pt x="15060" y="8983"/>
                  <a:pt x="15068" y="8996"/>
                  <a:pt x="15056" y="9029"/>
                </a:cubicBezTo>
              </a:path>
              <a:path w="6698" h="2804">
                <a:moveTo>
                  <a:pt x="15304" y="8533"/>
                </a:moveTo>
                <a:cubicBezTo>
                  <a:pt x="15288" y="8558"/>
                  <a:pt x="15271" y="8582"/>
                  <a:pt x="15255" y="8607"/>
                </a:cubicBezTo>
                <a:cubicBezTo>
                  <a:pt x="15373" y="8637"/>
                  <a:pt x="15592" y="8651"/>
                  <a:pt x="15503" y="8830"/>
                </a:cubicBezTo>
                <a:cubicBezTo>
                  <a:pt x="15437" y="8962"/>
                  <a:pt x="15316" y="8936"/>
                  <a:pt x="15205" y="8930"/>
                </a:cubicBezTo>
              </a:path>
              <a:path w="6698" h="2804">
                <a:moveTo>
                  <a:pt x="15404" y="8409"/>
                </a:moveTo>
                <a:cubicBezTo>
                  <a:pt x="15445" y="8409"/>
                  <a:pt x="15487" y="8409"/>
                  <a:pt x="15528" y="8409"/>
                </a:cubicBezTo>
              </a:path>
              <a:path w="6698" h="2804">
                <a:moveTo>
                  <a:pt x="15900" y="8235"/>
                </a:moveTo>
                <a:cubicBezTo>
                  <a:pt x="15835" y="8281"/>
                  <a:pt x="15835" y="8279"/>
                  <a:pt x="15825" y="8359"/>
                </a:cubicBezTo>
                <a:cubicBezTo>
                  <a:pt x="16022" y="8339"/>
                  <a:pt x="15850" y="8317"/>
                  <a:pt x="15875" y="8235"/>
                </a:cubicBezTo>
                <a:cubicBezTo>
                  <a:pt x="15892" y="8227"/>
                  <a:pt x="15908" y="8218"/>
                  <a:pt x="15925" y="8210"/>
                </a:cubicBezTo>
                <a:cubicBezTo>
                  <a:pt x="16123" y="8337"/>
                  <a:pt x="16039" y="8502"/>
                  <a:pt x="15900" y="8682"/>
                </a:cubicBezTo>
                <a:cubicBezTo>
                  <a:pt x="15771" y="8810"/>
                  <a:pt x="15744" y="8842"/>
                  <a:pt x="15652" y="8905"/>
                </a:cubicBezTo>
              </a:path>
              <a:path w="6698" h="2804">
                <a:moveTo>
                  <a:pt x="16049" y="8806"/>
                </a:moveTo>
                <a:cubicBezTo>
                  <a:pt x="15996" y="8910"/>
                  <a:pt x="16080" y="8885"/>
                  <a:pt x="16123" y="8781"/>
                </a:cubicBezTo>
              </a:path>
              <a:path w="6698" h="2804">
                <a:moveTo>
                  <a:pt x="15429" y="8434"/>
                </a:moveTo>
                <a:cubicBezTo>
                  <a:pt x="15396" y="8434"/>
                  <a:pt x="15362" y="8434"/>
                  <a:pt x="15329" y="843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258920" y="4473720"/>
            <a:ext cx="268200" cy="179280"/>
          </a:xfrm>
          <a:custGeom>
            <a:avLst/>
            <a:gdLst/>
            <a:ahLst/>
            <a:rect l="l" t="t" r="r" b="b"/>
            <a:pathLst>
              <a:path w="746" h="497">
                <a:moveTo>
                  <a:pt x="3497" y="12923"/>
                </a:moveTo>
                <a:lnTo>
                  <a:pt x="3497" y="12923"/>
                </a:lnTo>
              </a:path>
              <a:path w="746" h="497">
                <a:moveTo>
                  <a:pt x="3671" y="12551"/>
                </a:moveTo>
                <a:cubicBezTo>
                  <a:pt x="3728" y="12543"/>
                  <a:pt x="3772" y="12529"/>
                  <a:pt x="3820" y="12502"/>
                </a:cubicBezTo>
                <a:cubicBezTo>
                  <a:pt x="3852" y="12616"/>
                  <a:pt x="3845" y="12727"/>
                  <a:pt x="3845" y="12849"/>
                </a:cubicBezTo>
              </a:path>
              <a:path w="746" h="497">
                <a:moveTo>
                  <a:pt x="4018" y="12526"/>
                </a:moveTo>
                <a:cubicBezTo>
                  <a:pt x="4048" y="12640"/>
                  <a:pt x="4204" y="12580"/>
                  <a:pt x="4242" y="12700"/>
                </a:cubicBezTo>
                <a:cubicBezTo>
                  <a:pt x="4288" y="12843"/>
                  <a:pt x="4102" y="12863"/>
                  <a:pt x="4018" y="12874"/>
                </a:cubicBezTo>
              </a:path>
              <a:path w="746" h="497">
                <a:moveTo>
                  <a:pt x="3994" y="12551"/>
                </a:moveTo>
                <a:cubicBezTo>
                  <a:pt x="4080" y="12512"/>
                  <a:pt x="4159" y="12473"/>
                  <a:pt x="4242" y="1242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313000" y="4483080"/>
            <a:ext cx="142920" cy="152280"/>
          </a:xfrm>
          <a:custGeom>
            <a:avLst/>
            <a:gdLst/>
            <a:ahLst/>
            <a:rect l="l" t="t" r="r" b="b"/>
            <a:pathLst>
              <a:path w="398" h="423">
                <a:moveTo>
                  <a:pt x="6424" y="12725"/>
                </a:moveTo>
                <a:lnTo>
                  <a:pt x="6424" y="12725"/>
                </a:lnTo>
              </a:path>
              <a:path w="398" h="423">
                <a:moveTo>
                  <a:pt x="6821" y="12452"/>
                </a:moveTo>
                <a:cubicBezTo>
                  <a:pt x="6719" y="12468"/>
                  <a:pt x="6664" y="12496"/>
                  <a:pt x="6573" y="12551"/>
                </a:cubicBezTo>
                <a:cubicBezTo>
                  <a:pt x="6646" y="12609"/>
                  <a:pt x="6826" y="12659"/>
                  <a:pt x="6796" y="12774"/>
                </a:cubicBezTo>
                <a:cubicBezTo>
                  <a:pt x="6753" y="12840"/>
                  <a:pt x="6747" y="12860"/>
                  <a:pt x="6697" y="12874"/>
                </a:cubicBezTo>
                <a:cubicBezTo>
                  <a:pt x="6658" y="12744"/>
                  <a:pt x="6679" y="12691"/>
                  <a:pt x="6747" y="1257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705720" y="2759040"/>
            <a:ext cx="2135160" cy="1019160"/>
          </a:xfrm>
          <a:custGeom>
            <a:avLst/>
            <a:gdLst/>
            <a:ahLst/>
            <a:rect l="l" t="t" r="r" b="b"/>
            <a:pathLst>
              <a:path w="5930" h="2828">
                <a:moveTo>
                  <a:pt x="19199" y="9079"/>
                </a:moveTo>
                <a:cubicBezTo>
                  <a:pt x="19238" y="9050"/>
                  <a:pt x="19264" y="9021"/>
                  <a:pt x="19298" y="9004"/>
                </a:cubicBezTo>
                <a:cubicBezTo>
                  <a:pt x="19316" y="9133"/>
                  <a:pt x="19463" y="9060"/>
                  <a:pt x="19596" y="9029"/>
                </a:cubicBezTo>
              </a:path>
              <a:path w="5930" h="2828">
                <a:moveTo>
                  <a:pt x="19596" y="8781"/>
                </a:moveTo>
                <a:cubicBezTo>
                  <a:pt x="19581" y="8943"/>
                  <a:pt x="19521" y="9092"/>
                  <a:pt x="19496" y="9252"/>
                </a:cubicBezTo>
                <a:cubicBezTo>
                  <a:pt x="19496" y="9269"/>
                  <a:pt x="19496" y="9285"/>
                  <a:pt x="19496" y="9302"/>
                </a:cubicBezTo>
              </a:path>
              <a:path w="5930" h="2828">
                <a:moveTo>
                  <a:pt x="19075" y="9699"/>
                </a:moveTo>
                <a:cubicBezTo>
                  <a:pt x="19075" y="9458"/>
                  <a:pt x="19053" y="9170"/>
                  <a:pt x="19124" y="8979"/>
                </a:cubicBezTo>
                <a:cubicBezTo>
                  <a:pt x="19146" y="8919"/>
                  <a:pt x="19089" y="8790"/>
                  <a:pt x="19100" y="8756"/>
                </a:cubicBezTo>
                <a:cubicBezTo>
                  <a:pt x="19123" y="8688"/>
                  <a:pt x="19346" y="8618"/>
                  <a:pt x="19397" y="8607"/>
                </a:cubicBezTo>
                <a:cubicBezTo>
                  <a:pt x="19721" y="8535"/>
                  <a:pt x="20061" y="8494"/>
                  <a:pt x="20389" y="8434"/>
                </a:cubicBezTo>
                <a:cubicBezTo>
                  <a:pt x="20439" y="8426"/>
                  <a:pt x="20488" y="8417"/>
                  <a:pt x="20538" y="8409"/>
                </a:cubicBezTo>
              </a:path>
              <a:path w="5930" h="2828">
                <a:moveTo>
                  <a:pt x="18827" y="8930"/>
                </a:moveTo>
                <a:cubicBezTo>
                  <a:pt x="18735" y="8958"/>
                  <a:pt x="18665" y="8975"/>
                  <a:pt x="18628" y="9079"/>
                </a:cubicBezTo>
                <a:cubicBezTo>
                  <a:pt x="18628" y="9095"/>
                  <a:pt x="18628" y="9112"/>
                  <a:pt x="18628" y="9128"/>
                </a:cubicBezTo>
                <a:cubicBezTo>
                  <a:pt x="18766" y="9119"/>
                  <a:pt x="18923" y="9033"/>
                  <a:pt x="18976" y="9203"/>
                </a:cubicBezTo>
                <a:cubicBezTo>
                  <a:pt x="19034" y="9388"/>
                  <a:pt x="18813" y="9409"/>
                  <a:pt x="18703" y="9401"/>
                </a:cubicBezTo>
              </a:path>
              <a:path w="5930" h="2828">
                <a:moveTo>
                  <a:pt x="19745" y="9103"/>
                </a:moveTo>
                <a:lnTo>
                  <a:pt x="19745" y="9103"/>
                </a:lnTo>
              </a:path>
              <a:path w="5930" h="2828">
                <a:moveTo>
                  <a:pt x="19621" y="8384"/>
                </a:moveTo>
                <a:lnTo>
                  <a:pt x="19621" y="8384"/>
                </a:lnTo>
              </a:path>
              <a:path w="5930" h="2828">
                <a:moveTo>
                  <a:pt x="20141" y="8682"/>
                </a:moveTo>
                <a:cubicBezTo>
                  <a:pt x="20059" y="8831"/>
                  <a:pt x="20017" y="8907"/>
                  <a:pt x="20017" y="9079"/>
                </a:cubicBezTo>
                <a:cubicBezTo>
                  <a:pt x="20149" y="9071"/>
                  <a:pt x="20343" y="9051"/>
                  <a:pt x="20241" y="8855"/>
                </a:cubicBezTo>
                <a:cubicBezTo>
                  <a:pt x="20216" y="8830"/>
                  <a:pt x="20191" y="8806"/>
                  <a:pt x="20166" y="8781"/>
                </a:cubicBezTo>
              </a:path>
              <a:path w="5930" h="2828">
                <a:moveTo>
                  <a:pt x="20017" y="7863"/>
                </a:moveTo>
                <a:cubicBezTo>
                  <a:pt x="19927" y="7900"/>
                  <a:pt x="19930" y="7877"/>
                  <a:pt x="19918" y="7962"/>
                </a:cubicBezTo>
                <a:cubicBezTo>
                  <a:pt x="19956" y="7988"/>
                  <a:pt x="20214" y="8133"/>
                  <a:pt x="20141" y="8210"/>
                </a:cubicBezTo>
                <a:cubicBezTo>
                  <a:pt x="20053" y="8254"/>
                  <a:pt x="20032" y="8271"/>
                  <a:pt x="19968" y="8260"/>
                </a:cubicBezTo>
                <a:cubicBezTo>
                  <a:pt x="19942" y="8104"/>
                  <a:pt x="20011" y="8125"/>
                  <a:pt x="20067" y="8012"/>
                </a:cubicBezTo>
                <a:cubicBezTo>
                  <a:pt x="20067" y="7995"/>
                  <a:pt x="20067" y="7979"/>
                  <a:pt x="20067" y="7962"/>
                </a:cubicBezTo>
              </a:path>
              <a:path w="5930" h="2828">
                <a:moveTo>
                  <a:pt x="19397" y="9525"/>
                </a:moveTo>
                <a:cubicBezTo>
                  <a:pt x="19384" y="9593"/>
                  <a:pt x="19362" y="9655"/>
                  <a:pt x="19348" y="9723"/>
                </a:cubicBezTo>
                <a:cubicBezTo>
                  <a:pt x="19456" y="9723"/>
                  <a:pt x="19514" y="9718"/>
                  <a:pt x="19596" y="9699"/>
                </a:cubicBezTo>
              </a:path>
              <a:path w="5930" h="2828">
                <a:moveTo>
                  <a:pt x="19670" y="9351"/>
                </a:moveTo>
                <a:cubicBezTo>
                  <a:pt x="19621" y="9575"/>
                  <a:pt x="19605" y="9649"/>
                  <a:pt x="19571" y="9798"/>
                </a:cubicBezTo>
              </a:path>
              <a:path w="5930" h="2828">
                <a:moveTo>
                  <a:pt x="19943" y="9500"/>
                </a:moveTo>
                <a:cubicBezTo>
                  <a:pt x="19923" y="9662"/>
                  <a:pt x="19894" y="9698"/>
                  <a:pt x="19968" y="9773"/>
                </a:cubicBezTo>
                <a:cubicBezTo>
                  <a:pt x="20216" y="9668"/>
                  <a:pt x="20241" y="9574"/>
                  <a:pt x="20141" y="9327"/>
                </a:cubicBezTo>
              </a:path>
              <a:path w="5930" h="2828">
                <a:moveTo>
                  <a:pt x="19397" y="10269"/>
                </a:moveTo>
                <a:cubicBezTo>
                  <a:pt x="19644" y="10157"/>
                  <a:pt x="19889" y="10047"/>
                  <a:pt x="20141" y="9947"/>
                </a:cubicBezTo>
              </a:path>
              <a:path w="5930" h="2828">
                <a:moveTo>
                  <a:pt x="20067" y="10220"/>
                </a:moveTo>
                <a:cubicBezTo>
                  <a:pt x="20002" y="10344"/>
                  <a:pt x="19967" y="10366"/>
                  <a:pt x="19993" y="10492"/>
                </a:cubicBezTo>
                <a:cubicBezTo>
                  <a:pt x="20161" y="10384"/>
                  <a:pt x="20177" y="10354"/>
                  <a:pt x="20241" y="10170"/>
                </a:cubicBezTo>
              </a:path>
              <a:path w="5930" h="2828">
                <a:moveTo>
                  <a:pt x="21258" y="8806"/>
                </a:moveTo>
                <a:lnTo>
                  <a:pt x="21258" y="8806"/>
                </a:lnTo>
              </a:path>
              <a:path w="5930" h="2828">
                <a:moveTo>
                  <a:pt x="21729" y="8086"/>
                </a:moveTo>
                <a:cubicBezTo>
                  <a:pt x="21642" y="8086"/>
                  <a:pt x="21606" y="8091"/>
                  <a:pt x="21555" y="8136"/>
                </a:cubicBezTo>
                <a:cubicBezTo>
                  <a:pt x="21595" y="8309"/>
                  <a:pt x="21775" y="8356"/>
                  <a:pt x="21803" y="8533"/>
                </a:cubicBezTo>
                <a:cubicBezTo>
                  <a:pt x="21827" y="8687"/>
                  <a:pt x="21672" y="8670"/>
                  <a:pt x="21580" y="8682"/>
                </a:cubicBezTo>
                <a:cubicBezTo>
                  <a:pt x="21610" y="8510"/>
                  <a:pt x="21769" y="8324"/>
                  <a:pt x="21779" y="8161"/>
                </a:cubicBezTo>
                <a:cubicBezTo>
                  <a:pt x="21771" y="8153"/>
                  <a:pt x="21762" y="8144"/>
                  <a:pt x="21754" y="8136"/>
                </a:cubicBezTo>
              </a:path>
              <a:path w="5930" h="2828">
                <a:moveTo>
                  <a:pt x="22275" y="8285"/>
                </a:moveTo>
                <a:cubicBezTo>
                  <a:pt x="22375" y="8246"/>
                  <a:pt x="22442" y="8223"/>
                  <a:pt x="22547" y="8210"/>
                </a:cubicBezTo>
              </a:path>
              <a:path w="5930" h="2828">
                <a:moveTo>
                  <a:pt x="22572" y="8384"/>
                </a:moveTo>
                <a:cubicBezTo>
                  <a:pt x="22622" y="8367"/>
                  <a:pt x="22671" y="8351"/>
                  <a:pt x="22721" y="8334"/>
                </a:cubicBezTo>
              </a:path>
              <a:path w="5930" h="2828">
                <a:moveTo>
                  <a:pt x="21307" y="9079"/>
                </a:moveTo>
                <a:cubicBezTo>
                  <a:pt x="21442" y="9186"/>
                  <a:pt x="21597" y="9218"/>
                  <a:pt x="21754" y="9103"/>
                </a:cubicBezTo>
                <a:cubicBezTo>
                  <a:pt x="21814" y="9022"/>
                  <a:pt x="21829" y="9009"/>
                  <a:pt x="21853" y="8954"/>
                </a:cubicBezTo>
                <a:cubicBezTo>
                  <a:pt x="21880" y="9101"/>
                  <a:pt x="21955" y="9118"/>
                  <a:pt x="22101" y="9029"/>
                </a:cubicBezTo>
                <a:cubicBezTo>
                  <a:pt x="22190" y="8975"/>
                  <a:pt x="22285" y="8905"/>
                  <a:pt x="22299" y="8806"/>
                </a:cubicBezTo>
              </a:path>
              <a:path w="5930" h="2828">
                <a:moveTo>
                  <a:pt x="22101" y="8483"/>
                </a:moveTo>
                <a:cubicBezTo>
                  <a:pt x="22066" y="8483"/>
                  <a:pt x="22053" y="8492"/>
                  <a:pt x="22051" y="8533"/>
                </a:cubicBezTo>
                <a:cubicBezTo>
                  <a:pt x="22055" y="8534"/>
                  <a:pt x="22337" y="8572"/>
                  <a:pt x="22250" y="8458"/>
                </a:cubicBezTo>
                <a:cubicBezTo>
                  <a:pt x="22209" y="8438"/>
                  <a:pt x="22203" y="8430"/>
                  <a:pt x="22175" y="8434"/>
                </a:cubicBezTo>
              </a:path>
              <a:path w="5930" h="2828">
                <a:moveTo>
                  <a:pt x="23639" y="7962"/>
                </a:moveTo>
                <a:cubicBezTo>
                  <a:pt x="23511" y="7878"/>
                  <a:pt x="23422" y="7917"/>
                  <a:pt x="23292" y="8012"/>
                </a:cubicBezTo>
                <a:cubicBezTo>
                  <a:pt x="23372" y="8149"/>
                  <a:pt x="23578" y="8323"/>
                  <a:pt x="23366" y="8434"/>
                </a:cubicBezTo>
                <a:cubicBezTo>
                  <a:pt x="23325" y="8442"/>
                  <a:pt x="23283" y="8450"/>
                  <a:pt x="23242" y="8458"/>
                </a:cubicBezTo>
                <a:cubicBezTo>
                  <a:pt x="23216" y="8281"/>
                  <a:pt x="23340" y="8211"/>
                  <a:pt x="23490" y="8062"/>
                </a:cubicBezTo>
              </a:path>
              <a:path w="5930" h="2828">
                <a:moveTo>
                  <a:pt x="23837" y="7987"/>
                </a:moveTo>
                <a:cubicBezTo>
                  <a:pt x="23718" y="8023"/>
                  <a:pt x="23523" y="8198"/>
                  <a:pt x="23589" y="8359"/>
                </a:cubicBezTo>
                <a:cubicBezTo>
                  <a:pt x="23622" y="8376"/>
                  <a:pt x="23655" y="8392"/>
                  <a:pt x="23688" y="8409"/>
                </a:cubicBezTo>
                <a:cubicBezTo>
                  <a:pt x="23944" y="8301"/>
                  <a:pt x="23928" y="8225"/>
                  <a:pt x="23862" y="7962"/>
                </a:cubicBezTo>
              </a:path>
              <a:path w="5930" h="2828">
                <a:moveTo>
                  <a:pt x="24110" y="7714"/>
                </a:moveTo>
                <a:cubicBezTo>
                  <a:pt x="23993" y="7785"/>
                  <a:pt x="24016" y="7846"/>
                  <a:pt x="24110" y="7888"/>
                </a:cubicBezTo>
                <a:cubicBezTo>
                  <a:pt x="24133" y="7818"/>
                  <a:pt x="24093" y="7712"/>
                  <a:pt x="24135" y="7665"/>
                </a:cubicBezTo>
                <a:cubicBezTo>
                  <a:pt x="24143" y="7665"/>
                  <a:pt x="24152" y="7665"/>
                  <a:pt x="24160" y="7665"/>
                </a:cubicBezTo>
                <a:cubicBezTo>
                  <a:pt x="24340" y="7762"/>
                  <a:pt x="24309" y="7907"/>
                  <a:pt x="24209" y="8086"/>
                </a:cubicBezTo>
                <a:cubicBezTo>
                  <a:pt x="24176" y="8127"/>
                  <a:pt x="24143" y="8169"/>
                  <a:pt x="24110" y="8210"/>
                </a:cubicBezTo>
              </a:path>
              <a:path w="5930" h="2828">
                <a:moveTo>
                  <a:pt x="24383" y="8210"/>
                </a:moveTo>
                <a:cubicBezTo>
                  <a:pt x="24422" y="8273"/>
                  <a:pt x="24508" y="8391"/>
                  <a:pt x="24557" y="8260"/>
                </a:cubicBezTo>
                <a:cubicBezTo>
                  <a:pt x="24557" y="8243"/>
                  <a:pt x="24557" y="8227"/>
                  <a:pt x="24557" y="821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15000" y="4518000"/>
            <a:ext cx="187200" cy="117360"/>
          </a:xfrm>
          <a:custGeom>
            <a:avLst/>
            <a:gdLst/>
            <a:ahLst/>
            <a:rect l="l" t="t" r="r" b="b"/>
            <a:pathLst>
              <a:path w="522" h="324">
                <a:moveTo>
                  <a:pt x="15875" y="12874"/>
                </a:moveTo>
                <a:lnTo>
                  <a:pt x="15875" y="12874"/>
                </a:lnTo>
              </a:path>
              <a:path w="522" h="324">
                <a:moveTo>
                  <a:pt x="16073" y="12551"/>
                </a:moveTo>
                <a:cubicBezTo>
                  <a:pt x="16073" y="12653"/>
                  <a:pt x="16019" y="12838"/>
                  <a:pt x="16173" y="12849"/>
                </a:cubicBezTo>
                <a:cubicBezTo>
                  <a:pt x="16248" y="12855"/>
                  <a:pt x="16396" y="12787"/>
                  <a:pt x="16396" y="12700"/>
                </a:cubicBezTo>
                <a:cubicBezTo>
                  <a:pt x="16396" y="12580"/>
                  <a:pt x="16229" y="12787"/>
                  <a:pt x="16222" y="1279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357960" y="4429080"/>
            <a:ext cx="349200" cy="169920"/>
          </a:xfrm>
          <a:custGeom>
            <a:avLst/>
            <a:gdLst/>
            <a:ahLst/>
            <a:rect l="l" t="t" r="r" b="b"/>
            <a:pathLst>
              <a:path w="968" h="472">
                <a:moveTo>
                  <a:pt x="17661" y="12725"/>
                </a:moveTo>
                <a:lnTo>
                  <a:pt x="17661" y="12725"/>
                </a:lnTo>
              </a:path>
              <a:path w="968" h="472">
                <a:moveTo>
                  <a:pt x="17884" y="12452"/>
                </a:moveTo>
                <a:cubicBezTo>
                  <a:pt x="17884" y="12559"/>
                  <a:pt x="17865" y="12654"/>
                  <a:pt x="17884" y="12750"/>
                </a:cubicBezTo>
                <a:cubicBezTo>
                  <a:pt x="17936" y="12760"/>
                  <a:pt x="18205" y="12731"/>
                  <a:pt x="18132" y="12601"/>
                </a:cubicBezTo>
                <a:cubicBezTo>
                  <a:pt x="18083" y="12626"/>
                  <a:pt x="18067" y="12634"/>
                  <a:pt x="18058" y="12675"/>
                </a:cubicBezTo>
              </a:path>
              <a:path w="968" h="472">
                <a:moveTo>
                  <a:pt x="18355" y="12303"/>
                </a:moveTo>
                <a:cubicBezTo>
                  <a:pt x="18341" y="12365"/>
                  <a:pt x="18275" y="12554"/>
                  <a:pt x="18331" y="12601"/>
                </a:cubicBezTo>
                <a:cubicBezTo>
                  <a:pt x="18423" y="12678"/>
                  <a:pt x="18580" y="12587"/>
                  <a:pt x="18628" y="12526"/>
                </a:cubicBezTo>
                <a:cubicBezTo>
                  <a:pt x="18557" y="12547"/>
                  <a:pt x="18566" y="12552"/>
                  <a:pt x="18529" y="1262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956120" y="493884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3767" y="13717"/>
                </a:moveTo>
                <a:lnTo>
                  <a:pt x="13767" y="13717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072040" y="4732200"/>
            <a:ext cx="277920" cy="169920"/>
          </a:xfrm>
          <a:custGeom>
            <a:avLst/>
            <a:gdLst/>
            <a:ahLst/>
            <a:rect l="l" t="t" r="r" b="b"/>
            <a:pathLst>
              <a:path w="770" h="473">
                <a:moveTo>
                  <a:pt x="14188" y="13271"/>
                </a:moveTo>
                <a:cubicBezTo>
                  <a:pt x="14145" y="13391"/>
                  <a:pt x="14085" y="13504"/>
                  <a:pt x="14114" y="13618"/>
                </a:cubicBezTo>
                <a:cubicBezTo>
                  <a:pt x="14206" y="13604"/>
                  <a:pt x="14410" y="13567"/>
                  <a:pt x="14362" y="13419"/>
                </a:cubicBezTo>
                <a:cubicBezTo>
                  <a:pt x="14345" y="13403"/>
                  <a:pt x="14329" y="13386"/>
                  <a:pt x="14312" y="13370"/>
                </a:cubicBezTo>
              </a:path>
              <a:path w="770" h="473">
                <a:moveTo>
                  <a:pt x="14585" y="13146"/>
                </a:moveTo>
                <a:cubicBezTo>
                  <a:pt x="14585" y="13241"/>
                  <a:pt x="14521" y="13494"/>
                  <a:pt x="14660" y="13494"/>
                </a:cubicBezTo>
                <a:cubicBezTo>
                  <a:pt x="14758" y="13494"/>
                  <a:pt x="14836" y="13445"/>
                  <a:pt x="14858" y="13370"/>
                </a:cubicBezTo>
                <a:cubicBezTo>
                  <a:pt x="14754" y="13370"/>
                  <a:pt x="14691" y="13390"/>
                  <a:pt x="14709" y="13519"/>
                </a:cubicBezTo>
                <a:cubicBezTo>
                  <a:pt x="14717" y="13535"/>
                  <a:pt x="14726" y="13552"/>
                  <a:pt x="14734" y="1356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446800" y="4749840"/>
            <a:ext cx="46080" cy="277920"/>
          </a:xfrm>
          <a:custGeom>
            <a:avLst/>
            <a:gdLst/>
            <a:ahLst/>
            <a:rect l="l" t="t" r="r" b="b"/>
            <a:pathLst>
              <a:path w="125" h="770">
                <a:moveTo>
                  <a:pt x="15131" y="13196"/>
                </a:moveTo>
                <a:cubicBezTo>
                  <a:pt x="15131" y="13213"/>
                  <a:pt x="15131" y="13229"/>
                  <a:pt x="15131" y="13246"/>
                </a:cubicBezTo>
              </a:path>
              <a:path w="125" h="770">
                <a:moveTo>
                  <a:pt x="15255" y="13742"/>
                </a:moveTo>
                <a:cubicBezTo>
                  <a:pt x="15232" y="13858"/>
                  <a:pt x="15225" y="13891"/>
                  <a:pt x="15205" y="1396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680080" y="491184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5776" y="13643"/>
                </a:moveTo>
                <a:lnTo>
                  <a:pt x="15776" y="13643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796000" y="4759200"/>
            <a:ext cx="106200" cy="125640"/>
          </a:xfrm>
          <a:custGeom>
            <a:avLst/>
            <a:gdLst/>
            <a:ahLst/>
            <a:rect l="l" t="t" r="r" b="b"/>
            <a:pathLst>
              <a:path w="299" h="348">
                <a:moveTo>
                  <a:pt x="16148" y="13221"/>
                </a:moveTo>
                <a:cubicBezTo>
                  <a:pt x="16126" y="13345"/>
                  <a:pt x="16065" y="13465"/>
                  <a:pt x="16148" y="13568"/>
                </a:cubicBezTo>
                <a:cubicBezTo>
                  <a:pt x="16292" y="13550"/>
                  <a:pt x="16362" y="13546"/>
                  <a:pt x="16396" y="13395"/>
                </a:cubicBezTo>
                <a:cubicBezTo>
                  <a:pt x="16280" y="13424"/>
                  <a:pt x="16278" y="13433"/>
                  <a:pt x="16222" y="1354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37200" y="4875120"/>
            <a:ext cx="27000" cy="108000"/>
          </a:xfrm>
          <a:custGeom>
            <a:avLst/>
            <a:gdLst/>
            <a:ahLst/>
            <a:rect l="l" t="t" r="r" b="b"/>
            <a:pathLst>
              <a:path w="75" h="299">
                <a:moveTo>
                  <a:pt x="16793" y="13543"/>
                </a:moveTo>
                <a:cubicBezTo>
                  <a:pt x="16864" y="13667"/>
                  <a:pt x="16832" y="13722"/>
                  <a:pt x="16768" y="1384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180120" y="486720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7165" y="13519"/>
                </a:moveTo>
                <a:lnTo>
                  <a:pt x="17165" y="13519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276960" y="4732200"/>
            <a:ext cx="268200" cy="152640"/>
          </a:xfrm>
          <a:custGeom>
            <a:avLst/>
            <a:gdLst/>
            <a:ahLst/>
            <a:rect l="l" t="t" r="r" b="b"/>
            <a:pathLst>
              <a:path w="745" h="423">
                <a:moveTo>
                  <a:pt x="17438" y="13271"/>
                </a:moveTo>
                <a:cubicBezTo>
                  <a:pt x="17438" y="13300"/>
                  <a:pt x="17402" y="13550"/>
                  <a:pt x="17487" y="13568"/>
                </a:cubicBezTo>
                <a:cubicBezTo>
                  <a:pt x="17698" y="13612"/>
                  <a:pt x="17801" y="13347"/>
                  <a:pt x="17686" y="13494"/>
                </a:cubicBezTo>
                <a:cubicBezTo>
                  <a:pt x="17678" y="13519"/>
                  <a:pt x="17669" y="13543"/>
                  <a:pt x="17661" y="13568"/>
                </a:cubicBezTo>
              </a:path>
              <a:path w="745" h="423">
                <a:moveTo>
                  <a:pt x="17959" y="13146"/>
                </a:moveTo>
                <a:cubicBezTo>
                  <a:pt x="17945" y="13194"/>
                  <a:pt x="17847" y="13457"/>
                  <a:pt x="17959" y="13469"/>
                </a:cubicBezTo>
                <a:cubicBezTo>
                  <a:pt x="18040" y="13477"/>
                  <a:pt x="18126" y="13390"/>
                  <a:pt x="18182" y="13345"/>
                </a:cubicBezTo>
                <a:cubicBezTo>
                  <a:pt x="18083" y="13356"/>
                  <a:pt x="18083" y="13386"/>
                  <a:pt x="18033" y="1349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53160" y="4830840"/>
            <a:ext cx="44640" cy="162000"/>
          </a:xfrm>
          <a:custGeom>
            <a:avLst/>
            <a:gdLst/>
            <a:ahLst/>
            <a:rect l="l" t="t" r="r" b="b"/>
            <a:pathLst>
              <a:path w="126" h="448">
                <a:moveTo>
                  <a:pt x="18504" y="13419"/>
                </a:moveTo>
                <a:cubicBezTo>
                  <a:pt x="18504" y="13436"/>
                  <a:pt x="18504" y="13452"/>
                  <a:pt x="18504" y="13469"/>
                </a:cubicBezTo>
              </a:path>
              <a:path w="126" h="448">
                <a:moveTo>
                  <a:pt x="18579" y="13543"/>
                </a:moveTo>
                <a:cubicBezTo>
                  <a:pt x="18598" y="13750"/>
                  <a:pt x="18619" y="13726"/>
                  <a:pt x="18479" y="1386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04000" y="485784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8901" y="13494"/>
                </a:moveTo>
                <a:lnTo>
                  <a:pt x="18901" y="13494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929280" y="4653000"/>
            <a:ext cx="88920" cy="177840"/>
          </a:xfrm>
          <a:custGeom>
            <a:avLst/>
            <a:gdLst/>
            <a:ahLst/>
            <a:rect l="l" t="t" r="r" b="b"/>
            <a:pathLst>
              <a:path w="249" h="497">
                <a:moveTo>
                  <a:pt x="19248" y="13022"/>
                </a:moveTo>
                <a:cubicBezTo>
                  <a:pt x="19318" y="12979"/>
                  <a:pt x="19393" y="12951"/>
                  <a:pt x="19472" y="12923"/>
                </a:cubicBezTo>
                <a:cubicBezTo>
                  <a:pt x="19514" y="13067"/>
                  <a:pt x="19489" y="13223"/>
                  <a:pt x="19447" y="13370"/>
                </a:cubicBezTo>
                <a:cubicBezTo>
                  <a:pt x="19439" y="13386"/>
                  <a:pt x="19430" y="13403"/>
                  <a:pt x="19422" y="1341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32640" y="5037120"/>
            <a:ext cx="152280" cy="419040"/>
          </a:xfrm>
          <a:custGeom>
            <a:avLst/>
            <a:gdLst/>
            <a:ahLst/>
            <a:rect l="l" t="t" r="r" b="b"/>
            <a:pathLst>
              <a:path w="422" h="1167">
                <a:moveTo>
                  <a:pt x="15925" y="14039"/>
                </a:moveTo>
                <a:cubicBezTo>
                  <a:pt x="16007" y="14012"/>
                  <a:pt x="16158" y="13958"/>
                  <a:pt x="16049" y="14114"/>
                </a:cubicBezTo>
                <a:cubicBezTo>
                  <a:pt x="16024" y="14139"/>
                  <a:pt x="15999" y="14163"/>
                  <a:pt x="15974" y="14188"/>
                </a:cubicBezTo>
                <a:cubicBezTo>
                  <a:pt x="16078" y="14147"/>
                  <a:pt x="16105" y="14116"/>
                  <a:pt x="16148" y="14188"/>
                </a:cubicBezTo>
                <a:cubicBezTo>
                  <a:pt x="16094" y="14314"/>
                  <a:pt x="16102" y="14309"/>
                  <a:pt x="15974" y="14362"/>
                </a:cubicBezTo>
              </a:path>
              <a:path w="422" h="1167">
                <a:moveTo>
                  <a:pt x="15974" y="14585"/>
                </a:moveTo>
                <a:cubicBezTo>
                  <a:pt x="16099" y="14549"/>
                  <a:pt x="16221" y="14520"/>
                  <a:pt x="16346" y="14486"/>
                </a:cubicBezTo>
              </a:path>
              <a:path w="422" h="1167">
                <a:moveTo>
                  <a:pt x="16073" y="14833"/>
                </a:moveTo>
                <a:cubicBezTo>
                  <a:pt x="16052" y="14876"/>
                  <a:pt x="16033" y="14912"/>
                  <a:pt x="16024" y="14957"/>
                </a:cubicBezTo>
                <a:cubicBezTo>
                  <a:pt x="16038" y="14955"/>
                  <a:pt x="16261" y="14900"/>
                  <a:pt x="16222" y="15007"/>
                </a:cubicBezTo>
                <a:cubicBezTo>
                  <a:pt x="16171" y="15146"/>
                  <a:pt x="16065" y="15141"/>
                  <a:pt x="15949" y="15156"/>
                </a:cubicBezTo>
              </a:path>
              <a:path w="422" h="1167">
                <a:moveTo>
                  <a:pt x="16049" y="14833"/>
                </a:moveTo>
                <a:cubicBezTo>
                  <a:pt x="16128" y="14778"/>
                  <a:pt x="16205" y="14750"/>
                  <a:pt x="16297" y="1470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49960" y="4983120"/>
            <a:ext cx="287280" cy="473040"/>
          </a:xfrm>
          <a:custGeom>
            <a:avLst/>
            <a:gdLst/>
            <a:ahLst/>
            <a:rect l="l" t="t" r="r" b="b"/>
            <a:pathLst>
              <a:path w="795" h="1316">
                <a:moveTo>
                  <a:pt x="17413" y="13915"/>
                </a:moveTo>
                <a:cubicBezTo>
                  <a:pt x="17484" y="13868"/>
                  <a:pt x="17506" y="13852"/>
                  <a:pt x="17562" y="13841"/>
                </a:cubicBezTo>
                <a:cubicBezTo>
                  <a:pt x="17541" y="13967"/>
                  <a:pt x="17497" y="13976"/>
                  <a:pt x="17562" y="14064"/>
                </a:cubicBezTo>
                <a:cubicBezTo>
                  <a:pt x="17666" y="14205"/>
                  <a:pt x="17451" y="14225"/>
                  <a:pt x="17363" y="14238"/>
                </a:cubicBezTo>
              </a:path>
              <a:path w="795" h="1316">
                <a:moveTo>
                  <a:pt x="17686" y="13866"/>
                </a:moveTo>
                <a:cubicBezTo>
                  <a:pt x="17849" y="13839"/>
                  <a:pt x="17930" y="13808"/>
                  <a:pt x="17810" y="13965"/>
                </a:cubicBezTo>
                <a:cubicBezTo>
                  <a:pt x="17877" y="13980"/>
                  <a:pt x="18017" y="14041"/>
                  <a:pt x="17909" y="14139"/>
                </a:cubicBezTo>
                <a:cubicBezTo>
                  <a:pt x="17876" y="14155"/>
                  <a:pt x="17843" y="14172"/>
                  <a:pt x="17810" y="14188"/>
                </a:cubicBezTo>
              </a:path>
              <a:path w="795" h="1316">
                <a:moveTo>
                  <a:pt x="17562" y="14486"/>
                </a:moveTo>
                <a:cubicBezTo>
                  <a:pt x="17733" y="14441"/>
                  <a:pt x="17891" y="14390"/>
                  <a:pt x="18058" y="14337"/>
                </a:cubicBezTo>
              </a:path>
              <a:path w="795" h="1316">
                <a:moveTo>
                  <a:pt x="17512" y="14808"/>
                </a:moveTo>
                <a:cubicBezTo>
                  <a:pt x="17493" y="14941"/>
                  <a:pt x="17627" y="14835"/>
                  <a:pt x="17661" y="14957"/>
                </a:cubicBezTo>
                <a:cubicBezTo>
                  <a:pt x="17706" y="15119"/>
                  <a:pt x="17566" y="15121"/>
                  <a:pt x="17462" y="15156"/>
                </a:cubicBezTo>
              </a:path>
              <a:path w="795" h="1316">
                <a:moveTo>
                  <a:pt x="17661" y="14759"/>
                </a:moveTo>
                <a:cubicBezTo>
                  <a:pt x="17754" y="14738"/>
                  <a:pt x="17824" y="14722"/>
                  <a:pt x="17909" y="14684"/>
                </a:cubicBezTo>
                <a:cubicBezTo>
                  <a:pt x="17920" y="14756"/>
                  <a:pt x="17918" y="14826"/>
                  <a:pt x="17934" y="14883"/>
                </a:cubicBezTo>
                <a:cubicBezTo>
                  <a:pt x="18055" y="14864"/>
                  <a:pt x="18147" y="14857"/>
                  <a:pt x="18132" y="1473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678040" y="5295960"/>
            <a:ext cx="295200" cy="204840"/>
          </a:xfrm>
          <a:custGeom>
            <a:avLst/>
            <a:gdLst/>
            <a:ahLst/>
            <a:rect l="l" t="t" r="r" b="b"/>
            <a:pathLst>
              <a:path w="820" h="572">
                <a:moveTo>
                  <a:pt x="7441" y="15280"/>
                </a:moveTo>
                <a:lnTo>
                  <a:pt x="7441" y="15280"/>
                </a:lnTo>
              </a:path>
              <a:path w="820" h="572">
                <a:moveTo>
                  <a:pt x="7714" y="14858"/>
                </a:moveTo>
                <a:cubicBezTo>
                  <a:pt x="7674" y="14939"/>
                  <a:pt x="7658" y="14952"/>
                  <a:pt x="7665" y="15007"/>
                </a:cubicBezTo>
                <a:cubicBezTo>
                  <a:pt x="7743" y="15034"/>
                  <a:pt x="7794" y="14994"/>
                  <a:pt x="7888" y="14957"/>
                </a:cubicBezTo>
              </a:path>
              <a:path w="820" h="572">
                <a:moveTo>
                  <a:pt x="7813" y="14957"/>
                </a:moveTo>
                <a:cubicBezTo>
                  <a:pt x="7791" y="15115"/>
                  <a:pt x="7780" y="15157"/>
                  <a:pt x="7813" y="15255"/>
                </a:cubicBezTo>
              </a:path>
              <a:path w="820" h="572">
                <a:moveTo>
                  <a:pt x="8012" y="14908"/>
                </a:moveTo>
                <a:cubicBezTo>
                  <a:pt x="8133" y="14952"/>
                  <a:pt x="8358" y="14990"/>
                  <a:pt x="8235" y="15180"/>
                </a:cubicBezTo>
                <a:cubicBezTo>
                  <a:pt x="8210" y="15197"/>
                  <a:pt x="8186" y="15213"/>
                  <a:pt x="8161" y="15230"/>
                </a:cubicBezTo>
              </a:path>
              <a:path w="820" h="572">
                <a:moveTo>
                  <a:pt x="8136" y="14759"/>
                </a:moveTo>
                <a:cubicBezTo>
                  <a:pt x="8169" y="14742"/>
                  <a:pt x="8202" y="14726"/>
                  <a:pt x="8235" y="1470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330720" y="4205160"/>
            <a:ext cx="401400" cy="196920"/>
          </a:xfrm>
          <a:custGeom>
            <a:avLst/>
            <a:gdLst/>
            <a:ahLst/>
            <a:rect l="l" t="t" r="r" b="b"/>
            <a:pathLst>
              <a:path w="1117" h="547">
                <a:moveTo>
                  <a:pt x="9252" y="11906"/>
                </a:moveTo>
                <a:cubicBezTo>
                  <a:pt x="9327" y="11878"/>
                  <a:pt x="9419" y="11847"/>
                  <a:pt x="9500" y="11832"/>
                </a:cubicBezTo>
                <a:cubicBezTo>
                  <a:pt x="9608" y="11813"/>
                  <a:pt x="9715" y="11807"/>
                  <a:pt x="9823" y="11782"/>
                </a:cubicBezTo>
                <a:cubicBezTo>
                  <a:pt x="9926" y="11758"/>
                  <a:pt x="9995" y="11751"/>
                  <a:pt x="10096" y="11733"/>
                </a:cubicBezTo>
                <a:cubicBezTo>
                  <a:pt x="10182" y="11717"/>
                  <a:pt x="10254" y="11683"/>
                  <a:pt x="10344" y="11683"/>
                </a:cubicBezTo>
              </a:path>
              <a:path w="1117" h="547">
                <a:moveTo>
                  <a:pt x="9550" y="12229"/>
                </a:moveTo>
                <a:cubicBezTo>
                  <a:pt x="9533" y="12229"/>
                  <a:pt x="9517" y="12229"/>
                  <a:pt x="9500" y="12229"/>
                </a:cubicBezTo>
                <a:cubicBezTo>
                  <a:pt x="9596" y="12094"/>
                  <a:pt x="9733" y="12044"/>
                  <a:pt x="9897" y="12005"/>
                </a:cubicBezTo>
                <a:cubicBezTo>
                  <a:pt x="10024" y="11975"/>
                  <a:pt x="10179" y="11975"/>
                  <a:pt x="10294" y="11906"/>
                </a:cubicBezTo>
                <a:cubicBezTo>
                  <a:pt x="10322" y="11878"/>
                  <a:pt x="10335" y="11869"/>
                  <a:pt x="10368" y="1188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339920" y="549108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3721" y="15255"/>
                </a:moveTo>
                <a:lnTo>
                  <a:pt x="3721" y="15255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446120" y="5322960"/>
            <a:ext cx="98640" cy="160200"/>
          </a:xfrm>
          <a:custGeom>
            <a:avLst/>
            <a:gdLst/>
            <a:ahLst/>
            <a:rect l="l" t="t" r="r" b="b"/>
            <a:pathLst>
              <a:path w="274" h="447">
                <a:moveTo>
                  <a:pt x="4217" y="14784"/>
                </a:moveTo>
                <a:cubicBezTo>
                  <a:pt x="4118" y="14800"/>
                  <a:pt x="4095" y="14814"/>
                  <a:pt x="4018" y="14883"/>
                </a:cubicBezTo>
                <a:cubicBezTo>
                  <a:pt x="4087" y="14935"/>
                  <a:pt x="4303" y="15015"/>
                  <a:pt x="4291" y="15131"/>
                </a:cubicBezTo>
                <a:cubicBezTo>
                  <a:pt x="4248" y="15196"/>
                  <a:pt x="4242" y="15216"/>
                  <a:pt x="4192" y="15230"/>
                </a:cubicBezTo>
                <a:cubicBezTo>
                  <a:pt x="4155" y="15109"/>
                  <a:pt x="4179" y="15029"/>
                  <a:pt x="4217" y="1490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241280" y="5742000"/>
            <a:ext cx="268560" cy="204840"/>
          </a:xfrm>
          <a:custGeom>
            <a:avLst/>
            <a:gdLst/>
            <a:ahLst/>
            <a:rect l="l" t="t" r="r" b="b"/>
            <a:pathLst>
              <a:path w="745" h="572">
                <a:moveTo>
                  <a:pt x="3448" y="16371"/>
                </a:moveTo>
                <a:lnTo>
                  <a:pt x="3448" y="16371"/>
                </a:lnTo>
              </a:path>
              <a:path w="745" h="572">
                <a:moveTo>
                  <a:pt x="3696" y="16123"/>
                </a:moveTo>
                <a:cubicBezTo>
                  <a:pt x="3615" y="16239"/>
                  <a:pt x="3594" y="16352"/>
                  <a:pt x="3646" y="16495"/>
                </a:cubicBezTo>
                <a:cubicBezTo>
                  <a:pt x="3654" y="16503"/>
                  <a:pt x="3663" y="16512"/>
                  <a:pt x="3671" y="16520"/>
                </a:cubicBezTo>
                <a:cubicBezTo>
                  <a:pt x="3781" y="16496"/>
                  <a:pt x="3877" y="16434"/>
                  <a:pt x="3845" y="16297"/>
                </a:cubicBezTo>
                <a:cubicBezTo>
                  <a:pt x="3819" y="16184"/>
                  <a:pt x="3783" y="16184"/>
                  <a:pt x="3696" y="16173"/>
                </a:cubicBezTo>
              </a:path>
              <a:path w="745" h="572">
                <a:moveTo>
                  <a:pt x="4043" y="15949"/>
                </a:moveTo>
                <a:cubicBezTo>
                  <a:pt x="3987" y="16006"/>
                  <a:pt x="3938" y="16058"/>
                  <a:pt x="3894" y="16123"/>
                </a:cubicBezTo>
                <a:cubicBezTo>
                  <a:pt x="3962" y="16201"/>
                  <a:pt x="4156" y="16228"/>
                  <a:pt x="4192" y="16321"/>
                </a:cubicBezTo>
                <a:cubicBezTo>
                  <a:pt x="4192" y="16411"/>
                  <a:pt x="4199" y="16437"/>
                  <a:pt x="4142" y="16470"/>
                </a:cubicBezTo>
                <a:cubicBezTo>
                  <a:pt x="4087" y="16342"/>
                  <a:pt x="4111" y="16281"/>
                  <a:pt x="4118" y="16148"/>
                </a:cubicBezTo>
                <a:cubicBezTo>
                  <a:pt x="4118" y="16131"/>
                  <a:pt x="4118" y="16115"/>
                  <a:pt x="4118" y="1609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633680" y="5946840"/>
            <a:ext cx="9360" cy="98280"/>
          </a:xfrm>
          <a:custGeom>
            <a:avLst/>
            <a:gdLst/>
            <a:ahLst/>
            <a:rect l="l" t="t" r="r" b="b"/>
            <a:pathLst>
              <a:path w="26" h="274">
                <a:moveTo>
                  <a:pt x="4539" y="16520"/>
                </a:moveTo>
                <a:cubicBezTo>
                  <a:pt x="4557" y="16635"/>
                  <a:pt x="4571" y="16686"/>
                  <a:pt x="4539" y="1679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741320" y="5697360"/>
            <a:ext cx="411480" cy="303480"/>
          </a:xfrm>
          <a:custGeom>
            <a:avLst/>
            <a:gdLst/>
            <a:ahLst/>
            <a:rect l="l" t="t" r="r" b="b"/>
            <a:pathLst>
              <a:path w="1142" h="845">
                <a:moveTo>
                  <a:pt x="4837" y="16346"/>
                </a:moveTo>
                <a:lnTo>
                  <a:pt x="4837" y="16346"/>
                </a:lnTo>
              </a:path>
              <a:path w="1142" h="845">
                <a:moveTo>
                  <a:pt x="4961" y="15925"/>
                </a:moveTo>
                <a:cubicBezTo>
                  <a:pt x="4998" y="15997"/>
                  <a:pt x="4990" y="16047"/>
                  <a:pt x="4961" y="16123"/>
                </a:cubicBezTo>
                <a:cubicBezTo>
                  <a:pt x="5027" y="16123"/>
                  <a:pt x="5093" y="16123"/>
                  <a:pt x="5159" y="16123"/>
                </a:cubicBezTo>
              </a:path>
              <a:path w="1142" h="845">
                <a:moveTo>
                  <a:pt x="5234" y="15925"/>
                </a:moveTo>
                <a:cubicBezTo>
                  <a:pt x="5215" y="16060"/>
                  <a:pt x="5249" y="16182"/>
                  <a:pt x="5259" y="16321"/>
                </a:cubicBezTo>
              </a:path>
              <a:path w="1142" h="845">
                <a:moveTo>
                  <a:pt x="5457" y="15949"/>
                </a:moveTo>
                <a:cubicBezTo>
                  <a:pt x="5407" y="16083"/>
                  <a:pt x="5463" y="16074"/>
                  <a:pt x="5581" y="16123"/>
                </a:cubicBezTo>
                <a:cubicBezTo>
                  <a:pt x="5656" y="16154"/>
                  <a:pt x="5702" y="16296"/>
                  <a:pt x="5606" y="16346"/>
                </a:cubicBezTo>
                <a:cubicBezTo>
                  <a:pt x="5581" y="16346"/>
                  <a:pt x="5556" y="16346"/>
                  <a:pt x="5531" y="16346"/>
                </a:cubicBezTo>
              </a:path>
              <a:path w="1142" h="845">
                <a:moveTo>
                  <a:pt x="5482" y="15900"/>
                </a:moveTo>
                <a:cubicBezTo>
                  <a:pt x="5574" y="15869"/>
                  <a:pt x="5639" y="15840"/>
                  <a:pt x="5730" y="15825"/>
                </a:cubicBezTo>
              </a:path>
              <a:path w="1142" h="845">
                <a:moveTo>
                  <a:pt x="5978" y="16470"/>
                </a:moveTo>
                <a:cubicBezTo>
                  <a:pt x="5955" y="16582"/>
                  <a:pt x="5954" y="16613"/>
                  <a:pt x="5904" y="1666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295360" y="5705640"/>
            <a:ext cx="258840" cy="241200"/>
          </a:xfrm>
          <a:custGeom>
            <a:avLst/>
            <a:gdLst/>
            <a:ahLst/>
            <a:rect l="l" t="t" r="r" b="b"/>
            <a:pathLst>
              <a:path w="720" h="671">
                <a:moveTo>
                  <a:pt x="6375" y="16247"/>
                </a:moveTo>
                <a:lnTo>
                  <a:pt x="6375" y="16247"/>
                </a:lnTo>
              </a:path>
              <a:path w="720" h="671">
                <a:moveTo>
                  <a:pt x="6697" y="15850"/>
                </a:moveTo>
                <a:cubicBezTo>
                  <a:pt x="6610" y="15894"/>
                  <a:pt x="6587" y="15901"/>
                  <a:pt x="6548" y="15949"/>
                </a:cubicBezTo>
                <a:cubicBezTo>
                  <a:pt x="6628" y="16008"/>
                  <a:pt x="6854" y="16056"/>
                  <a:pt x="6796" y="16197"/>
                </a:cubicBezTo>
                <a:cubicBezTo>
                  <a:pt x="6735" y="16259"/>
                  <a:pt x="6729" y="16284"/>
                  <a:pt x="6672" y="16272"/>
                </a:cubicBezTo>
                <a:cubicBezTo>
                  <a:pt x="6654" y="16136"/>
                  <a:pt x="6669" y="16030"/>
                  <a:pt x="6722" y="15900"/>
                </a:cubicBezTo>
              </a:path>
              <a:path w="720" h="671">
                <a:moveTo>
                  <a:pt x="7094" y="16247"/>
                </a:moveTo>
                <a:cubicBezTo>
                  <a:pt x="7064" y="16392"/>
                  <a:pt x="7067" y="16423"/>
                  <a:pt x="6970" y="1652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697120" y="584820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7491" y="16247"/>
                </a:moveTo>
                <a:lnTo>
                  <a:pt x="7491" y="16247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795760" y="5680080"/>
            <a:ext cx="258480" cy="160200"/>
          </a:xfrm>
          <a:custGeom>
            <a:avLst/>
            <a:gdLst/>
            <a:ahLst/>
            <a:rect l="l" t="t" r="r" b="b"/>
            <a:pathLst>
              <a:path w="720" h="447">
                <a:moveTo>
                  <a:pt x="7962" y="15825"/>
                </a:moveTo>
                <a:cubicBezTo>
                  <a:pt x="7867" y="15849"/>
                  <a:pt x="7838" y="15855"/>
                  <a:pt x="7789" y="15900"/>
                </a:cubicBezTo>
                <a:cubicBezTo>
                  <a:pt x="7807" y="15932"/>
                  <a:pt x="8106" y="15974"/>
                  <a:pt x="8111" y="16098"/>
                </a:cubicBezTo>
                <a:cubicBezTo>
                  <a:pt x="8117" y="16260"/>
                  <a:pt x="7921" y="16187"/>
                  <a:pt x="7863" y="16173"/>
                </a:cubicBezTo>
                <a:cubicBezTo>
                  <a:pt x="7884" y="16032"/>
                  <a:pt x="7908" y="15974"/>
                  <a:pt x="7987" y="15850"/>
                </a:cubicBezTo>
              </a:path>
              <a:path w="720" h="447">
                <a:moveTo>
                  <a:pt x="8458" y="15776"/>
                </a:moveTo>
                <a:cubicBezTo>
                  <a:pt x="8323" y="15803"/>
                  <a:pt x="8275" y="15843"/>
                  <a:pt x="8235" y="15974"/>
                </a:cubicBezTo>
                <a:cubicBezTo>
                  <a:pt x="8285" y="15994"/>
                  <a:pt x="8485" y="16029"/>
                  <a:pt x="8483" y="16073"/>
                </a:cubicBezTo>
                <a:cubicBezTo>
                  <a:pt x="8462" y="16157"/>
                  <a:pt x="8468" y="16184"/>
                  <a:pt x="8409" y="16197"/>
                </a:cubicBezTo>
                <a:cubicBezTo>
                  <a:pt x="8363" y="16076"/>
                  <a:pt x="8401" y="16015"/>
                  <a:pt x="8458" y="1590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43160" y="5653080"/>
            <a:ext cx="98640" cy="169920"/>
          </a:xfrm>
          <a:custGeom>
            <a:avLst/>
            <a:gdLst/>
            <a:ahLst/>
            <a:rect l="l" t="t" r="r" b="b"/>
            <a:pathLst>
              <a:path w="274" h="473">
                <a:moveTo>
                  <a:pt x="8855" y="15701"/>
                </a:moveTo>
                <a:cubicBezTo>
                  <a:pt x="8805" y="15751"/>
                  <a:pt x="8663" y="15888"/>
                  <a:pt x="8781" y="15949"/>
                </a:cubicBezTo>
                <a:cubicBezTo>
                  <a:pt x="8849" y="15984"/>
                  <a:pt x="8934" y="15975"/>
                  <a:pt x="9004" y="15999"/>
                </a:cubicBezTo>
                <a:cubicBezTo>
                  <a:pt x="8966" y="16127"/>
                  <a:pt x="8945" y="16120"/>
                  <a:pt x="8830" y="16173"/>
                </a:cubicBezTo>
                <a:cubicBezTo>
                  <a:pt x="8766" y="16028"/>
                  <a:pt x="8834" y="15927"/>
                  <a:pt x="8905" y="1577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428840" y="6018120"/>
            <a:ext cx="1108080" cy="420840"/>
          </a:xfrm>
          <a:custGeom>
            <a:avLst/>
            <a:gdLst/>
            <a:ahLst/>
            <a:rect l="l" t="t" r="r" b="b"/>
            <a:pathLst>
              <a:path w="3077" h="1167">
                <a:moveTo>
                  <a:pt x="5457" y="16768"/>
                </a:moveTo>
                <a:cubicBezTo>
                  <a:pt x="5371" y="16681"/>
                  <a:pt x="5274" y="16716"/>
                  <a:pt x="5209" y="16842"/>
                </a:cubicBezTo>
                <a:cubicBezTo>
                  <a:pt x="5209" y="16859"/>
                  <a:pt x="5209" y="16875"/>
                  <a:pt x="5209" y="16892"/>
                </a:cubicBezTo>
                <a:cubicBezTo>
                  <a:pt x="5308" y="16949"/>
                  <a:pt x="5359" y="16878"/>
                  <a:pt x="5432" y="16768"/>
                </a:cubicBezTo>
                <a:cubicBezTo>
                  <a:pt x="5477" y="16931"/>
                  <a:pt x="5480" y="16979"/>
                  <a:pt x="5457" y="17140"/>
                </a:cubicBezTo>
              </a:path>
              <a:path w="3077" h="1167">
                <a:moveTo>
                  <a:pt x="5333" y="17289"/>
                </a:moveTo>
                <a:cubicBezTo>
                  <a:pt x="5455" y="17255"/>
                  <a:pt x="5583" y="17212"/>
                  <a:pt x="5705" y="17190"/>
                </a:cubicBezTo>
              </a:path>
              <a:path w="3077" h="1167">
                <a:moveTo>
                  <a:pt x="5283" y="17537"/>
                </a:moveTo>
                <a:cubicBezTo>
                  <a:pt x="5365" y="17510"/>
                  <a:pt x="5398" y="17499"/>
                  <a:pt x="5457" y="17487"/>
                </a:cubicBezTo>
                <a:cubicBezTo>
                  <a:pt x="5457" y="17689"/>
                  <a:pt x="5407" y="17736"/>
                  <a:pt x="5259" y="17884"/>
                </a:cubicBezTo>
                <a:cubicBezTo>
                  <a:pt x="5389" y="17858"/>
                  <a:pt x="5435" y="17846"/>
                  <a:pt x="5507" y="17785"/>
                </a:cubicBezTo>
              </a:path>
              <a:path w="3077" h="1167">
                <a:moveTo>
                  <a:pt x="5829" y="17512"/>
                </a:moveTo>
                <a:cubicBezTo>
                  <a:pt x="5764" y="17572"/>
                  <a:pt x="5732" y="17613"/>
                  <a:pt x="5680" y="17686"/>
                </a:cubicBezTo>
                <a:cubicBezTo>
                  <a:pt x="5762" y="17718"/>
                  <a:pt x="5940" y="17714"/>
                  <a:pt x="5928" y="17562"/>
                </a:cubicBezTo>
                <a:cubicBezTo>
                  <a:pt x="5928" y="17562"/>
                  <a:pt x="5827" y="17541"/>
                  <a:pt x="5804" y="17537"/>
                </a:cubicBezTo>
              </a:path>
              <a:path w="3077" h="1167">
                <a:moveTo>
                  <a:pt x="3969" y="17785"/>
                </a:moveTo>
                <a:lnTo>
                  <a:pt x="3969" y="17785"/>
                </a:lnTo>
              </a:path>
              <a:path w="3077" h="1167">
                <a:moveTo>
                  <a:pt x="5035" y="17686"/>
                </a:moveTo>
                <a:cubicBezTo>
                  <a:pt x="5035" y="17702"/>
                  <a:pt x="5035" y="17719"/>
                  <a:pt x="5035" y="17735"/>
                </a:cubicBezTo>
              </a:path>
              <a:path w="3077" h="1167">
                <a:moveTo>
                  <a:pt x="4167" y="17314"/>
                </a:moveTo>
                <a:cubicBezTo>
                  <a:pt x="4135" y="17333"/>
                  <a:pt x="4041" y="17437"/>
                  <a:pt x="4043" y="17487"/>
                </a:cubicBezTo>
                <a:cubicBezTo>
                  <a:pt x="4046" y="17559"/>
                  <a:pt x="4050" y="17734"/>
                  <a:pt x="4118" y="17760"/>
                </a:cubicBezTo>
                <a:cubicBezTo>
                  <a:pt x="4167" y="17778"/>
                  <a:pt x="4291" y="17734"/>
                  <a:pt x="4316" y="17686"/>
                </a:cubicBezTo>
                <a:cubicBezTo>
                  <a:pt x="4341" y="17638"/>
                  <a:pt x="4386" y="17542"/>
                  <a:pt x="4390" y="17487"/>
                </a:cubicBezTo>
                <a:cubicBezTo>
                  <a:pt x="4397" y="17379"/>
                  <a:pt x="4300" y="17367"/>
                  <a:pt x="4217" y="17363"/>
                </a:cubicBezTo>
                <a:cubicBezTo>
                  <a:pt x="4165" y="17363"/>
                  <a:pt x="4147" y="17362"/>
                  <a:pt x="4118" y="17338"/>
                </a:cubicBezTo>
              </a:path>
              <a:path w="3077" h="1167">
                <a:moveTo>
                  <a:pt x="4738" y="17066"/>
                </a:moveTo>
                <a:cubicBezTo>
                  <a:pt x="4651" y="17094"/>
                  <a:pt x="4546" y="17114"/>
                  <a:pt x="4514" y="17214"/>
                </a:cubicBezTo>
                <a:cubicBezTo>
                  <a:pt x="4514" y="17231"/>
                  <a:pt x="4514" y="17247"/>
                  <a:pt x="4514" y="17264"/>
                </a:cubicBezTo>
                <a:cubicBezTo>
                  <a:pt x="4603" y="17319"/>
                  <a:pt x="4688" y="17394"/>
                  <a:pt x="4688" y="17512"/>
                </a:cubicBezTo>
                <a:cubicBezTo>
                  <a:pt x="4688" y="17551"/>
                  <a:pt x="4591" y="17595"/>
                  <a:pt x="4564" y="17611"/>
                </a:cubicBezTo>
                <a:cubicBezTo>
                  <a:pt x="4508" y="17473"/>
                  <a:pt x="4507" y="17420"/>
                  <a:pt x="4589" y="17289"/>
                </a:cubicBezTo>
                <a:cubicBezTo>
                  <a:pt x="4649" y="17193"/>
                  <a:pt x="4782" y="17097"/>
                  <a:pt x="4688" y="17041"/>
                </a:cubicBezTo>
              </a:path>
              <a:path w="3077" h="1167">
                <a:moveTo>
                  <a:pt x="6176" y="17413"/>
                </a:moveTo>
                <a:cubicBezTo>
                  <a:pt x="6198" y="17551"/>
                  <a:pt x="6217" y="17576"/>
                  <a:pt x="6152" y="17686"/>
                </a:cubicBezTo>
              </a:path>
              <a:path w="3077" h="1167">
                <a:moveTo>
                  <a:pt x="6573" y="17462"/>
                </a:moveTo>
                <a:lnTo>
                  <a:pt x="6573" y="17462"/>
                </a:lnTo>
              </a:path>
              <a:path w="3077" h="1167">
                <a:moveTo>
                  <a:pt x="6747" y="16793"/>
                </a:moveTo>
                <a:cubicBezTo>
                  <a:pt x="6655" y="16772"/>
                  <a:pt x="6614" y="16766"/>
                  <a:pt x="6524" y="16793"/>
                </a:cubicBezTo>
                <a:cubicBezTo>
                  <a:pt x="6589" y="16836"/>
                  <a:pt x="6808" y="16888"/>
                  <a:pt x="6796" y="16991"/>
                </a:cubicBezTo>
                <a:cubicBezTo>
                  <a:pt x="6788" y="17008"/>
                  <a:pt x="6780" y="17024"/>
                  <a:pt x="6772" y="17041"/>
                </a:cubicBezTo>
                <a:cubicBezTo>
                  <a:pt x="6706" y="17058"/>
                  <a:pt x="6605" y="17051"/>
                  <a:pt x="6623" y="16942"/>
                </a:cubicBezTo>
                <a:cubicBezTo>
                  <a:pt x="6655" y="16877"/>
                  <a:pt x="6675" y="16849"/>
                  <a:pt x="6722" y="16818"/>
                </a:cubicBezTo>
              </a:path>
              <a:path w="3077" h="1167">
                <a:moveTo>
                  <a:pt x="6400" y="17190"/>
                </a:moveTo>
                <a:cubicBezTo>
                  <a:pt x="6553" y="17107"/>
                  <a:pt x="6720" y="17040"/>
                  <a:pt x="6896" y="17016"/>
                </a:cubicBezTo>
                <a:cubicBezTo>
                  <a:pt x="6954" y="17016"/>
                  <a:pt x="6962" y="17016"/>
                  <a:pt x="6995" y="17016"/>
                </a:cubicBezTo>
              </a:path>
              <a:path w="3077" h="1167">
                <a:moveTo>
                  <a:pt x="6524" y="17438"/>
                </a:moveTo>
                <a:cubicBezTo>
                  <a:pt x="6515" y="17375"/>
                  <a:pt x="6496" y="17207"/>
                  <a:pt x="6524" y="17264"/>
                </a:cubicBezTo>
                <a:cubicBezTo>
                  <a:pt x="6572" y="17363"/>
                  <a:pt x="6511" y="17563"/>
                  <a:pt x="6474" y="17661"/>
                </a:cubicBezTo>
                <a:cubicBezTo>
                  <a:pt x="6466" y="17678"/>
                  <a:pt x="6457" y="17694"/>
                  <a:pt x="6449" y="17711"/>
                </a:cubicBezTo>
              </a:path>
              <a:path w="3077" h="1167">
                <a:moveTo>
                  <a:pt x="6896" y="17363"/>
                </a:moveTo>
                <a:cubicBezTo>
                  <a:pt x="6834" y="17448"/>
                  <a:pt x="6793" y="17491"/>
                  <a:pt x="6772" y="17587"/>
                </a:cubicBezTo>
                <a:cubicBezTo>
                  <a:pt x="6875" y="17587"/>
                  <a:pt x="7021" y="17570"/>
                  <a:pt x="7045" y="17438"/>
                </a:cubicBezTo>
                <a:cubicBezTo>
                  <a:pt x="7063" y="17339"/>
                  <a:pt x="6931" y="17333"/>
                  <a:pt x="6871" y="1731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670120" y="6249960"/>
            <a:ext cx="27000" cy="135000"/>
          </a:xfrm>
          <a:custGeom>
            <a:avLst/>
            <a:gdLst/>
            <a:ahLst/>
            <a:rect l="l" t="t" r="r" b="b"/>
            <a:pathLst>
              <a:path w="75" h="373">
                <a:moveTo>
                  <a:pt x="7441" y="17363"/>
                </a:moveTo>
                <a:cubicBezTo>
                  <a:pt x="7512" y="17515"/>
                  <a:pt x="7485" y="17580"/>
                  <a:pt x="7417" y="1773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803680" y="6205680"/>
            <a:ext cx="1440" cy="19080"/>
          </a:xfrm>
          <a:custGeom>
            <a:avLst/>
            <a:gdLst/>
            <a:ahLst/>
            <a:rect l="l" t="t" r="r" b="b"/>
            <a:pathLst>
              <a:path w="1" h="51">
                <a:moveTo>
                  <a:pt x="7789" y="17289"/>
                </a:moveTo>
                <a:cubicBezTo>
                  <a:pt x="7789" y="17239"/>
                  <a:pt x="7789" y="17222"/>
                  <a:pt x="7789" y="1728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928960" y="5956200"/>
            <a:ext cx="366840" cy="241560"/>
          </a:xfrm>
          <a:custGeom>
            <a:avLst/>
            <a:gdLst/>
            <a:ahLst/>
            <a:rect l="l" t="t" r="r" b="b"/>
            <a:pathLst>
              <a:path w="1018" h="670">
                <a:moveTo>
                  <a:pt x="8384" y="16718"/>
                </a:moveTo>
                <a:cubicBezTo>
                  <a:pt x="8252" y="16740"/>
                  <a:pt x="8200" y="16776"/>
                  <a:pt x="8136" y="16892"/>
                </a:cubicBezTo>
                <a:cubicBezTo>
                  <a:pt x="8221" y="16976"/>
                  <a:pt x="8345" y="17019"/>
                  <a:pt x="8409" y="17115"/>
                </a:cubicBezTo>
                <a:cubicBezTo>
                  <a:pt x="8313" y="17177"/>
                  <a:pt x="8113" y="17262"/>
                  <a:pt x="8210" y="17041"/>
                </a:cubicBezTo>
                <a:cubicBezTo>
                  <a:pt x="8278" y="16928"/>
                  <a:pt x="8294" y="16896"/>
                  <a:pt x="8359" y="16842"/>
                </a:cubicBezTo>
              </a:path>
              <a:path w="1018" h="670">
                <a:moveTo>
                  <a:pt x="8756" y="16644"/>
                </a:moveTo>
                <a:cubicBezTo>
                  <a:pt x="8627" y="16709"/>
                  <a:pt x="8594" y="16729"/>
                  <a:pt x="8508" y="16842"/>
                </a:cubicBezTo>
                <a:cubicBezTo>
                  <a:pt x="8568" y="16890"/>
                  <a:pt x="8811" y="16990"/>
                  <a:pt x="8781" y="17090"/>
                </a:cubicBezTo>
                <a:cubicBezTo>
                  <a:pt x="8713" y="17158"/>
                  <a:pt x="8696" y="17180"/>
                  <a:pt x="8632" y="17190"/>
                </a:cubicBezTo>
                <a:cubicBezTo>
                  <a:pt x="8600" y="17017"/>
                  <a:pt x="8684" y="16913"/>
                  <a:pt x="8781" y="16768"/>
                </a:cubicBezTo>
              </a:path>
              <a:path w="1018" h="670">
                <a:moveTo>
                  <a:pt x="9128" y="16545"/>
                </a:moveTo>
                <a:cubicBezTo>
                  <a:pt x="9062" y="16596"/>
                  <a:pt x="8840" y="16729"/>
                  <a:pt x="8954" y="16842"/>
                </a:cubicBezTo>
                <a:cubicBezTo>
                  <a:pt x="9058" y="16894"/>
                  <a:pt x="9094" y="16913"/>
                  <a:pt x="9153" y="16966"/>
                </a:cubicBezTo>
                <a:cubicBezTo>
                  <a:pt x="9093" y="17104"/>
                  <a:pt x="9061" y="17133"/>
                  <a:pt x="8930" y="17214"/>
                </a:cubicBezTo>
                <a:cubicBezTo>
                  <a:pt x="8929" y="17043"/>
                  <a:pt x="9034" y="16845"/>
                  <a:pt x="9103" y="1666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6120" y="217800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4018" y="6052"/>
                </a:moveTo>
                <a:lnTo>
                  <a:pt x="4018" y="6052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87680" y="1955880"/>
            <a:ext cx="71280" cy="125280"/>
          </a:xfrm>
          <a:custGeom>
            <a:avLst/>
            <a:gdLst/>
            <a:ahLst/>
            <a:rect l="l" t="t" r="r" b="b"/>
            <a:pathLst>
              <a:path w="200" h="348">
                <a:moveTo>
                  <a:pt x="4887" y="5432"/>
                </a:moveTo>
                <a:cubicBezTo>
                  <a:pt x="4837" y="5440"/>
                  <a:pt x="4789" y="5451"/>
                  <a:pt x="4738" y="5457"/>
                </a:cubicBezTo>
                <a:cubicBezTo>
                  <a:pt x="4726" y="5543"/>
                  <a:pt x="4685" y="5547"/>
                  <a:pt x="4762" y="5581"/>
                </a:cubicBezTo>
                <a:cubicBezTo>
                  <a:pt x="4841" y="5616"/>
                  <a:pt x="4849" y="5636"/>
                  <a:pt x="4812" y="5705"/>
                </a:cubicBezTo>
                <a:cubicBezTo>
                  <a:pt x="4778" y="5769"/>
                  <a:pt x="4759" y="5768"/>
                  <a:pt x="4688" y="577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037040" y="218772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1212" y="6077"/>
                </a:moveTo>
                <a:lnTo>
                  <a:pt x="11212" y="6077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321080" y="1963800"/>
            <a:ext cx="9720" cy="63360"/>
          </a:xfrm>
          <a:custGeom>
            <a:avLst/>
            <a:gdLst/>
            <a:ahLst/>
            <a:rect l="l" t="t" r="r" b="b"/>
            <a:pathLst>
              <a:path w="26" h="175">
                <a:moveTo>
                  <a:pt x="12005" y="5457"/>
                </a:moveTo>
                <a:cubicBezTo>
                  <a:pt x="12022" y="5523"/>
                  <a:pt x="12030" y="5562"/>
                  <a:pt x="12030" y="563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313000" y="108108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6424" y="3001"/>
                </a:moveTo>
                <a:lnTo>
                  <a:pt x="6424" y="3001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71840" y="874800"/>
            <a:ext cx="44280" cy="54000"/>
          </a:xfrm>
          <a:custGeom>
            <a:avLst/>
            <a:gdLst/>
            <a:ahLst/>
            <a:rect l="l" t="t" r="r" b="b"/>
            <a:pathLst>
              <a:path w="125" h="150">
                <a:moveTo>
                  <a:pt x="7144" y="2431"/>
                </a:moveTo>
                <a:cubicBezTo>
                  <a:pt x="7153" y="2454"/>
                  <a:pt x="7174" y="2583"/>
                  <a:pt x="7218" y="2580"/>
                </a:cubicBezTo>
                <a:cubicBezTo>
                  <a:pt x="7235" y="2572"/>
                  <a:pt x="7251" y="2563"/>
                  <a:pt x="7268" y="255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625840" y="866880"/>
            <a:ext cx="9360" cy="115920"/>
          </a:xfrm>
          <a:custGeom>
            <a:avLst/>
            <a:gdLst/>
            <a:ahLst/>
            <a:rect l="l" t="t" r="r" b="b"/>
            <a:pathLst>
              <a:path w="25" h="324">
                <a:moveTo>
                  <a:pt x="7293" y="2406"/>
                </a:moveTo>
                <a:cubicBezTo>
                  <a:pt x="7293" y="2519"/>
                  <a:pt x="7305" y="2620"/>
                  <a:pt x="7317" y="272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178080" y="111600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8830" y="3101"/>
                </a:moveTo>
                <a:lnTo>
                  <a:pt x="8830" y="3101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384720" y="839880"/>
            <a:ext cx="63360" cy="125280"/>
          </a:xfrm>
          <a:custGeom>
            <a:avLst/>
            <a:gdLst/>
            <a:ahLst/>
            <a:rect l="l" t="t" r="r" b="b"/>
            <a:pathLst>
              <a:path w="175" h="348">
                <a:moveTo>
                  <a:pt x="9401" y="2381"/>
                </a:moveTo>
                <a:cubicBezTo>
                  <a:pt x="9499" y="2340"/>
                  <a:pt x="9644" y="2293"/>
                  <a:pt x="9550" y="2480"/>
                </a:cubicBezTo>
                <a:cubicBezTo>
                  <a:pt x="9533" y="2497"/>
                  <a:pt x="9517" y="2513"/>
                  <a:pt x="9500" y="2530"/>
                </a:cubicBezTo>
                <a:cubicBezTo>
                  <a:pt x="9662" y="2498"/>
                  <a:pt x="9498" y="2620"/>
                  <a:pt x="9451" y="2654"/>
                </a:cubicBezTo>
                <a:cubicBezTo>
                  <a:pt x="9443" y="2662"/>
                  <a:pt x="9434" y="2671"/>
                  <a:pt x="9426" y="267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054320" y="10717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1261" y="2977"/>
                </a:moveTo>
                <a:lnTo>
                  <a:pt x="11261" y="2977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268880" y="874800"/>
            <a:ext cx="88920" cy="81000"/>
          </a:xfrm>
          <a:custGeom>
            <a:avLst/>
            <a:gdLst/>
            <a:ahLst/>
            <a:rect l="l" t="t" r="r" b="b"/>
            <a:pathLst>
              <a:path w="249" h="224">
                <a:moveTo>
                  <a:pt x="11857" y="2480"/>
                </a:moveTo>
                <a:cubicBezTo>
                  <a:pt x="11906" y="2456"/>
                  <a:pt x="11923" y="2448"/>
                  <a:pt x="11956" y="2431"/>
                </a:cubicBezTo>
                <a:cubicBezTo>
                  <a:pt x="12006" y="2520"/>
                  <a:pt x="11955" y="2580"/>
                  <a:pt x="11857" y="2654"/>
                </a:cubicBezTo>
                <a:cubicBezTo>
                  <a:pt x="11945" y="2647"/>
                  <a:pt x="12019" y="2618"/>
                  <a:pt x="12105" y="260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3040" y="1751040"/>
            <a:ext cx="204840" cy="285840"/>
          </a:xfrm>
          <a:custGeom>
            <a:avLst/>
            <a:gdLst/>
            <a:ahLst/>
            <a:rect l="l" t="t" r="r" b="b"/>
            <a:pathLst>
              <a:path w="572" h="794">
                <a:moveTo>
                  <a:pt x="8334" y="5110"/>
                </a:moveTo>
                <a:cubicBezTo>
                  <a:pt x="8388" y="4976"/>
                  <a:pt x="8381" y="5003"/>
                  <a:pt x="8310" y="4887"/>
                </a:cubicBezTo>
                <a:cubicBezTo>
                  <a:pt x="8060" y="4886"/>
                  <a:pt x="7977" y="4984"/>
                  <a:pt x="7813" y="5184"/>
                </a:cubicBezTo>
                <a:cubicBezTo>
                  <a:pt x="8019" y="5160"/>
                  <a:pt x="8145" y="5112"/>
                  <a:pt x="8310" y="4986"/>
                </a:cubicBezTo>
                <a:cubicBezTo>
                  <a:pt x="8272" y="5210"/>
                  <a:pt x="8222" y="5428"/>
                  <a:pt x="8210" y="565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054240" y="1776240"/>
            <a:ext cx="125640" cy="233640"/>
          </a:xfrm>
          <a:custGeom>
            <a:avLst/>
            <a:gdLst/>
            <a:ahLst/>
            <a:rect l="l" t="t" r="r" b="b"/>
            <a:pathLst>
              <a:path w="348" h="646">
                <a:moveTo>
                  <a:pt x="8483" y="5011"/>
                </a:moveTo>
                <a:cubicBezTo>
                  <a:pt x="8598" y="4965"/>
                  <a:pt x="8707" y="4945"/>
                  <a:pt x="8830" y="4936"/>
                </a:cubicBezTo>
                <a:cubicBezTo>
                  <a:pt x="8792" y="5108"/>
                  <a:pt x="8686" y="5271"/>
                  <a:pt x="8657" y="5457"/>
                </a:cubicBezTo>
                <a:cubicBezTo>
                  <a:pt x="8657" y="5498"/>
                  <a:pt x="8657" y="5540"/>
                  <a:pt x="8657" y="558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178080" y="1955880"/>
            <a:ext cx="9720" cy="88920"/>
          </a:xfrm>
          <a:custGeom>
            <a:avLst/>
            <a:gdLst/>
            <a:ahLst/>
            <a:rect l="l" t="t" r="r" b="b"/>
            <a:pathLst>
              <a:path w="26" h="249">
                <a:moveTo>
                  <a:pt x="8855" y="5432"/>
                </a:moveTo>
                <a:cubicBezTo>
                  <a:pt x="8830" y="5555"/>
                  <a:pt x="8822" y="5596"/>
                  <a:pt x="8830" y="568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348000" y="1785960"/>
            <a:ext cx="117360" cy="179280"/>
          </a:xfrm>
          <a:custGeom>
            <a:avLst/>
            <a:gdLst/>
            <a:ahLst/>
            <a:rect l="l" t="t" r="r" b="b"/>
            <a:pathLst>
              <a:path w="323" h="497">
                <a:moveTo>
                  <a:pt x="9575" y="4961"/>
                </a:moveTo>
                <a:cubicBezTo>
                  <a:pt x="9491" y="4971"/>
                  <a:pt x="9208" y="5017"/>
                  <a:pt x="9302" y="5184"/>
                </a:cubicBezTo>
                <a:cubicBezTo>
                  <a:pt x="9347" y="5264"/>
                  <a:pt x="9489" y="5315"/>
                  <a:pt x="9550" y="5383"/>
                </a:cubicBezTo>
                <a:cubicBezTo>
                  <a:pt x="9471" y="5461"/>
                  <a:pt x="9439" y="5486"/>
                  <a:pt x="9351" y="5457"/>
                </a:cubicBezTo>
                <a:cubicBezTo>
                  <a:pt x="9390" y="5277"/>
                  <a:pt x="9500" y="5153"/>
                  <a:pt x="9624" y="501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500280" y="1803240"/>
            <a:ext cx="179640" cy="169920"/>
          </a:xfrm>
          <a:custGeom>
            <a:avLst/>
            <a:gdLst/>
            <a:ahLst/>
            <a:rect l="l" t="t" r="r" b="b"/>
            <a:pathLst>
              <a:path w="498" h="472">
                <a:moveTo>
                  <a:pt x="10096" y="5011"/>
                </a:moveTo>
                <a:cubicBezTo>
                  <a:pt x="9899" y="5108"/>
                  <a:pt x="9807" y="5213"/>
                  <a:pt x="9723" y="5407"/>
                </a:cubicBezTo>
                <a:cubicBezTo>
                  <a:pt x="9913" y="5502"/>
                  <a:pt x="10141" y="5445"/>
                  <a:pt x="10220" y="5184"/>
                </a:cubicBezTo>
                <a:cubicBezTo>
                  <a:pt x="10212" y="5151"/>
                  <a:pt x="10203" y="5118"/>
                  <a:pt x="10195" y="508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741840" y="1776240"/>
            <a:ext cx="108000" cy="108000"/>
          </a:xfrm>
          <a:custGeom>
            <a:avLst/>
            <a:gdLst/>
            <a:ahLst/>
            <a:rect l="l" t="t" r="r" b="b"/>
            <a:pathLst>
              <a:path w="299" h="299">
                <a:moveTo>
                  <a:pt x="10418" y="4936"/>
                </a:moveTo>
                <a:cubicBezTo>
                  <a:pt x="10401" y="5068"/>
                  <a:pt x="10317" y="5214"/>
                  <a:pt x="10517" y="5234"/>
                </a:cubicBezTo>
                <a:cubicBezTo>
                  <a:pt x="10575" y="5226"/>
                  <a:pt x="10633" y="5217"/>
                  <a:pt x="10691" y="520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840120" y="1724040"/>
            <a:ext cx="34920" cy="276120"/>
          </a:xfrm>
          <a:custGeom>
            <a:avLst/>
            <a:gdLst/>
            <a:ahLst/>
            <a:rect l="l" t="t" r="r" b="b"/>
            <a:pathLst>
              <a:path w="100" h="770">
                <a:moveTo>
                  <a:pt x="10765" y="4787"/>
                </a:moveTo>
                <a:cubicBezTo>
                  <a:pt x="10724" y="5009"/>
                  <a:pt x="10654" y="5256"/>
                  <a:pt x="10666" y="5482"/>
                </a:cubicBezTo>
                <a:cubicBezTo>
                  <a:pt x="10674" y="5507"/>
                  <a:pt x="10683" y="5531"/>
                  <a:pt x="10691" y="555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330280" y="162576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6474" y="4514"/>
                </a:moveTo>
                <a:lnTo>
                  <a:pt x="6474" y="4514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581200" y="1438200"/>
            <a:ext cx="34920" cy="98640"/>
          </a:xfrm>
          <a:custGeom>
            <a:avLst/>
            <a:gdLst/>
            <a:ahLst/>
            <a:rect l="l" t="t" r="r" b="b"/>
            <a:pathLst>
              <a:path w="100" h="273">
                <a:moveTo>
                  <a:pt x="7169" y="4018"/>
                </a:moveTo>
                <a:cubicBezTo>
                  <a:pt x="7232" y="4003"/>
                  <a:pt x="7194" y="4078"/>
                  <a:pt x="7243" y="4142"/>
                </a:cubicBezTo>
                <a:cubicBezTo>
                  <a:pt x="7301" y="4216"/>
                  <a:pt x="7258" y="4210"/>
                  <a:pt x="7193" y="426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214800" y="160812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8930" y="4465"/>
                </a:moveTo>
                <a:lnTo>
                  <a:pt x="8930" y="4465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438360" y="1384200"/>
            <a:ext cx="61920" cy="88920"/>
          </a:xfrm>
          <a:custGeom>
            <a:avLst/>
            <a:gdLst/>
            <a:ahLst/>
            <a:rect l="l" t="t" r="r" b="b"/>
            <a:pathLst>
              <a:path w="174" h="249">
                <a:moveTo>
                  <a:pt x="9550" y="3845"/>
                </a:moveTo>
                <a:cubicBezTo>
                  <a:pt x="9566" y="3845"/>
                  <a:pt x="9583" y="3845"/>
                  <a:pt x="9599" y="3845"/>
                </a:cubicBezTo>
                <a:cubicBezTo>
                  <a:pt x="9642" y="3945"/>
                  <a:pt x="9621" y="3983"/>
                  <a:pt x="9550" y="4068"/>
                </a:cubicBezTo>
                <a:cubicBezTo>
                  <a:pt x="9616" y="4083"/>
                  <a:pt x="9651" y="4076"/>
                  <a:pt x="9723" y="406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295360" y="21607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6375" y="6003"/>
                </a:moveTo>
                <a:lnTo>
                  <a:pt x="6375" y="6003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527200" y="1919160"/>
            <a:ext cx="88920" cy="108000"/>
          </a:xfrm>
          <a:custGeom>
            <a:avLst/>
            <a:gdLst/>
            <a:ahLst/>
            <a:rect l="l" t="t" r="r" b="b"/>
            <a:pathLst>
              <a:path w="249" h="299">
                <a:moveTo>
                  <a:pt x="7020" y="5358"/>
                </a:moveTo>
                <a:cubicBezTo>
                  <a:pt x="7134" y="5344"/>
                  <a:pt x="7114" y="5329"/>
                  <a:pt x="7169" y="5407"/>
                </a:cubicBezTo>
                <a:cubicBezTo>
                  <a:pt x="7181" y="5424"/>
                  <a:pt x="7303" y="5518"/>
                  <a:pt x="7268" y="5556"/>
                </a:cubicBezTo>
                <a:cubicBezTo>
                  <a:pt x="7203" y="5600"/>
                  <a:pt x="7188" y="5611"/>
                  <a:pt x="7144" y="563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205080" y="21607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8905" y="6003"/>
                </a:moveTo>
                <a:lnTo>
                  <a:pt x="8905" y="6003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29000" y="2000160"/>
            <a:ext cx="54000" cy="81000"/>
          </a:xfrm>
          <a:custGeom>
            <a:avLst/>
            <a:gdLst/>
            <a:ahLst/>
            <a:rect l="l" t="t" r="r" b="b"/>
            <a:pathLst>
              <a:path w="150" h="224">
                <a:moveTo>
                  <a:pt x="9525" y="5606"/>
                </a:moveTo>
                <a:cubicBezTo>
                  <a:pt x="9570" y="5561"/>
                  <a:pt x="9579" y="5544"/>
                  <a:pt x="9624" y="5556"/>
                </a:cubicBezTo>
                <a:cubicBezTo>
                  <a:pt x="9613" y="5641"/>
                  <a:pt x="9581" y="5687"/>
                  <a:pt x="9525" y="5755"/>
                </a:cubicBezTo>
                <a:cubicBezTo>
                  <a:pt x="9588" y="5768"/>
                  <a:pt x="9607" y="5766"/>
                  <a:pt x="9674" y="575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iral Review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.  Solve 12 + 6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6 – 14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.  Write an algebraic expression:  A number n decreased by fourtee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.  What is the rule for the function table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828800" y="3886200"/>
          <a:ext cx="1714680" cy="1644480"/>
        </p:xfrm>
        <a:graphic>
          <a:graphicData uri="http://schemas.openxmlformats.org/drawingml/2006/table">
            <a:tbl>
              <a:tblPr/>
              <a:tblGrid>
                <a:gridCol w="571680"/>
                <a:gridCol w="1143000"/>
              </a:tblGrid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0" name=""/>
          <p:cNvSpPr/>
          <p:nvPr/>
        </p:nvSpPr>
        <p:spPr>
          <a:xfrm>
            <a:off x="3116160" y="731880"/>
            <a:ext cx="135000" cy="162000"/>
          </a:xfrm>
          <a:custGeom>
            <a:avLst/>
            <a:gdLst/>
            <a:ahLst/>
            <a:rect l="l" t="t" r="r" b="b"/>
            <a:pathLst>
              <a:path w="373" h="447">
                <a:moveTo>
                  <a:pt x="8657" y="2158"/>
                </a:moveTo>
                <a:cubicBezTo>
                  <a:pt x="8736" y="2059"/>
                  <a:pt x="8775" y="2042"/>
                  <a:pt x="8905" y="2034"/>
                </a:cubicBezTo>
                <a:cubicBezTo>
                  <a:pt x="8975" y="2030"/>
                  <a:pt x="8976" y="2188"/>
                  <a:pt x="8954" y="2232"/>
                </a:cubicBezTo>
                <a:cubicBezTo>
                  <a:pt x="8901" y="2339"/>
                  <a:pt x="8820" y="2364"/>
                  <a:pt x="8731" y="2431"/>
                </a:cubicBezTo>
                <a:cubicBezTo>
                  <a:pt x="8709" y="2453"/>
                  <a:pt x="8700" y="2458"/>
                  <a:pt x="8706" y="2480"/>
                </a:cubicBezTo>
                <a:cubicBezTo>
                  <a:pt x="8832" y="2452"/>
                  <a:pt x="8829" y="2438"/>
                  <a:pt x="8930" y="2456"/>
                </a:cubicBezTo>
                <a:cubicBezTo>
                  <a:pt x="8963" y="2456"/>
                  <a:pt x="8996" y="2456"/>
                  <a:pt x="9029" y="245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919160" y="1231920"/>
            <a:ext cx="27000" cy="108000"/>
          </a:xfrm>
          <a:custGeom>
            <a:avLst/>
            <a:gdLst/>
            <a:ahLst/>
            <a:rect l="l" t="t" r="r" b="b"/>
            <a:pathLst>
              <a:path w="75" h="299">
                <a:moveTo>
                  <a:pt x="5333" y="3423"/>
                </a:moveTo>
                <a:cubicBezTo>
                  <a:pt x="5382" y="3570"/>
                  <a:pt x="5399" y="3618"/>
                  <a:pt x="5407" y="372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27160" y="1231920"/>
            <a:ext cx="61920" cy="117360"/>
          </a:xfrm>
          <a:custGeom>
            <a:avLst/>
            <a:gdLst/>
            <a:ahLst/>
            <a:rect l="l" t="t" r="r" b="b"/>
            <a:pathLst>
              <a:path w="174" h="324">
                <a:moveTo>
                  <a:pt x="5655" y="3423"/>
                </a:moveTo>
                <a:cubicBezTo>
                  <a:pt x="5762" y="3540"/>
                  <a:pt x="5767" y="3591"/>
                  <a:pt x="5705" y="3746"/>
                </a:cubicBezTo>
                <a:cubicBezTo>
                  <a:pt x="5644" y="3711"/>
                  <a:pt x="5568" y="3542"/>
                  <a:pt x="5730" y="3646"/>
                </a:cubicBezTo>
                <a:cubicBezTo>
                  <a:pt x="5755" y="3671"/>
                  <a:pt x="5779" y="3696"/>
                  <a:pt x="5804" y="372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251080" y="1241280"/>
            <a:ext cx="34920" cy="88920"/>
          </a:xfrm>
          <a:custGeom>
            <a:avLst/>
            <a:gdLst/>
            <a:ahLst/>
            <a:rect l="l" t="t" r="r" b="b"/>
            <a:pathLst>
              <a:path w="100" h="249">
                <a:moveTo>
                  <a:pt x="6251" y="3448"/>
                </a:moveTo>
                <a:cubicBezTo>
                  <a:pt x="6272" y="3534"/>
                  <a:pt x="6293" y="3615"/>
                  <a:pt x="6325" y="3696"/>
                </a:cubicBezTo>
              </a:path>
              <a:path w="100" h="249">
                <a:moveTo>
                  <a:pt x="6251" y="3597"/>
                </a:moveTo>
                <a:cubicBezTo>
                  <a:pt x="6284" y="3597"/>
                  <a:pt x="6317" y="3597"/>
                  <a:pt x="6350" y="359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384280" y="1214280"/>
            <a:ext cx="88920" cy="135000"/>
          </a:xfrm>
          <a:custGeom>
            <a:avLst/>
            <a:gdLst/>
            <a:ahLst/>
            <a:rect l="l" t="t" r="r" b="b"/>
            <a:pathLst>
              <a:path w="249" h="374">
                <a:moveTo>
                  <a:pt x="6648" y="3373"/>
                </a:moveTo>
                <a:cubicBezTo>
                  <a:pt x="6630" y="3496"/>
                  <a:pt x="6630" y="3549"/>
                  <a:pt x="6648" y="3671"/>
                </a:cubicBezTo>
                <a:cubicBezTo>
                  <a:pt x="6672" y="3831"/>
                  <a:pt x="6832" y="3712"/>
                  <a:pt x="6871" y="3646"/>
                </a:cubicBezTo>
                <a:cubicBezTo>
                  <a:pt x="6871" y="3606"/>
                  <a:pt x="6860" y="3587"/>
                  <a:pt x="6821" y="3572"/>
                </a:cubicBezTo>
                <a:cubicBezTo>
                  <a:pt x="6727" y="3667"/>
                  <a:pt x="6751" y="3701"/>
                  <a:pt x="6871" y="372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562120" y="1258920"/>
            <a:ext cx="46080" cy="54000"/>
          </a:xfrm>
          <a:custGeom>
            <a:avLst/>
            <a:gdLst/>
            <a:ahLst/>
            <a:rect l="l" t="t" r="r" b="b"/>
            <a:pathLst>
              <a:path w="125" h="150">
                <a:moveTo>
                  <a:pt x="7119" y="3497"/>
                </a:moveTo>
                <a:cubicBezTo>
                  <a:pt x="7169" y="3547"/>
                  <a:pt x="7206" y="3587"/>
                  <a:pt x="7243" y="364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62080" y="1527120"/>
            <a:ext cx="179640" cy="135000"/>
          </a:xfrm>
          <a:custGeom>
            <a:avLst/>
            <a:gdLst/>
            <a:ahLst/>
            <a:rect l="l" t="t" r="r" b="b"/>
            <a:pathLst>
              <a:path w="497" h="373">
                <a:moveTo>
                  <a:pt x="5730" y="4341"/>
                </a:moveTo>
                <a:cubicBezTo>
                  <a:pt x="5739" y="4434"/>
                  <a:pt x="5758" y="4522"/>
                  <a:pt x="5779" y="4614"/>
                </a:cubicBezTo>
              </a:path>
              <a:path w="497" h="373">
                <a:moveTo>
                  <a:pt x="6052" y="4242"/>
                </a:moveTo>
                <a:cubicBezTo>
                  <a:pt x="6170" y="4306"/>
                  <a:pt x="6155" y="4400"/>
                  <a:pt x="6052" y="4514"/>
                </a:cubicBezTo>
                <a:cubicBezTo>
                  <a:pt x="5951" y="4626"/>
                  <a:pt x="6180" y="4530"/>
                  <a:pt x="6226" y="451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347920" y="1231920"/>
            <a:ext cx="501480" cy="411120"/>
          </a:xfrm>
          <a:custGeom>
            <a:avLst/>
            <a:gdLst/>
            <a:ahLst/>
            <a:rect l="l" t="t" r="r" b="b"/>
            <a:pathLst>
              <a:path w="1390" h="1142">
                <a:moveTo>
                  <a:pt x="7193" y="3547"/>
                </a:moveTo>
                <a:cubicBezTo>
                  <a:pt x="7169" y="3670"/>
                  <a:pt x="7161" y="3711"/>
                  <a:pt x="7169" y="3795"/>
                </a:cubicBezTo>
              </a:path>
              <a:path w="1390" h="1142">
                <a:moveTo>
                  <a:pt x="7441" y="3448"/>
                </a:moveTo>
                <a:cubicBezTo>
                  <a:pt x="7501" y="3422"/>
                  <a:pt x="7501" y="3423"/>
                  <a:pt x="7565" y="3423"/>
                </a:cubicBezTo>
                <a:cubicBezTo>
                  <a:pt x="7559" y="3533"/>
                  <a:pt x="7556" y="3596"/>
                  <a:pt x="7516" y="3696"/>
                </a:cubicBezTo>
                <a:cubicBezTo>
                  <a:pt x="7615" y="3671"/>
                  <a:pt x="7648" y="3663"/>
                  <a:pt x="7714" y="3646"/>
                </a:cubicBezTo>
              </a:path>
              <a:path w="1390" h="1142">
                <a:moveTo>
                  <a:pt x="6871" y="4018"/>
                </a:moveTo>
                <a:cubicBezTo>
                  <a:pt x="6965" y="4132"/>
                  <a:pt x="7087" y="3996"/>
                  <a:pt x="7243" y="3969"/>
                </a:cubicBezTo>
                <a:cubicBezTo>
                  <a:pt x="7357" y="3949"/>
                  <a:pt x="7389" y="3989"/>
                  <a:pt x="7417" y="3845"/>
                </a:cubicBezTo>
                <a:cubicBezTo>
                  <a:pt x="7417" y="3828"/>
                  <a:pt x="7417" y="3812"/>
                  <a:pt x="7417" y="3795"/>
                </a:cubicBezTo>
              </a:path>
              <a:path w="1390" h="1142">
                <a:moveTo>
                  <a:pt x="7069" y="4316"/>
                </a:moveTo>
                <a:cubicBezTo>
                  <a:pt x="7057" y="4404"/>
                  <a:pt x="7061" y="4472"/>
                  <a:pt x="7069" y="4564"/>
                </a:cubicBezTo>
              </a:path>
              <a:path w="1390" h="1142">
                <a:moveTo>
                  <a:pt x="7268" y="4167"/>
                </a:moveTo>
                <a:cubicBezTo>
                  <a:pt x="7333" y="4145"/>
                  <a:pt x="7348" y="4137"/>
                  <a:pt x="7392" y="4142"/>
                </a:cubicBezTo>
                <a:cubicBezTo>
                  <a:pt x="7401" y="4295"/>
                  <a:pt x="7363" y="4372"/>
                  <a:pt x="7293" y="4514"/>
                </a:cubicBezTo>
                <a:cubicBezTo>
                  <a:pt x="7405" y="4492"/>
                  <a:pt x="7436" y="4491"/>
                  <a:pt x="7491" y="4440"/>
                </a:cubicBezTo>
              </a:path>
              <a:path w="1390" h="1142">
                <a:moveTo>
                  <a:pt x="6548" y="4217"/>
                </a:moveTo>
                <a:cubicBezTo>
                  <a:pt x="6555" y="4284"/>
                  <a:pt x="6565" y="4333"/>
                  <a:pt x="6598" y="4390"/>
                </a:cubicBezTo>
              </a:path>
              <a:path w="1390" h="1142">
                <a:moveTo>
                  <a:pt x="6524" y="4341"/>
                </a:moveTo>
                <a:cubicBezTo>
                  <a:pt x="6577" y="4341"/>
                  <a:pt x="6611" y="4328"/>
                  <a:pt x="6648" y="4291"/>
                </a:cubicBezTo>
              </a:path>
              <a:path w="1390" h="1142">
                <a:moveTo>
                  <a:pt x="7615" y="4291"/>
                </a:moveTo>
                <a:cubicBezTo>
                  <a:pt x="7706" y="4258"/>
                  <a:pt x="7796" y="4223"/>
                  <a:pt x="7888" y="4192"/>
                </a:cubicBezTo>
              </a:path>
              <a:path w="1390" h="1142">
                <a:moveTo>
                  <a:pt x="7838" y="4341"/>
                </a:moveTo>
                <a:cubicBezTo>
                  <a:pt x="7863" y="4341"/>
                  <a:pt x="7888" y="4341"/>
                  <a:pt x="7913" y="434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009960" y="1339920"/>
            <a:ext cx="249120" cy="231840"/>
          </a:xfrm>
          <a:custGeom>
            <a:avLst/>
            <a:gdLst/>
            <a:ahLst/>
            <a:rect l="l" t="t" r="r" b="b"/>
            <a:pathLst>
              <a:path w="696" h="646">
                <a:moveTo>
                  <a:pt x="8359" y="4018"/>
                </a:moveTo>
                <a:cubicBezTo>
                  <a:pt x="8436" y="3942"/>
                  <a:pt x="8449" y="3952"/>
                  <a:pt x="8558" y="3969"/>
                </a:cubicBezTo>
                <a:cubicBezTo>
                  <a:pt x="8613" y="4121"/>
                  <a:pt x="8510" y="4199"/>
                  <a:pt x="8409" y="4341"/>
                </a:cubicBezTo>
                <a:cubicBezTo>
                  <a:pt x="8516" y="4368"/>
                  <a:pt x="8557" y="4375"/>
                  <a:pt x="8632" y="4341"/>
                </a:cubicBezTo>
              </a:path>
              <a:path w="696" h="646">
                <a:moveTo>
                  <a:pt x="8781" y="3944"/>
                </a:moveTo>
                <a:cubicBezTo>
                  <a:pt x="8792" y="4030"/>
                  <a:pt x="8836" y="4116"/>
                  <a:pt x="8954" y="4068"/>
                </a:cubicBezTo>
                <a:cubicBezTo>
                  <a:pt x="8987" y="4043"/>
                  <a:pt x="9021" y="4019"/>
                  <a:pt x="9054" y="3994"/>
                </a:cubicBezTo>
              </a:path>
              <a:path w="696" h="646">
                <a:moveTo>
                  <a:pt x="9029" y="3721"/>
                </a:moveTo>
                <a:cubicBezTo>
                  <a:pt x="9015" y="3892"/>
                  <a:pt x="9026" y="4021"/>
                  <a:pt x="9054" y="419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929120" y="2133720"/>
            <a:ext cx="285840" cy="206280"/>
          </a:xfrm>
          <a:custGeom>
            <a:avLst/>
            <a:gdLst/>
            <a:ahLst/>
            <a:rect l="l" t="t" r="r" b="b"/>
            <a:pathLst>
              <a:path w="795" h="572">
                <a:moveTo>
                  <a:pt x="13692" y="6201"/>
                </a:moveTo>
                <a:cubicBezTo>
                  <a:pt x="13773" y="6304"/>
                  <a:pt x="13803" y="6371"/>
                  <a:pt x="13841" y="6499"/>
                </a:cubicBezTo>
                <a:cubicBezTo>
                  <a:pt x="13894" y="6262"/>
                  <a:pt x="13937" y="6042"/>
                  <a:pt x="14188" y="5928"/>
                </a:cubicBezTo>
                <a:cubicBezTo>
                  <a:pt x="14402" y="5831"/>
                  <a:pt x="14473" y="6224"/>
                  <a:pt x="14486" y="6350"/>
                </a:cubicBezTo>
                <a:cubicBezTo>
                  <a:pt x="14486" y="6367"/>
                  <a:pt x="14486" y="6383"/>
                  <a:pt x="14486" y="640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392800" y="2205000"/>
            <a:ext cx="46080" cy="1800"/>
          </a:xfrm>
          <a:custGeom>
            <a:avLst/>
            <a:gdLst/>
            <a:ahLst/>
            <a:rect l="l" t="t" r="r" b="b"/>
            <a:pathLst>
              <a:path w="125" h="1">
                <a:moveTo>
                  <a:pt x="14982" y="6127"/>
                </a:moveTo>
                <a:cubicBezTo>
                  <a:pt x="15023" y="6127"/>
                  <a:pt x="15065" y="6127"/>
                  <a:pt x="15106" y="612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572080" y="2035080"/>
            <a:ext cx="349200" cy="270000"/>
          </a:xfrm>
          <a:custGeom>
            <a:avLst/>
            <a:gdLst/>
            <a:ahLst/>
            <a:rect l="l" t="t" r="r" b="b"/>
            <a:pathLst>
              <a:path w="969" h="746">
                <a:moveTo>
                  <a:pt x="15478" y="5879"/>
                </a:moveTo>
                <a:cubicBezTo>
                  <a:pt x="15525" y="6055"/>
                  <a:pt x="15570" y="6228"/>
                  <a:pt x="15627" y="6400"/>
                </a:cubicBezTo>
              </a:path>
              <a:path w="969" h="746">
                <a:moveTo>
                  <a:pt x="15900" y="5829"/>
                </a:moveTo>
                <a:cubicBezTo>
                  <a:pt x="15900" y="5912"/>
                  <a:pt x="15857" y="6082"/>
                  <a:pt x="15949" y="6127"/>
                </a:cubicBezTo>
                <a:cubicBezTo>
                  <a:pt x="16083" y="6192"/>
                  <a:pt x="16260" y="6124"/>
                  <a:pt x="16396" y="6102"/>
                </a:cubicBezTo>
              </a:path>
              <a:path w="969" h="746">
                <a:moveTo>
                  <a:pt x="16371" y="5655"/>
                </a:moveTo>
                <a:cubicBezTo>
                  <a:pt x="16371" y="5891"/>
                  <a:pt x="16398" y="6094"/>
                  <a:pt x="16446" y="632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276800" y="3929040"/>
            <a:ext cx="716040" cy="322200"/>
          </a:xfrm>
          <a:custGeom>
            <a:avLst/>
            <a:gdLst/>
            <a:ahLst/>
            <a:rect l="l" t="t" r="r" b="b"/>
            <a:pathLst>
              <a:path w="1986" h="894">
                <a:moveTo>
                  <a:pt x="11931" y="11013"/>
                </a:moveTo>
                <a:cubicBezTo>
                  <a:pt x="11973" y="11290"/>
                  <a:pt x="11996" y="11529"/>
                  <a:pt x="11981" y="11807"/>
                </a:cubicBezTo>
              </a:path>
              <a:path w="1986" h="894">
                <a:moveTo>
                  <a:pt x="11881" y="11112"/>
                </a:moveTo>
                <a:cubicBezTo>
                  <a:pt x="12095" y="11344"/>
                  <a:pt x="12313" y="11532"/>
                  <a:pt x="12576" y="11708"/>
                </a:cubicBezTo>
                <a:cubicBezTo>
                  <a:pt x="12576" y="11459"/>
                  <a:pt x="12474" y="11262"/>
                  <a:pt x="12353" y="11038"/>
                </a:cubicBezTo>
              </a:path>
              <a:path w="1986" h="894">
                <a:moveTo>
                  <a:pt x="12923" y="11212"/>
                </a:moveTo>
                <a:cubicBezTo>
                  <a:pt x="13034" y="11367"/>
                  <a:pt x="13063" y="11405"/>
                  <a:pt x="13122" y="11509"/>
                </a:cubicBezTo>
              </a:path>
              <a:path w="1986" h="894">
                <a:moveTo>
                  <a:pt x="13072" y="11137"/>
                </a:moveTo>
                <a:cubicBezTo>
                  <a:pt x="12983" y="11383"/>
                  <a:pt x="12957" y="11447"/>
                  <a:pt x="12923" y="11609"/>
                </a:cubicBezTo>
              </a:path>
              <a:path w="1986" h="894">
                <a:moveTo>
                  <a:pt x="13419" y="10939"/>
                </a:moveTo>
                <a:cubicBezTo>
                  <a:pt x="13508" y="10909"/>
                  <a:pt x="13548" y="10901"/>
                  <a:pt x="13618" y="10914"/>
                </a:cubicBezTo>
                <a:cubicBezTo>
                  <a:pt x="13729" y="11151"/>
                  <a:pt x="13608" y="11269"/>
                  <a:pt x="13494" y="11509"/>
                </a:cubicBezTo>
                <a:cubicBezTo>
                  <a:pt x="13635" y="11498"/>
                  <a:pt x="13731" y="11487"/>
                  <a:pt x="13866" y="1143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38880" y="3902040"/>
            <a:ext cx="169920" cy="115920"/>
          </a:xfrm>
          <a:custGeom>
            <a:avLst/>
            <a:gdLst/>
            <a:ahLst/>
            <a:rect l="l" t="t" r="r" b="b"/>
            <a:pathLst>
              <a:path w="472" h="323">
                <a:moveTo>
                  <a:pt x="15255" y="10840"/>
                </a:moveTo>
                <a:cubicBezTo>
                  <a:pt x="15162" y="10992"/>
                  <a:pt x="15104" y="11020"/>
                  <a:pt x="15156" y="11162"/>
                </a:cubicBezTo>
                <a:cubicBezTo>
                  <a:pt x="15338" y="11128"/>
                  <a:pt x="15315" y="11140"/>
                  <a:pt x="15354" y="10964"/>
                </a:cubicBezTo>
              </a:path>
              <a:path w="472" h="323">
                <a:moveTo>
                  <a:pt x="15528" y="11088"/>
                </a:moveTo>
                <a:cubicBezTo>
                  <a:pt x="15494" y="10985"/>
                  <a:pt x="15498" y="10934"/>
                  <a:pt x="15577" y="1086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010200" y="3724200"/>
            <a:ext cx="500040" cy="401760"/>
          </a:xfrm>
          <a:custGeom>
            <a:avLst/>
            <a:gdLst/>
            <a:ahLst/>
            <a:rect l="l" t="t" r="r" b="b"/>
            <a:pathLst>
              <a:path w="1390" h="1117">
                <a:moveTo>
                  <a:pt x="16842" y="10542"/>
                </a:moveTo>
                <a:cubicBezTo>
                  <a:pt x="16974" y="10437"/>
                  <a:pt x="17080" y="10397"/>
                  <a:pt x="17239" y="10344"/>
                </a:cubicBezTo>
                <a:cubicBezTo>
                  <a:pt x="17202" y="10660"/>
                  <a:pt x="17057" y="10846"/>
                  <a:pt x="16892" y="11112"/>
                </a:cubicBezTo>
                <a:cubicBezTo>
                  <a:pt x="16774" y="11310"/>
                  <a:pt x="16751" y="11339"/>
                  <a:pt x="16694" y="11460"/>
                </a:cubicBezTo>
                <a:cubicBezTo>
                  <a:pt x="16878" y="11285"/>
                  <a:pt x="16994" y="11136"/>
                  <a:pt x="17264" y="11187"/>
                </a:cubicBezTo>
                <a:cubicBezTo>
                  <a:pt x="17383" y="11209"/>
                  <a:pt x="17269" y="11211"/>
                  <a:pt x="17413" y="11187"/>
                </a:cubicBezTo>
              </a:path>
              <a:path w="1390" h="1117">
                <a:moveTo>
                  <a:pt x="17512" y="10889"/>
                </a:moveTo>
                <a:cubicBezTo>
                  <a:pt x="17512" y="11006"/>
                  <a:pt x="17510" y="11040"/>
                  <a:pt x="17537" y="11112"/>
                </a:cubicBezTo>
                <a:cubicBezTo>
                  <a:pt x="17537" y="11229"/>
                  <a:pt x="17537" y="10845"/>
                  <a:pt x="17562" y="10790"/>
                </a:cubicBezTo>
                <a:cubicBezTo>
                  <a:pt x="17686" y="10520"/>
                  <a:pt x="17943" y="10814"/>
                  <a:pt x="18008" y="10939"/>
                </a:cubicBezTo>
                <a:cubicBezTo>
                  <a:pt x="18055" y="11030"/>
                  <a:pt x="18073" y="11137"/>
                  <a:pt x="18083" y="1123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 the number in standard form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9 10) + (2 10) + (6 10) + (8 10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lain why your answer is correct.  Use what you know about exponential form in your explanation.  Use words, numbers, and/or symbols in your explanation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27080" y="13669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2853" y="3795"/>
                </a:moveTo>
                <a:lnTo>
                  <a:pt x="2853" y="3795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276200" y="1116000"/>
            <a:ext cx="63720" cy="108000"/>
          </a:xfrm>
          <a:custGeom>
            <a:avLst/>
            <a:gdLst/>
            <a:ahLst/>
            <a:rect l="l" t="t" r="r" b="b"/>
            <a:pathLst>
              <a:path w="175" h="298">
                <a:moveTo>
                  <a:pt x="3547" y="3200"/>
                </a:moveTo>
                <a:cubicBezTo>
                  <a:pt x="3595" y="3247"/>
                  <a:pt x="3601" y="3246"/>
                  <a:pt x="3671" y="3274"/>
                </a:cubicBezTo>
              </a:path>
              <a:path w="175" h="298">
                <a:moveTo>
                  <a:pt x="3721" y="3101"/>
                </a:moveTo>
                <a:cubicBezTo>
                  <a:pt x="3703" y="3200"/>
                  <a:pt x="3681" y="3299"/>
                  <a:pt x="3671" y="339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874880" y="136692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5209" y="3795"/>
                </a:moveTo>
                <a:lnTo>
                  <a:pt x="5209" y="3795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16080" y="1125360"/>
            <a:ext cx="63720" cy="106560"/>
          </a:xfrm>
          <a:custGeom>
            <a:avLst/>
            <a:gdLst/>
            <a:ahLst/>
            <a:rect l="l" t="t" r="r" b="b"/>
            <a:pathLst>
              <a:path w="174" h="299">
                <a:moveTo>
                  <a:pt x="5928" y="3125"/>
                </a:moveTo>
                <a:cubicBezTo>
                  <a:pt x="5972" y="3125"/>
                  <a:pt x="6052" y="3128"/>
                  <a:pt x="6003" y="3200"/>
                </a:cubicBezTo>
                <a:cubicBezTo>
                  <a:pt x="5986" y="3216"/>
                  <a:pt x="5970" y="3233"/>
                  <a:pt x="5953" y="3249"/>
                </a:cubicBezTo>
                <a:cubicBezTo>
                  <a:pt x="5937" y="3257"/>
                  <a:pt x="5920" y="3266"/>
                  <a:pt x="5904" y="3274"/>
                </a:cubicBezTo>
                <a:cubicBezTo>
                  <a:pt x="6088" y="3297"/>
                  <a:pt x="6085" y="3329"/>
                  <a:pt x="5928" y="3398"/>
                </a:cubicBezTo>
                <a:cubicBezTo>
                  <a:pt x="5912" y="3406"/>
                  <a:pt x="5895" y="3415"/>
                  <a:pt x="5879" y="342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50960" y="1544760"/>
            <a:ext cx="677880" cy="241200"/>
          </a:xfrm>
          <a:custGeom>
            <a:avLst/>
            <a:gdLst/>
            <a:ahLst/>
            <a:rect l="l" t="t" r="r" b="b"/>
            <a:pathLst>
              <a:path w="1886" h="671">
                <a:moveTo>
                  <a:pt x="2431" y="4341"/>
                </a:moveTo>
                <a:cubicBezTo>
                  <a:pt x="2290" y="4341"/>
                  <a:pt x="2218" y="4344"/>
                  <a:pt x="2108" y="4440"/>
                </a:cubicBezTo>
                <a:cubicBezTo>
                  <a:pt x="2079" y="4470"/>
                  <a:pt x="2074" y="4484"/>
                  <a:pt x="2108" y="4514"/>
                </a:cubicBezTo>
                <a:cubicBezTo>
                  <a:pt x="2214" y="4498"/>
                  <a:pt x="2282" y="4465"/>
                  <a:pt x="2381" y="4415"/>
                </a:cubicBezTo>
                <a:cubicBezTo>
                  <a:pt x="2398" y="4603"/>
                  <a:pt x="2372" y="4753"/>
                  <a:pt x="2332" y="4936"/>
                </a:cubicBezTo>
              </a:path>
              <a:path w="1886" h="671">
                <a:moveTo>
                  <a:pt x="2679" y="4415"/>
                </a:moveTo>
                <a:cubicBezTo>
                  <a:pt x="2542" y="4564"/>
                  <a:pt x="2522" y="4645"/>
                  <a:pt x="2629" y="4812"/>
                </a:cubicBezTo>
                <a:cubicBezTo>
                  <a:pt x="2785" y="4646"/>
                  <a:pt x="2823" y="4553"/>
                  <a:pt x="2679" y="4366"/>
                </a:cubicBezTo>
              </a:path>
              <a:path w="1886" h="671">
                <a:moveTo>
                  <a:pt x="3076" y="4390"/>
                </a:moveTo>
                <a:cubicBezTo>
                  <a:pt x="2956" y="4497"/>
                  <a:pt x="2935" y="4558"/>
                  <a:pt x="2977" y="4713"/>
                </a:cubicBezTo>
                <a:cubicBezTo>
                  <a:pt x="3057" y="4693"/>
                  <a:pt x="3355" y="4561"/>
                  <a:pt x="3175" y="4440"/>
                </a:cubicBezTo>
                <a:cubicBezTo>
                  <a:pt x="3142" y="4432"/>
                  <a:pt x="3109" y="4423"/>
                  <a:pt x="3076" y="4415"/>
                </a:cubicBezTo>
              </a:path>
              <a:path w="1886" h="671">
                <a:moveTo>
                  <a:pt x="3373" y="4390"/>
                </a:moveTo>
                <a:cubicBezTo>
                  <a:pt x="3359" y="4440"/>
                  <a:pt x="3339" y="4797"/>
                  <a:pt x="3497" y="4589"/>
                </a:cubicBezTo>
                <a:cubicBezTo>
                  <a:pt x="3595" y="4460"/>
                  <a:pt x="3557" y="4407"/>
                  <a:pt x="3473" y="4341"/>
                </a:cubicBezTo>
              </a:path>
              <a:path w="1886" h="671">
                <a:moveTo>
                  <a:pt x="3770" y="4291"/>
                </a:moveTo>
                <a:cubicBezTo>
                  <a:pt x="3758" y="4338"/>
                  <a:pt x="3703" y="4771"/>
                  <a:pt x="3919" y="4564"/>
                </a:cubicBezTo>
                <a:cubicBezTo>
                  <a:pt x="3968" y="4443"/>
                  <a:pt x="3984" y="4405"/>
                  <a:pt x="3969" y="4316"/>
                </a:cubicBezTo>
              </a:path>
              <a:path w="1886" h="671">
                <a:moveTo>
                  <a:pt x="2902" y="4887"/>
                </a:moveTo>
                <a:cubicBezTo>
                  <a:pt x="2902" y="4912"/>
                  <a:pt x="2902" y="4936"/>
                  <a:pt x="2902" y="496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562040" y="1535040"/>
            <a:ext cx="46080" cy="108000"/>
          </a:xfrm>
          <a:custGeom>
            <a:avLst/>
            <a:gdLst/>
            <a:ahLst/>
            <a:rect l="l" t="t" r="r" b="b"/>
            <a:pathLst>
              <a:path w="125" h="299">
                <a:moveTo>
                  <a:pt x="4341" y="4266"/>
                </a:moveTo>
                <a:cubicBezTo>
                  <a:pt x="4376" y="4363"/>
                  <a:pt x="4394" y="4461"/>
                  <a:pt x="4415" y="4564"/>
                </a:cubicBezTo>
              </a:path>
              <a:path w="125" h="299">
                <a:moveTo>
                  <a:pt x="4465" y="4390"/>
                </a:moveTo>
                <a:lnTo>
                  <a:pt x="4465" y="4390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785960" y="1509840"/>
            <a:ext cx="357120" cy="241200"/>
          </a:xfrm>
          <a:custGeom>
            <a:avLst/>
            <a:gdLst/>
            <a:ahLst/>
            <a:rect l="l" t="t" r="r" b="b"/>
            <a:pathLst>
              <a:path w="993" h="671">
                <a:moveTo>
                  <a:pt x="5035" y="4291"/>
                </a:moveTo>
                <a:cubicBezTo>
                  <a:pt x="5113" y="4291"/>
                  <a:pt x="5131" y="4275"/>
                  <a:pt x="5159" y="4316"/>
                </a:cubicBezTo>
                <a:cubicBezTo>
                  <a:pt x="5119" y="4384"/>
                  <a:pt x="4912" y="4621"/>
                  <a:pt x="5011" y="4614"/>
                </a:cubicBezTo>
                <a:cubicBezTo>
                  <a:pt x="5119" y="4592"/>
                  <a:pt x="5145" y="4589"/>
                  <a:pt x="5209" y="4564"/>
                </a:cubicBezTo>
              </a:path>
              <a:path w="993" h="671">
                <a:moveTo>
                  <a:pt x="5507" y="4192"/>
                </a:moveTo>
                <a:cubicBezTo>
                  <a:pt x="5405" y="4255"/>
                  <a:pt x="5377" y="4379"/>
                  <a:pt x="5358" y="4514"/>
                </a:cubicBezTo>
                <a:cubicBezTo>
                  <a:pt x="5461" y="4508"/>
                  <a:pt x="5751" y="4372"/>
                  <a:pt x="5531" y="4242"/>
                </a:cubicBezTo>
                <a:cubicBezTo>
                  <a:pt x="5490" y="4234"/>
                  <a:pt x="5448" y="4225"/>
                  <a:pt x="5407" y="4217"/>
                </a:cubicBezTo>
              </a:path>
              <a:path w="993" h="671">
                <a:moveTo>
                  <a:pt x="5730" y="4217"/>
                </a:moveTo>
                <a:cubicBezTo>
                  <a:pt x="5709" y="4348"/>
                  <a:pt x="5680" y="4378"/>
                  <a:pt x="5755" y="4465"/>
                </a:cubicBezTo>
                <a:cubicBezTo>
                  <a:pt x="5833" y="4429"/>
                  <a:pt x="6048" y="4343"/>
                  <a:pt x="5904" y="4242"/>
                </a:cubicBezTo>
                <a:cubicBezTo>
                  <a:pt x="5879" y="4234"/>
                  <a:pt x="5854" y="4225"/>
                  <a:pt x="5829" y="4217"/>
                </a:cubicBezTo>
              </a:path>
              <a:path w="993" h="671">
                <a:moveTo>
                  <a:pt x="5358" y="4688"/>
                </a:moveTo>
                <a:cubicBezTo>
                  <a:pt x="5358" y="4763"/>
                  <a:pt x="5353" y="4805"/>
                  <a:pt x="5333" y="486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41720" y="1490760"/>
            <a:ext cx="107640" cy="98280"/>
          </a:xfrm>
          <a:custGeom>
            <a:avLst/>
            <a:gdLst/>
            <a:ahLst/>
            <a:rect l="l" t="t" r="r" b="b"/>
            <a:pathLst>
              <a:path w="299" h="274">
                <a:moveTo>
                  <a:pt x="6300" y="4142"/>
                </a:moveTo>
                <a:cubicBezTo>
                  <a:pt x="6268" y="4208"/>
                  <a:pt x="6144" y="4430"/>
                  <a:pt x="6325" y="4415"/>
                </a:cubicBezTo>
                <a:cubicBezTo>
                  <a:pt x="6490" y="4401"/>
                  <a:pt x="6499" y="4305"/>
                  <a:pt x="6499" y="419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473200" y="1527120"/>
            <a:ext cx="36720" cy="125640"/>
          </a:xfrm>
          <a:custGeom>
            <a:avLst/>
            <a:gdLst/>
            <a:ahLst/>
            <a:rect l="l" t="t" r="r" b="b"/>
            <a:pathLst>
              <a:path w="100" h="348">
                <a:moveTo>
                  <a:pt x="6921" y="4242"/>
                </a:moveTo>
                <a:cubicBezTo>
                  <a:pt x="6921" y="4358"/>
                  <a:pt x="6921" y="4473"/>
                  <a:pt x="6921" y="4589"/>
                </a:cubicBezTo>
              </a:path>
              <a:path w="100" h="348">
                <a:moveTo>
                  <a:pt x="6871" y="4465"/>
                </a:moveTo>
                <a:cubicBezTo>
                  <a:pt x="6904" y="4457"/>
                  <a:pt x="6937" y="4448"/>
                  <a:pt x="6970" y="444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705040" y="1125360"/>
            <a:ext cx="706320" cy="536760"/>
          </a:xfrm>
          <a:custGeom>
            <a:avLst/>
            <a:gdLst/>
            <a:ahLst/>
            <a:rect l="l" t="t" r="r" b="b"/>
            <a:pathLst>
              <a:path w="1960" h="1490">
                <a:moveTo>
                  <a:pt x="7590" y="3795"/>
                </a:moveTo>
                <a:lnTo>
                  <a:pt x="7590" y="3795"/>
                </a:lnTo>
              </a:path>
              <a:path w="1960" h="1490">
                <a:moveTo>
                  <a:pt x="8384" y="3125"/>
                </a:moveTo>
                <a:cubicBezTo>
                  <a:pt x="8384" y="3201"/>
                  <a:pt x="8384" y="3227"/>
                  <a:pt x="8359" y="3274"/>
                </a:cubicBezTo>
              </a:path>
              <a:path w="1960" h="1490">
                <a:moveTo>
                  <a:pt x="7590" y="4142"/>
                </a:moveTo>
                <a:cubicBezTo>
                  <a:pt x="7550" y="4282"/>
                  <a:pt x="7521" y="4399"/>
                  <a:pt x="7541" y="4539"/>
                </a:cubicBezTo>
                <a:cubicBezTo>
                  <a:pt x="7697" y="4523"/>
                  <a:pt x="7728" y="4475"/>
                  <a:pt x="7813" y="4341"/>
                </a:cubicBezTo>
                <a:cubicBezTo>
                  <a:pt x="7659" y="4361"/>
                  <a:pt x="7663" y="4425"/>
                  <a:pt x="7640" y="4564"/>
                </a:cubicBezTo>
              </a:path>
              <a:path w="1960" h="1490">
                <a:moveTo>
                  <a:pt x="8186" y="4192"/>
                </a:moveTo>
                <a:cubicBezTo>
                  <a:pt x="8047" y="4192"/>
                  <a:pt x="8030" y="4303"/>
                  <a:pt x="7987" y="4440"/>
                </a:cubicBezTo>
                <a:cubicBezTo>
                  <a:pt x="8172" y="4440"/>
                  <a:pt x="8232" y="4451"/>
                  <a:pt x="8285" y="4242"/>
                </a:cubicBezTo>
              </a:path>
              <a:path w="1960" h="1490">
                <a:moveTo>
                  <a:pt x="8756" y="4266"/>
                </a:moveTo>
                <a:cubicBezTo>
                  <a:pt x="8756" y="4374"/>
                  <a:pt x="8756" y="4481"/>
                  <a:pt x="8756" y="4589"/>
                </a:cubicBezTo>
              </a:path>
              <a:path w="1960" h="1490">
                <a:moveTo>
                  <a:pt x="8657" y="4415"/>
                </a:moveTo>
                <a:cubicBezTo>
                  <a:pt x="8767" y="4407"/>
                  <a:pt x="8870" y="4387"/>
                  <a:pt x="8979" y="4366"/>
                </a:cubicBezTo>
              </a:path>
              <a:path w="1960" h="1490">
                <a:moveTo>
                  <a:pt x="9475" y="4118"/>
                </a:moveTo>
                <a:cubicBezTo>
                  <a:pt x="9361" y="4149"/>
                  <a:pt x="9273" y="4178"/>
                  <a:pt x="9178" y="4242"/>
                </a:cubicBezTo>
                <a:cubicBezTo>
                  <a:pt x="9206" y="4325"/>
                  <a:pt x="9389" y="4424"/>
                  <a:pt x="9376" y="4514"/>
                </a:cubicBezTo>
                <a:cubicBezTo>
                  <a:pt x="9333" y="4580"/>
                  <a:pt x="9327" y="4600"/>
                  <a:pt x="9277" y="4614"/>
                </a:cubicBezTo>
                <a:cubicBezTo>
                  <a:pt x="9266" y="4425"/>
                  <a:pt x="9313" y="4378"/>
                  <a:pt x="9451" y="424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598920" y="136692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9996" y="3795"/>
                </a:moveTo>
                <a:lnTo>
                  <a:pt x="9996" y="3795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840120" y="1125360"/>
            <a:ext cx="98640" cy="71640"/>
          </a:xfrm>
          <a:custGeom>
            <a:avLst/>
            <a:gdLst/>
            <a:ahLst/>
            <a:rect l="l" t="t" r="r" b="b"/>
            <a:pathLst>
              <a:path w="274" h="200">
                <a:moveTo>
                  <a:pt x="10790" y="3125"/>
                </a:moveTo>
                <a:cubicBezTo>
                  <a:pt x="10746" y="3180"/>
                  <a:pt x="10712" y="3243"/>
                  <a:pt x="10666" y="3299"/>
                </a:cubicBezTo>
                <a:cubicBezTo>
                  <a:pt x="10699" y="3306"/>
                  <a:pt x="11026" y="3373"/>
                  <a:pt x="10939" y="3200"/>
                </a:cubicBezTo>
                <a:cubicBezTo>
                  <a:pt x="10922" y="3192"/>
                  <a:pt x="10906" y="3183"/>
                  <a:pt x="10889" y="317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197760" y="1098720"/>
            <a:ext cx="1152360" cy="446040"/>
          </a:xfrm>
          <a:custGeom>
            <a:avLst/>
            <a:gdLst/>
            <a:ahLst/>
            <a:rect l="l" t="t" r="r" b="b"/>
            <a:pathLst>
              <a:path w="3201" h="1241">
                <a:moveTo>
                  <a:pt x="17611" y="3299"/>
                </a:moveTo>
                <a:cubicBezTo>
                  <a:pt x="17685" y="3210"/>
                  <a:pt x="17697" y="3182"/>
                  <a:pt x="17661" y="3076"/>
                </a:cubicBezTo>
                <a:cubicBezTo>
                  <a:pt x="17468" y="3052"/>
                  <a:pt x="17285" y="3077"/>
                  <a:pt x="17214" y="3299"/>
                </a:cubicBezTo>
                <a:cubicBezTo>
                  <a:pt x="17222" y="3307"/>
                  <a:pt x="17231" y="3316"/>
                  <a:pt x="17239" y="3324"/>
                </a:cubicBezTo>
                <a:cubicBezTo>
                  <a:pt x="17394" y="3324"/>
                  <a:pt x="17442" y="3286"/>
                  <a:pt x="17587" y="3200"/>
                </a:cubicBezTo>
                <a:cubicBezTo>
                  <a:pt x="17607" y="3389"/>
                  <a:pt x="17463" y="3637"/>
                  <a:pt x="17363" y="3820"/>
                </a:cubicBezTo>
                <a:cubicBezTo>
                  <a:pt x="17355" y="3828"/>
                  <a:pt x="17346" y="3837"/>
                  <a:pt x="17338" y="3845"/>
                </a:cubicBezTo>
              </a:path>
              <a:path w="3201" h="1241">
                <a:moveTo>
                  <a:pt x="18008" y="3076"/>
                </a:moveTo>
                <a:cubicBezTo>
                  <a:pt x="17990" y="3184"/>
                  <a:pt x="18108" y="3091"/>
                  <a:pt x="18207" y="3076"/>
                </a:cubicBezTo>
                <a:cubicBezTo>
                  <a:pt x="18189" y="3332"/>
                  <a:pt x="18156" y="3652"/>
                  <a:pt x="17835" y="3721"/>
                </a:cubicBezTo>
                <a:cubicBezTo>
                  <a:pt x="17810" y="3704"/>
                  <a:pt x="17785" y="3688"/>
                  <a:pt x="17760" y="3671"/>
                </a:cubicBezTo>
                <a:cubicBezTo>
                  <a:pt x="17782" y="3554"/>
                  <a:pt x="17901" y="3326"/>
                  <a:pt x="18058" y="3522"/>
                </a:cubicBezTo>
                <a:cubicBezTo>
                  <a:pt x="18101" y="3654"/>
                  <a:pt x="18113" y="3686"/>
                  <a:pt x="18132" y="3770"/>
                </a:cubicBezTo>
              </a:path>
              <a:path w="3201" h="1241">
                <a:moveTo>
                  <a:pt x="18380" y="3820"/>
                </a:moveTo>
                <a:cubicBezTo>
                  <a:pt x="18303" y="3992"/>
                  <a:pt x="18211" y="4135"/>
                  <a:pt x="18107" y="4291"/>
                </a:cubicBezTo>
              </a:path>
              <a:path w="3201" h="1241">
                <a:moveTo>
                  <a:pt x="18926" y="3324"/>
                </a:moveTo>
                <a:cubicBezTo>
                  <a:pt x="18808" y="3464"/>
                  <a:pt x="18747" y="3575"/>
                  <a:pt x="18678" y="3746"/>
                </a:cubicBezTo>
                <a:cubicBezTo>
                  <a:pt x="18835" y="3837"/>
                  <a:pt x="19202" y="3862"/>
                  <a:pt x="19149" y="3522"/>
                </a:cubicBezTo>
                <a:cubicBezTo>
                  <a:pt x="19116" y="3481"/>
                  <a:pt x="19083" y="3439"/>
                  <a:pt x="19050" y="3398"/>
                </a:cubicBezTo>
              </a:path>
              <a:path w="3201" h="1241">
                <a:moveTo>
                  <a:pt x="19472" y="3249"/>
                </a:moveTo>
                <a:cubicBezTo>
                  <a:pt x="19371" y="3418"/>
                  <a:pt x="19284" y="3566"/>
                  <a:pt x="19298" y="3770"/>
                </a:cubicBezTo>
                <a:cubicBezTo>
                  <a:pt x="19306" y="3803"/>
                  <a:pt x="19315" y="3837"/>
                  <a:pt x="19323" y="3870"/>
                </a:cubicBezTo>
                <a:cubicBezTo>
                  <a:pt x="19541" y="3869"/>
                  <a:pt x="19611" y="3817"/>
                  <a:pt x="19670" y="3597"/>
                </a:cubicBezTo>
                <a:cubicBezTo>
                  <a:pt x="19466" y="3642"/>
                  <a:pt x="19470" y="3666"/>
                  <a:pt x="19372" y="3845"/>
                </a:cubicBezTo>
              </a:path>
              <a:path w="3201" h="1241">
                <a:moveTo>
                  <a:pt x="20414" y="3200"/>
                </a:moveTo>
                <a:cubicBezTo>
                  <a:pt x="20251" y="3138"/>
                  <a:pt x="20190" y="3158"/>
                  <a:pt x="20017" y="3200"/>
                </a:cubicBezTo>
                <a:cubicBezTo>
                  <a:pt x="19995" y="3392"/>
                  <a:pt x="20265" y="3502"/>
                  <a:pt x="20265" y="3696"/>
                </a:cubicBezTo>
                <a:cubicBezTo>
                  <a:pt x="20184" y="3804"/>
                  <a:pt x="20149" y="3841"/>
                  <a:pt x="20042" y="3845"/>
                </a:cubicBezTo>
                <a:cubicBezTo>
                  <a:pt x="19989" y="3556"/>
                  <a:pt x="20223" y="3493"/>
                  <a:pt x="20389" y="3274"/>
                </a:cubicBezTo>
                <a:cubicBezTo>
                  <a:pt x="20389" y="3258"/>
                  <a:pt x="20389" y="3241"/>
                  <a:pt x="20389" y="322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85880" y="2741760"/>
            <a:ext cx="1687320" cy="339480"/>
          </a:xfrm>
          <a:custGeom>
            <a:avLst/>
            <a:gdLst/>
            <a:ahLst/>
            <a:rect l="l" t="t" r="r" b="b"/>
            <a:pathLst>
              <a:path w="4689" h="944">
                <a:moveTo>
                  <a:pt x="2282" y="7913"/>
                </a:moveTo>
                <a:cubicBezTo>
                  <a:pt x="2282" y="8163"/>
                  <a:pt x="2249" y="8249"/>
                  <a:pt x="2530" y="8210"/>
                </a:cubicBezTo>
                <a:cubicBezTo>
                  <a:pt x="2563" y="8202"/>
                  <a:pt x="2596" y="8194"/>
                  <a:pt x="2629" y="8186"/>
                </a:cubicBezTo>
              </a:path>
              <a:path w="4689" h="944">
                <a:moveTo>
                  <a:pt x="2282" y="8086"/>
                </a:moveTo>
                <a:cubicBezTo>
                  <a:pt x="2356" y="8051"/>
                  <a:pt x="2396" y="8033"/>
                  <a:pt x="2456" y="8012"/>
                </a:cubicBezTo>
              </a:path>
              <a:path w="4689" h="944">
                <a:moveTo>
                  <a:pt x="2183" y="7813"/>
                </a:moveTo>
                <a:cubicBezTo>
                  <a:pt x="2312" y="7752"/>
                  <a:pt x="2390" y="7728"/>
                  <a:pt x="2530" y="7714"/>
                </a:cubicBezTo>
              </a:path>
              <a:path w="4689" h="944">
                <a:moveTo>
                  <a:pt x="2778" y="7863"/>
                </a:moveTo>
                <a:cubicBezTo>
                  <a:pt x="2875" y="7990"/>
                  <a:pt x="2949" y="8067"/>
                  <a:pt x="3076" y="8161"/>
                </a:cubicBezTo>
              </a:path>
              <a:path w="4689" h="944">
                <a:moveTo>
                  <a:pt x="2977" y="7913"/>
                </a:moveTo>
                <a:cubicBezTo>
                  <a:pt x="2889" y="8088"/>
                  <a:pt x="2869" y="8132"/>
                  <a:pt x="2803" y="8235"/>
                </a:cubicBezTo>
              </a:path>
              <a:path w="4689" h="944">
                <a:moveTo>
                  <a:pt x="3299" y="8111"/>
                </a:moveTo>
                <a:cubicBezTo>
                  <a:pt x="3330" y="8255"/>
                  <a:pt x="3370" y="8414"/>
                  <a:pt x="3398" y="8558"/>
                </a:cubicBezTo>
                <a:cubicBezTo>
                  <a:pt x="3383" y="8381"/>
                  <a:pt x="3319" y="8209"/>
                  <a:pt x="3299" y="8037"/>
                </a:cubicBezTo>
                <a:cubicBezTo>
                  <a:pt x="3299" y="7895"/>
                  <a:pt x="3289" y="7867"/>
                  <a:pt x="3324" y="7789"/>
                </a:cubicBezTo>
                <a:cubicBezTo>
                  <a:pt x="3487" y="7789"/>
                  <a:pt x="3785" y="7909"/>
                  <a:pt x="3646" y="8161"/>
                </a:cubicBezTo>
                <a:cubicBezTo>
                  <a:pt x="3605" y="8186"/>
                  <a:pt x="3563" y="8210"/>
                  <a:pt x="3522" y="8235"/>
                </a:cubicBezTo>
              </a:path>
              <a:path w="4689" h="944">
                <a:moveTo>
                  <a:pt x="3944" y="7813"/>
                </a:moveTo>
                <a:cubicBezTo>
                  <a:pt x="3852" y="7916"/>
                  <a:pt x="3808" y="8048"/>
                  <a:pt x="3820" y="8186"/>
                </a:cubicBezTo>
                <a:cubicBezTo>
                  <a:pt x="3895" y="8177"/>
                  <a:pt x="4171" y="8134"/>
                  <a:pt x="4018" y="8012"/>
                </a:cubicBezTo>
                <a:cubicBezTo>
                  <a:pt x="3985" y="7995"/>
                  <a:pt x="3952" y="7979"/>
                  <a:pt x="3919" y="7962"/>
                </a:cubicBezTo>
              </a:path>
              <a:path w="4689" h="944">
                <a:moveTo>
                  <a:pt x="4242" y="8086"/>
                </a:moveTo>
                <a:cubicBezTo>
                  <a:pt x="4278" y="8197"/>
                  <a:pt x="4266" y="8218"/>
                  <a:pt x="4316" y="8260"/>
                </a:cubicBezTo>
                <a:cubicBezTo>
                  <a:pt x="4257" y="8152"/>
                  <a:pt x="4222" y="7942"/>
                  <a:pt x="4415" y="7913"/>
                </a:cubicBezTo>
                <a:cubicBezTo>
                  <a:pt x="4606" y="7884"/>
                  <a:pt x="4605" y="8064"/>
                  <a:pt x="4638" y="8186"/>
                </a:cubicBezTo>
              </a:path>
              <a:path w="4689" h="944">
                <a:moveTo>
                  <a:pt x="4961" y="8086"/>
                </a:moveTo>
                <a:cubicBezTo>
                  <a:pt x="5057" y="8010"/>
                  <a:pt x="5153" y="8019"/>
                  <a:pt x="5060" y="7913"/>
                </a:cubicBezTo>
                <a:cubicBezTo>
                  <a:pt x="4927" y="7940"/>
                  <a:pt x="4770" y="8048"/>
                  <a:pt x="4961" y="8186"/>
                </a:cubicBezTo>
                <a:cubicBezTo>
                  <a:pt x="5146" y="8320"/>
                  <a:pt x="5219" y="8060"/>
                  <a:pt x="5283" y="7962"/>
                </a:cubicBezTo>
                <a:cubicBezTo>
                  <a:pt x="5319" y="7907"/>
                  <a:pt x="5283" y="8095"/>
                  <a:pt x="5283" y="8161"/>
                </a:cubicBezTo>
                <a:cubicBezTo>
                  <a:pt x="5290" y="8106"/>
                  <a:pt x="5324" y="7780"/>
                  <a:pt x="5457" y="7987"/>
                </a:cubicBezTo>
                <a:cubicBezTo>
                  <a:pt x="5501" y="8119"/>
                  <a:pt x="5513" y="8150"/>
                  <a:pt x="5531" y="8235"/>
                </a:cubicBezTo>
              </a:path>
              <a:path w="4689" h="944">
                <a:moveTo>
                  <a:pt x="5730" y="7615"/>
                </a:moveTo>
                <a:cubicBezTo>
                  <a:pt x="5761" y="7825"/>
                  <a:pt x="5779" y="8026"/>
                  <a:pt x="5804" y="8235"/>
                </a:cubicBezTo>
              </a:path>
              <a:path w="4689" h="944">
                <a:moveTo>
                  <a:pt x="5606" y="7863"/>
                </a:moveTo>
                <a:cubicBezTo>
                  <a:pt x="5845" y="7815"/>
                  <a:pt x="5936" y="7856"/>
                  <a:pt x="6028" y="8086"/>
                </a:cubicBezTo>
                <a:cubicBezTo>
                  <a:pt x="6036" y="8119"/>
                  <a:pt x="6044" y="8153"/>
                  <a:pt x="6052" y="8186"/>
                </a:cubicBezTo>
              </a:path>
              <a:path w="4689" h="944">
                <a:moveTo>
                  <a:pt x="6028" y="7739"/>
                </a:moveTo>
                <a:lnTo>
                  <a:pt x="6028" y="7739"/>
                </a:lnTo>
              </a:path>
              <a:path w="4689" h="944">
                <a:moveTo>
                  <a:pt x="6598" y="8012"/>
                </a:moveTo>
                <a:cubicBezTo>
                  <a:pt x="6507" y="7829"/>
                  <a:pt x="6383" y="7807"/>
                  <a:pt x="6251" y="8037"/>
                </a:cubicBezTo>
                <a:cubicBezTo>
                  <a:pt x="6229" y="8166"/>
                  <a:pt x="6210" y="8198"/>
                  <a:pt x="6276" y="8260"/>
                </a:cubicBezTo>
                <a:cubicBezTo>
                  <a:pt x="6496" y="8132"/>
                  <a:pt x="6446" y="8008"/>
                  <a:pt x="6524" y="8086"/>
                </a:cubicBezTo>
                <a:cubicBezTo>
                  <a:pt x="6689" y="8252"/>
                  <a:pt x="6890" y="8104"/>
                  <a:pt x="6846" y="7888"/>
                </a:cubicBezTo>
                <a:cubicBezTo>
                  <a:pt x="6821" y="7838"/>
                  <a:pt x="6797" y="7789"/>
                  <a:pt x="6772" y="7739"/>
                </a:cubicBezTo>
                <a:cubicBezTo>
                  <a:pt x="6755" y="7714"/>
                  <a:pt x="6739" y="7690"/>
                  <a:pt x="6722" y="7665"/>
                </a:cubicBezTo>
                <a:cubicBezTo>
                  <a:pt x="6771" y="7862"/>
                  <a:pt x="6829" y="8059"/>
                  <a:pt x="6871" y="826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32040" y="2714760"/>
            <a:ext cx="598680" cy="268200"/>
          </a:xfrm>
          <a:custGeom>
            <a:avLst/>
            <a:gdLst/>
            <a:ahLst/>
            <a:rect l="l" t="t" r="r" b="b"/>
            <a:pathLst>
              <a:path w="1663" h="745">
                <a:moveTo>
                  <a:pt x="7962" y="7689"/>
                </a:moveTo>
                <a:cubicBezTo>
                  <a:pt x="7901" y="7614"/>
                  <a:pt x="7717" y="7416"/>
                  <a:pt x="7665" y="7640"/>
                </a:cubicBezTo>
                <a:cubicBezTo>
                  <a:pt x="7621" y="7831"/>
                  <a:pt x="7717" y="8008"/>
                  <a:pt x="7764" y="8186"/>
                </a:cubicBezTo>
              </a:path>
              <a:path w="1663" h="745">
                <a:moveTo>
                  <a:pt x="7590" y="7913"/>
                </a:moveTo>
                <a:cubicBezTo>
                  <a:pt x="7760" y="7913"/>
                  <a:pt x="7919" y="7913"/>
                  <a:pt x="8086" y="7888"/>
                </a:cubicBezTo>
                <a:cubicBezTo>
                  <a:pt x="8069" y="7991"/>
                  <a:pt x="7892" y="8141"/>
                  <a:pt x="7962" y="8235"/>
                </a:cubicBezTo>
                <a:cubicBezTo>
                  <a:pt x="8090" y="8406"/>
                  <a:pt x="8408" y="8147"/>
                  <a:pt x="8210" y="7962"/>
                </a:cubicBezTo>
                <a:cubicBezTo>
                  <a:pt x="8169" y="7946"/>
                  <a:pt x="8127" y="7929"/>
                  <a:pt x="8086" y="7913"/>
                </a:cubicBezTo>
              </a:path>
              <a:path w="1663" h="745">
                <a:moveTo>
                  <a:pt x="8384" y="8136"/>
                </a:moveTo>
                <a:cubicBezTo>
                  <a:pt x="8449" y="8201"/>
                  <a:pt x="8476" y="7991"/>
                  <a:pt x="8558" y="7888"/>
                </a:cubicBezTo>
              </a:path>
              <a:path w="1663" h="745">
                <a:moveTo>
                  <a:pt x="8806" y="7987"/>
                </a:moveTo>
                <a:cubicBezTo>
                  <a:pt x="8779" y="8088"/>
                  <a:pt x="8763" y="8181"/>
                  <a:pt x="8756" y="8285"/>
                </a:cubicBezTo>
                <a:cubicBezTo>
                  <a:pt x="8765" y="8244"/>
                  <a:pt x="8852" y="7811"/>
                  <a:pt x="8905" y="7888"/>
                </a:cubicBezTo>
                <a:cubicBezTo>
                  <a:pt x="8933" y="8028"/>
                  <a:pt x="8944" y="8086"/>
                  <a:pt x="8954" y="8186"/>
                </a:cubicBezTo>
                <a:cubicBezTo>
                  <a:pt x="8954" y="8207"/>
                  <a:pt x="8961" y="7956"/>
                  <a:pt x="9029" y="7888"/>
                </a:cubicBezTo>
                <a:cubicBezTo>
                  <a:pt x="9207" y="7710"/>
                  <a:pt x="9230" y="8198"/>
                  <a:pt x="9227" y="826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0280" y="2803680"/>
            <a:ext cx="866880" cy="196560"/>
          </a:xfrm>
          <a:custGeom>
            <a:avLst/>
            <a:gdLst/>
            <a:ahLst/>
            <a:rect l="l" t="t" r="r" b="b"/>
            <a:pathLst>
              <a:path w="2407" h="546">
                <a:moveTo>
                  <a:pt x="9723" y="7962"/>
                </a:moveTo>
                <a:cubicBezTo>
                  <a:pt x="9757" y="8092"/>
                  <a:pt x="9787" y="8201"/>
                  <a:pt x="9798" y="8334"/>
                </a:cubicBezTo>
                <a:cubicBezTo>
                  <a:pt x="9800" y="8271"/>
                  <a:pt x="9804" y="7688"/>
                  <a:pt x="10021" y="7888"/>
                </a:cubicBezTo>
                <a:cubicBezTo>
                  <a:pt x="10112" y="8047"/>
                  <a:pt x="10142" y="8089"/>
                  <a:pt x="10145" y="8210"/>
                </a:cubicBezTo>
                <a:cubicBezTo>
                  <a:pt x="10167" y="8048"/>
                  <a:pt x="10184" y="7983"/>
                  <a:pt x="10294" y="7863"/>
                </a:cubicBezTo>
                <a:cubicBezTo>
                  <a:pt x="10365" y="7999"/>
                  <a:pt x="10400" y="8101"/>
                  <a:pt x="10418" y="8260"/>
                </a:cubicBezTo>
              </a:path>
              <a:path w="2407" h="546">
                <a:moveTo>
                  <a:pt x="10592" y="8012"/>
                </a:moveTo>
                <a:cubicBezTo>
                  <a:pt x="10775" y="7973"/>
                  <a:pt x="10778" y="8020"/>
                  <a:pt x="10790" y="7863"/>
                </a:cubicBezTo>
                <a:cubicBezTo>
                  <a:pt x="10683" y="7870"/>
                  <a:pt x="10341" y="8071"/>
                  <a:pt x="10567" y="8235"/>
                </a:cubicBezTo>
                <a:cubicBezTo>
                  <a:pt x="10617" y="8235"/>
                  <a:pt x="10666" y="8235"/>
                  <a:pt x="10716" y="8235"/>
                </a:cubicBezTo>
              </a:path>
              <a:path w="2407" h="546">
                <a:moveTo>
                  <a:pt x="11286" y="7962"/>
                </a:moveTo>
                <a:cubicBezTo>
                  <a:pt x="11221" y="7718"/>
                  <a:pt x="11030" y="7792"/>
                  <a:pt x="10939" y="8037"/>
                </a:cubicBezTo>
                <a:cubicBezTo>
                  <a:pt x="10939" y="8087"/>
                  <a:pt x="10939" y="8136"/>
                  <a:pt x="10939" y="8186"/>
                </a:cubicBezTo>
                <a:cubicBezTo>
                  <a:pt x="11201" y="8155"/>
                  <a:pt x="11168" y="7953"/>
                  <a:pt x="11212" y="8062"/>
                </a:cubicBezTo>
                <a:cubicBezTo>
                  <a:pt x="11296" y="8269"/>
                  <a:pt x="11422" y="8075"/>
                  <a:pt x="11509" y="7987"/>
                </a:cubicBezTo>
                <a:cubicBezTo>
                  <a:pt x="11509" y="8329"/>
                  <a:pt x="11479" y="7999"/>
                  <a:pt x="11559" y="7888"/>
                </a:cubicBezTo>
                <a:cubicBezTo>
                  <a:pt x="11756" y="7614"/>
                  <a:pt x="11766" y="8090"/>
                  <a:pt x="11757" y="8186"/>
                </a:cubicBezTo>
              </a:path>
              <a:path w="2407" h="546">
                <a:moveTo>
                  <a:pt x="12055" y="7789"/>
                </a:moveTo>
                <a:cubicBezTo>
                  <a:pt x="11950" y="7852"/>
                  <a:pt x="11930" y="7869"/>
                  <a:pt x="11857" y="7888"/>
                </a:cubicBezTo>
                <a:cubicBezTo>
                  <a:pt x="12056" y="7992"/>
                  <a:pt x="12198" y="8003"/>
                  <a:pt x="12055" y="821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562640" y="2714760"/>
            <a:ext cx="304560" cy="250560"/>
          </a:xfrm>
          <a:custGeom>
            <a:avLst/>
            <a:gdLst/>
            <a:ahLst/>
            <a:rect l="l" t="t" r="r" b="b"/>
            <a:pathLst>
              <a:path w="845" h="695">
                <a:moveTo>
                  <a:pt x="12849" y="7541"/>
                </a:moveTo>
                <a:cubicBezTo>
                  <a:pt x="12914" y="7774"/>
                  <a:pt x="12961" y="7995"/>
                  <a:pt x="12998" y="8235"/>
                </a:cubicBezTo>
              </a:path>
              <a:path w="845" h="695">
                <a:moveTo>
                  <a:pt x="12675" y="7938"/>
                </a:moveTo>
                <a:cubicBezTo>
                  <a:pt x="12895" y="7899"/>
                  <a:pt x="13097" y="7871"/>
                  <a:pt x="13320" y="7863"/>
                </a:cubicBezTo>
                <a:cubicBezTo>
                  <a:pt x="13311" y="7902"/>
                  <a:pt x="13183" y="8167"/>
                  <a:pt x="13295" y="8186"/>
                </a:cubicBezTo>
                <a:cubicBezTo>
                  <a:pt x="13589" y="8235"/>
                  <a:pt x="13486" y="7996"/>
                  <a:pt x="13370" y="788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037120" y="2687760"/>
            <a:ext cx="1187640" cy="438120"/>
          </a:xfrm>
          <a:custGeom>
            <a:avLst/>
            <a:gdLst/>
            <a:ahLst/>
            <a:rect l="l" t="t" r="r" b="b"/>
            <a:pathLst>
              <a:path w="3300" h="1217">
                <a:moveTo>
                  <a:pt x="13990" y="7813"/>
                </a:moveTo>
                <a:cubicBezTo>
                  <a:pt x="14022" y="7938"/>
                  <a:pt x="14050" y="8034"/>
                  <a:pt x="14064" y="8161"/>
                </a:cubicBezTo>
                <a:cubicBezTo>
                  <a:pt x="14083" y="8046"/>
                  <a:pt x="14124" y="7851"/>
                  <a:pt x="14238" y="7789"/>
                </a:cubicBezTo>
                <a:cubicBezTo>
                  <a:pt x="14437" y="7682"/>
                  <a:pt x="14437" y="8012"/>
                  <a:pt x="14461" y="8111"/>
                </a:cubicBezTo>
                <a:cubicBezTo>
                  <a:pt x="14461" y="8107"/>
                  <a:pt x="14455" y="7788"/>
                  <a:pt x="14585" y="7739"/>
                </a:cubicBezTo>
                <a:cubicBezTo>
                  <a:pt x="14686" y="7701"/>
                  <a:pt x="14692" y="8137"/>
                  <a:pt x="14684" y="8186"/>
                </a:cubicBezTo>
              </a:path>
              <a:path w="3300" h="1217">
                <a:moveTo>
                  <a:pt x="14784" y="7813"/>
                </a:moveTo>
                <a:cubicBezTo>
                  <a:pt x="14784" y="7953"/>
                  <a:pt x="14744" y="8192"/>
                  <a:pt x="14957" y="8161"/>
                </a:cubicBezTo>
                <a:cubicBezTo>
                  <a:pt x="15123" y="8137"/>
                  <a:pt x="15106" y="7834"/>
                  <a:pt x="15106" y="7913"/>
                </a:cubicBezTo>
                <a:cubicBezTo>
                  <a:pt x="15118" y="8064"/>
                  <a:pt x="15105" y="8043"/>
                  <a:pt x="15230" y="8111"/>
                </a:cubicBezTo>
              </a:path>
              <a:path w="3300" h="1217">
                <a:moveTo>
                  <a:pt x="15329" y="7466"/>
                </a:moveTo>
                <a:cubicBezTo>
                  <a:pt x="15380" y="7660"/>
                  <a:pt x="15406" y="7859"/>
                  <a:pt x="15429" y="8062"/>
                </a:cubicBezTo>
                <a:cubicBezTo>
                  <a:pt x="15429" y="8078"/>
                  <a:pt x="15429" y="8095"/>
                  <a:pt x="15429" y="8111"/>
                </a:cubicBezTo>
              </a:path>
              <a:path w="3300" h="1217">
                <a:moveTo>
                  <a:pt x="15652" y="7541"/>
                </a:moveTo>
                <a:cubicBezTo>
                  <a:pt x="15701" y="7738"/>
                  <a:pt x="15743" y="7938"/>
                  <a:pt x="15776" y="8136"/>
                </a:cubicBezTo>
              </a:path>
              <a:path w="3300" h="1217">
                <a:moveTo>
                  <a:pt x="15553" y="7764"/>
                </a:moveTo>
                <a:cubicBezTo>
                  <a:pt x="15648" y="7771"/>
                  <a:pt x="15983" y="7757"/>
                  <a:pt x="16049" y="7863"/>
                </a:cubicBezTo>
                <a:cubicBezTo>
                  <a:pt x="16070" y="7996"/>
                  <a:pt x="16074" y="8030"/>
                  <a:pt x="16098" y="8111"/>
                </a:cubicBezTo>
              </a:path>
              <a:path w="3300" h="1217">
                <a:moveTo>
                  <a:pt x="16123" y="7665"/>
                </a:moveTo>
                <a:cubicBezTo>
                  <a:pt x="16272" y="7795"/>
                  <a:pt x="16269" y="7942"/>
                  <a:pt x="16297" y="8136"/>
                </a:cubicBezTo>
                <a:cubicBezTo>
                  <a:pt x="16315" y="8262"/>
                  <a:pt x="16321" y="8357"/>
                  <a:pt x="16321" y="8483"/>
                </a:cubicBezTo>
                <a:cubicBezTo>
                  <a:pt x="16306" y="8307"/>
                  <a:pt x="16264" y="7919"/>
                  <a:pt x="16495" y="7838"/>
                </a:cubicBezTo>
                <a:cubicBezTo>
                  <a:pt x="16528" y="7855"/>
                  <a:pt x="16561" y="7871"/>
                  <a:pt x="16594" y="7888"/>
                </a:cubicBezTo>
                <a:cubicBezTo>
                  <a:pt x="16567" y="8131"/>
                  <a:pt x="16576" y="8287"/>
                  <a:pt x="16321" y="8161"/>
                </a:cubicBezTo>
              </a:path>
              <a:path w="3300" h="1217">
                <a:moveTo>
                  <a:pt x="16743" y="7541"/>
                </a:moveTo>
                <a:cubicBezTo>
                  <a:pt x="16743" y="7666"/>
                  <a:pt x="16642" y="8223"/>
                  <a:pt x="16917" y="8062"/>
                </a:cubicBezTo>
                <a:cubicBezTo>
                  <a:pt x="17004" y="7952"/>
                  <a:pt x="17033" y="7929"/>
                  <a:pt x="17041" y="7838"/>
                </a:cubicBezTo>
                <a:cubicBezTo>
                  <a:pt x="17041" y="7893"/>
                  <a:pt x="17012" y="8252"/>
                  <a:pt x="17190" y="8111"/>
                </a:cubicBezTo>
                <a:cubicBezTo>
                  <a:pt x="17239" y="8012"/>
                  <a:pt x="17255" y="7979"/>
                  <a:pt x="17289" y="7913"/>
                </a:cubicBezTo>
                <a:cubicBezTo>
                  <a:pt x="17289" y="8137"/>
                  <a:pt x="17358" y="8548"/>
                  <a:pt x="17115" y="8682"/>
                </a:cubicBezTo>
                <a:cubicBezTo>
                  <a:pt x="17065" y="8674"/>
                  <a:pt x="17016" y="8665"/>
                  <a:pt x="16966" y="865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510240" y="2786040"/>
            <a:ext cx="436680" cy="187200"/>
          </a:xfrm>
          <a:custGeom>
            <a:avLst/>
            <a:gdLst/>
            <a:ahLst/>
            <a:rect l="l" t="t" r="r" b="b"/>
            <a:pathLst>
              <a:path w="1216" h="522">
                <a:moveTo>
                  <a:pt x="18231" y="7739"/>
                </a:moveTo>
                <a:cubicBezTo>
                  <a:pt x="18282" y="7994"/>
                  <a:pt x="18299" y="8083"/>
                  <a:pt x="18281" y="8260"/>
                </a:cubicBezTo>
              </a:path>
              <a:path w="1216" h="522">
                <a:moveTo>
                  <a:pt x="18083" y="8062"/>
                </a:moveTo>
                <a:cubicBezTo>
                  <a:pt x="18279" y="8051"/>
                  <a:pt x="18678" y="8110"/>
                  <a:pt x="18678" y="7838"/>
                </a:cubicBezTo>
                <a:cubicBezTo>
                  <a:pt x="18670" y="7822"/>
                  <a:pt x="18661" y="7805"/>
                  <a:pt x="18653" y="7789"/>
                </a:cubicBezTo>
                <a:cubicBezTo>
                  <a:pt x="18662" y="7939"/>
                  <a:pt x="18682" y="8086"/>
                  <a:pt x="18703" y="8235"/>
                </a:cubicBezTo>
                <a:cubicBezTo>
                  <a:pt x="18720" y="8033"/>
                  <a:pt x="18779" y="7792"/>
                  <a:pt x="18951" y="8111"/>
                </a:cubicBezTo>
                <a:cubicBezTo>
                  <a:pt x="18967" y="8161"/>
                  <a:pt x="18984" y="8210"/>
                  <a:pt x="19000" y="8260"/>
                </a:cubicBezTo>
              </a:path>
              <a:path w="1216" h="522">
                <a:moveTo>
                  <a:pt x="19199" y="8012"/>
                </a:moveTo>
                <a:cubicBezTo>
                  <a:pt x="19270" y="7964"/>
                  <a:pt x="19293" y="7951"/>
                  <a:pt x="19298" y="7888"/>
                </a:cubicBezTo>
                <a:cubicBezTo>
                  <a:pt x="19195" y="7909"/>
                  <a:pt x="18956" y="8069"/>
                  <a:pt x="19075" y="8210"/>
                </a:cubicBezTo>
                <a:cubicBezTo>
                  <a:pt x="19116" y="8218"/>
                  <a:pt x="19158" y="8227"/>
                  <a:pt x="19199" y="823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161120" y="2678040"/>
            <a:ext cx="716040" cy="465120"/>
          </a:xfrm>
          <a:custGeom>
            <a:avLst/>
            <a:gdLst/>
            <a:ahLst/>
            <a:rect l="l" t="t" r="r" b="b"/>
            <a:pathLst>
              <a:path w="1986" h="1291">
                <a:moveTo>
                  <a:pt x="20290" y="7813"/>
                </a:moveTo>
                <a:cubicBezTo>
                  <a:pt x="20093" y="7748"/>
                  <a:pt x="19899" y="7824"/>
                  <a:pt x="19893" y="8086"/>
                </a:cubicBezTo>
                <a:cubicBezTo>
                  <a:pt x="19887" y="8357"/>
                  <a:pt x="20222" y="8062"/>
                  <a:pt x="20216" y="7863"/>
                </a:cubicBezTo>
                <a:cubicBezTo>
                  <a:pt x="20199" y="7789"/>
                  <a:pt x="20183" y="7714"/>
                  <a:pt x="20166" y="7640"/>
                </a:cubicBezTo>
                <a:cubicBezTo>
                  <a:pt x="20119" y="7314"/>
                  <a:pt x="20265" y="8039"/>
                  <a:pt x="20290" y="8136"/>
                </a:cubicBezTo>
              </a:path>
              <a:path w="1986" h="1291">
                <a:moveTo>
                  <a:pt x="20464" y="7813"/>
                </a:moveTo>
                <a:cubicBezTo>
                  <a:pt x="20464" y="7996"/>
                  <a:pt x="20461" y="8047"/>
                  <a:pt x="20489" y="8161"/>
                </a:cubicBezTo>
              </a:path>
              <a:path w="1986" h="1291">
                <a:moveTo>
                  <a:pt x="20538" y="7640"/>
                </a:moveTo>
                <a:lnTo>
                  <a:pt x="20538" y="7640"/>
                </a:lnTo>
              </a:path>
              <a:path w="1986" h="1291">
                <a:moveTo>
                  <a:pt x="21059" y="7789"/>
                </a:moveTo>
                <a:cubicBezTo>
                  <a:pt x="21013" y="7824"/>
                  <a:pt x="20625" y="8222"/>
                  <a:pt x="20836" y="8161"/>
                </a:cubicBezTo>
                <a:cubicBezTo>
                  <a:pt x="20969" y="8122"/>
                  <a:pt x="20970" y="7994"/>
                  <a:pt x="20985" y="7888"/>
                </a:cubicBezTo>
                <a:cubicBezTo>
                  <a:pt x="21014" y="8108"/>
                  <a:pt x="21201" y="8616"/>
                  <a:pt x="20910" y="8731"/>
                </a:cubicBezTo>
                <a:cubicBezTo>
                  <a:pt x="20707" y="8731"/>
                  <a:pt x="20637" y="8728"/>
                  <a:pt x="20538" y="8607"/>
                </a:cubicBezTo>
              </a:path>
              <a:path w="1986" h="1291">
                <a:moveTo>
                  <a:pt x="21282" y="7813"/>
                </a:moveTo>
                <a:cubicBezTo>
                  <a:pt x="21282" y="7954"/>
                  <a:pt x="21282" y="7995"/>
                  <a:pt x="21282" y="8086"/>
                </a:cubicBezTo>
              </a:path>
              <a:path w="1986" h="1291">
                <a:moveTo>
                  <a:pt x="21282" y="7466"/>
                </a:moveTo>
                <a:lnTo>
                  <a:pt x="21282" y="7466"/>
                </a:lnTo>
              </a:path>
              <a:path w="1986" h="1291">
                <a:moveTo>
                  <a:pt x="21580" y="7441"/>
                </a:moveTo>
                <a:cubicBezTo>
                  <a:pt x="21613" y="7648"/>
                  <a:pt x="21643" y="7855"/>
                  <a:pt x="21679" y="8062"/>
                </a:cubicBezTo>
              </a:path>
              <a:path w="1986" h="1291">
                <a:moveTo>
                  <a:pt x="21382" y="7739"/>
                </a:moveTo>
                <a:cubicBezTo>
                  <a:pt x="21551" y="7739"/>
                  <a:pt x="21711" y="7733"/>
                  <a:pt x="21878" y="771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803160" y="3303720"/>
            <a:ext cx="312840" cy="403200"/>
          </a:xfrm>
          <a:custGeom>
            <a:avLst/>
            <a:gdLst/>
            <a:ahLst/>
            <a:rect l="l" t="t" r="r" b="b"/>
            <a:pathLst>
              <a:path w="870" h="1117">
                <a:moveTo>
                  <a:pt x="2282" y="9178"/>
                </a:moveTo>
                <a:cubicBezTo>
                  <a:pt x="2290" y="9194"/>
                  <a:pt x="2299" y="9211"/>
                  <a:pt x="2307" y="9227"/>
                </a:cubicBezTo>
              </a:path>
              <a:path w="870" h="1117">
                <a:moveTo>
                  <a:pt x="2282" y="9203"/>
                </a:moveTo>
                <a:cubicBezTo>
                  <a:pt x="2295" y="9435"/>
                  <a:pt x="2321" y="9665"/>
                  <a:pt x="2332" y="9897"/>
                </a:cubicBezTo>
                <a:cubicBezTo>
                  <a:pt x="2339" y="9842"/>
                  <a:pt x="2405" y="9271"/>
                  <a:pt x="2580" y="9500"/>
                </a:cubicBezTo>
                <a:cubicBezTo>
                  <a:pt x="2727" y="9692"/>
                  <a:pt x="2614" y="9920"/>
                  <a:pt x="2381" y="9847"/>
                </a:cubicBezTo>
                <a:cubicBezTo>
                  <a:pt x="2331" y="9822"/>
                  <a:pt x="2282" y="9798"/>
                  <a:pt x="2232" y="9773"/>
                </a:cubicBezTo>
              </a:path>
              <a:path w="870" h="1117">
                <a:moveTo>
                  <a:pt x="2753" y="9649"/>
                </a:moveTo>
                <a:cubicBezTo>
                  <a:pt x="2802" y="9795"/>
                  <a:pt x="2941" y="9982"/>
                  <a:pt x="3051" y="9723"/>
                </a:cubicBezTo>
                <a:cubicBezTo>
                  <a:pt x="3051" y="9690"/>
                  <a:pt x="3051" y="9657"/>
                  <a:pt x="3051" y="9624"/>
                </a:cubicBezTo>
                <a:cubicBezTo>
                  <a:pt x="3099" y="9871"/>
                  <a:pt x="3183" y="10190"/>
                  <a:pt x="2853" y="10294"/>
                </a:cubicBezTo>
                <a:cubicBezTo>
                  <a:pt x="2795" y="10294"/>
                  <a:pt x="2737" y="10294"/>
                  <a:pt x="2679" y="1029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366920" y="3321000"/>
            <a:ext cx="214200" cy="216000"/>
          </a:xfrm>
          <a:custGeom>
            <a:avLst/>
            <a:gdLst/>
            <a:ahLst/>
            <a:rect l="l" t="t" r="r" b="b"/>
            <a:pathLst>
              <a:path w="596" h="597">
                <a:moveTo>
                  <a:pt x="3795" y="9227"/>
                </a:moveTo>
                <a:cubicBezTo>
                  <a:pt x="3819" y="9418"/>
                  <a:pt x="3841" y="9608"/>
                  <a:pt x="3870" y="9798"/>
                </a:cubicBezTo>
              </a:path>
              <a:path w="596" h="597">
                <a:moveTo>
                  <a:pt x="4118" y="9277"/>
                </a:moveTo>
                <a:cubicBezTo>
                  <a:pt x="4072" y="9492"/>
                  <a:pt x="4049" y="9614"/>
                  <a:pt x="4093" y="9823"/>
                </a:cubicBezTo>
                <a:cubicBezTo>
                  <a:pt x="4305" y="9773"/>
                  <a:pt x="4541" y="9605"/>
                  <a:pt x="4316" y="9351"/>
                </a:cubicBezTo>
                <a:cubicBezTo>
                  <a:pt x="4195" y="9291"/>
                  <a:pt x="4176" y="9266"/>
                  <a:pt x="4093" y="927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741320" y="3340080"/>
            <a:ext cx="223920" cy="187200"/>
          </a:xfrm>
          <a:custGeom>
            <a:avLst/>
            <a:gdLst/>
            <a:ahLst/>
            <a:rect l="l" t="t" r="r" b="b"/>
            <a:pathLst>
              <a:path w="621" h="522">
                <a:moveTo>
                  <a:pt x="4986" y="9277"/>
                </a:moveTo>
                <a:cubicBezTo>
                  <a:pt x="5011" y="9457"/>
                  <a:pt x="5036" y="9622"/>
                  <a:pt x="5085" y="9798"/>
                </a:cubicBezTo>
              </a:path>
              <a:path w="621" h="522">
                <a:moveTo>
                  <a:pt x="4837" y="9475"/>
                </a:moveTo>
                <a:cubicBezTo>
                  <a:pt x="4954" y="9470"/>
                  <a:pt x="5068" y="9459"/>
                  <a:pt x="5184" y="9451"/>
                </a:cubicBezTo>
                <a:cubicBezTo>
                  <a:pt x="5157" y="9566"/>
                  <a:pt x="5065" y="9845"/>
                  <a:pt x="5308" y="9798"/>
                </a:cubicBezTo>
                <a:cubicBezTo>
                  <a:pt x="5558" y="9750"/>
                  <a:pt x="5423" y="9582"/>
                  <a:pt x="5358" y="947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232000" y="3402000"/>
            <a:ext cx="169920" cy="142920"/>
          </a:xfrm>
          <a:custGeom>
            <a:avLst/>
            <a:gdLst/>
            <a:ahLst/>
            <a:rect l="l" t="t" r="r" b="b"/>
            <a:pathLst>
              <a:path w="472" h="397">
                <a:moveTo>
                  <a:pt x="6524" y="9599"/>
                </a:moveTo>
                <a:cubicBezTo>
                  <a:pt x="6366" y="9320"/>
                  <a:pt x="6308" y="9568"/>
                  <a:pt x="6201" y="9773"/>
                </a:cubicBezTo>
                <a:cubicBezTo>
                  <a:pt x="6218" y="9798"/>
                  <a:pt x="6234" y="9822"/>
                  <a:pt x="6251" y="9847"/>
                </a:cubicBezTo>
                <a:cubicBezTo>
                  <a:pt x="6423" y="9675"/>
                  <a:pt x="6326" y="9604"/>
                  <a:pt x="6449" y="9699"/>
                </a:cubicBezTo>
                <a:cubicBezTo>
                  <a:pt x="6553" y="9750"/>
                  <a:pt x="6591" y="9766"/>
                  <a:pt x="6672" y="972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589120" y="3384720"/>
            <a:ext cx="1081080" cy="322200"/>
          </a:xfrm>
          <a:custGeom>
            <a:avLst/>
            <a:gdLst/>
            <a:ahLst/>
            <a:rect l="l" t="t" r="r" b="b"/>
            <a:pathLst>
              <a:path w="3003" h="894">
                <a:moveTo>
                  <a:pt x="7367" y="9748"/>
                </a:moveTo>
                <a:cubicBezTo>
                  <a:pt x="7388" y="9938"/>
                  <a:pt x="7410" y="10108"/>
                  <a:pt x="7392" y="10294"/>
                </a:cubicBezTo>
                <a:cubicBezTo>
                  <a:pt x="7221" y="9951"/>
                  <a:pt x="7254" y="9783"/>
                  <a:pt x="7466" y="9475"/>
                </a:cubicBezTo>
                <a:cubicBezTo>
                  <a:pt x="7590" y="9657"/>
                  <a:pt x="7682" y="9960"/>
                  <a:pt x="7293" y="9872"/>
                </a:cubicBezTo>
                <a:cubicBezTo>
                  <a:pt x="7260" y="9847"/>
                  <a:pt x="7226" y="9823"/>
                  <a:pt x="7193" y="9798"/>
                </a:cubicBezTo>
              </a:path>
              <a:path w="3003" h="894">
                <a:moveTo>
                  <a:pt x="7838" y="9550"/>
                </a:moveTo>
                <a:cubicBezTo>
                  <a:pt x="7770" y="9686"/>
                  <a:pt x="7746" y="9722"/>
                  <a:pt x="7764" y="9823"/>
                </a:cubicBezTo>
                <a:cubicBezTo>
                  <a:pt x="7875" y="9847"/>
                  <a:pt x="8271" y="9803"/>
                  <a:pt x="8037" y="9575"/>
                </a:cubicBezTo>
                <a:cubicBezTo>
                  <a:pt x="7979" y="9550"/>
                  <a:pt x="7921" y="9525"/>
                  <a:pt x="7863" y="9500"/>
                </a:cubicBezTo>
              </a:path>
              <a:path w="3003" h="894">
                <a:moveTo>
                  <a:pt x="8186" y="9624"/>
                </a:moveTo>
                <a:cubicBezTo>
                  <a:pt x="8205" y="9765"/>
                  <a:pt x="8279" y="10050"/>
                  <a:pt x="8483" y="9823"/>
                </a:cubicBezTo>
                <a:cubicBezTo>
                  <a:pt x="8508" y="9773"/>
                  <a:pt x="8533" y="9724"/>
                  <a:pt x="8558" y="9674"/>
                </a:cubicBezTo>
                <a:cubicBezTo>
                  <a:pt x="8558" y="9641"/>
                  <a:pt x="8558" y="9608"/>
                  <a:pt x="8558" y="9575"/>
                </a:cubicBezTo>
                <a:cubicBezTo>
                  <a:pt x="8475" y="9770"/>
                  <a:pt x="8515" y="9931"/>
                  <a:pt x="8781" y="9798"/>
                </a:cubicBezTo>
                <a:cubicBezTo>
                  <a:pt x="8897" y="9706"/>
                  <a:pt x="8940" y="9683"/>
                  <a:pt x="8880" y="9575"/>
                </a:cubicBezTo>
              </a:path>
              <a:path w="3003" h="894">
                <a:moveTo>
                  <a:pt x="9327" y="9699"/>
                </a:moveTo>
                <a:cubicBezTo>
                  <a:pt x="9481" y="9660"/>
                  <a:pt x="9548" y="9672"/>
                  <a:pt x="9451" y="9575"/>
                </a:cubicBezTo>
                <a:cubicBezTo>
                  <a:pt x="9308" y="9564"/>
                  <a:pt x="9090" y="9630"/>
                  <a:pt x="9178" y="9847"/>
                </a:cubicBezTo>
                <a:cubicBezTo>
                  <a:pt x="9211" y="9880"/>
                  <a:pt x="9244" y="9914"/>
                  <a:pt x="9277" y="9947"/>
                </a:cubicBezTo>
                <a:cubicBezTo>
                  <a:pt x="9479" y="9913"/>
                  <a:pt x="9507" y="9528"/>
                  <a:pt x="9699" y="9599"/>
                </a:cubicBezTo>
                <a:cubicBezTo>
                  <a:pt x="9783" y="9726"/>
                  <a:pt x="9816" y="9749"/>
                  <a:pt x="9798" y="9847"/>
                </a:cubicBezTo>
                <a:cubicBezTo>
                  <a:pt x="9775" y="9646"/>
                  <a:pt x="9798" y="9573"/>
                  <a:pt x="9897" y="9401"/>
                </a:cubicBezTo>
              </a:path>
              <a:path w="3003" h="894">
                <a:moveTo>
                  <a:pt x="10195" y="9699"/>
                </a:moveTo>
                <a:lnTo>
                  <a:pt x="10195" y="9699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044960" y="3152880"/>
            <a:ext cx="1278000" cy="436320"/>
          </a:xfrm>
          <a:custGeom>
            <a:avLst/>
            <a:gdLst/>
            <a:ahLst/>
            <a:rect l="l" t="t" r="r" b="b"/>
            <a:pathLst>
              <a:path w="3548" h="1216">
                <a:moveTo>
                  <a:pt x="11237" y="9178"/>
                </a:moveTo>
                <a:cubicBezTo>
                  <a:pt x="11264" y="9377"/>
                  <a:pt x="11286" y="9572"/>
                  <a:pt x="11286" y="9773"/>
                </a:cubicBezTo>
              </a:path>
              <a:path w="3548" h="1216">
                <a:moveTo>
                  <a:pt x="11609" y="9203"/>
                </a:moveTo>
                <a:cubicBezTo>
                  <a:pt x="11564" y="9405"/>
                  <a:pt x="11536" y="9508"/>
                  <a:pt x="11584" y="9699"/>
                </a:cubicBezTo>
                <a:cubicBezTo>
                  <a:pt x="11749" y="9633"/>
                  <a:pt x="12031" y="9470"/>
                  <a:pt x="11782" y="9277"/>
                </a:cubicBezTo>
                <a:cubicBezTo>
                  <a:pt x="11732" y="9260"/>
                  <a:pt x="11683" y="9244"/>
                  <a:pt x="11633" y="9227"/>
                </a:cubicBezTo>
              </a:path>
              <a:path w="3548" h="1216">
                <a:moveTo>
                  <a:pt x="11906" y="8830"/>
                </a:moveTo>
                <a:cubicBezTo>
                  <a:pt x="11775" y="8804"/>
                  <a:pt x="12036" y="8731"/>
                  <a:pt x="12105" y="8781"/>
                </a:cubicBezTo>
                <a:cubicBezTo>
                  <a:pt x="12170" y="8828"/>
                  <a:pt x="11977" y="8938"/>
                  <a:pt x="11956" y="8954"/>
                </a:cubicBezTo>
                <a:cubicBezTo>
                  <a:pt x="12078" y="8930"/>
                  <a:pt x="12080" y="8952"/>
                  <a:pt x="12179" y="9029"/>
                </a:cubicBezTo>
                <a:cubicBezTo>
                  <a:pt x="12092" y="9129"/>
                  <a:pt x="12067" y="9114"/>
                  <a:pt x="11931" y="9128"/>
                </a:cubicBezTo>
              </a:path>
              <a:path w="3548" h="1216">
                <a:moveTo>
                  <a:pt x="12502" y="9575"/>
                </a:moveTo>
                <a:cubicBezTo>
                  <a:pt x="12495" y="9699"/>
                  <a:pt x="12497" y="9963"/>
                  <a:pt x="12452" y="9922"/>
                </a:cubicBezTo>
                <a:cubicBezTo>
                  <a:pt x="12461" y="9830"/>
                  <a:pt x="12547" y="9220"/>
                  <a:pt x="12725" y="9550"/>
                </a:cubicBezTo>
                <a:cubicBezTo>
                  <a:pt x="12798" y="9686"/>
                  <a:pt x="12783" y="9780"/>
                  <a:pt x="12725" y="9897"/>
                </a:cubicBezTo>
                <a:cubicBezTo>
                  <a:pt x="12712" y="9849"/>
                  <a:pt x="12760" y="9314"/>
                  <a:pt x="12923" y="9451"/>
                </a:cubicBezTo>
                <a:cubicBezTo>
                  <a:pt x="13012" y="9652"/>
                  <a:pt x="13045" y="9703"/>
                  <a:pt x="13022" y="9847"/>
                </a:cubicBezTo>
              </a:path>
              <a:path w="3548" h="1216">
                <a:moveTo>
                  <a:pt x="13246" y="9575"/>
                </a:moveTo>
                <a:cubicBezTo>
                  <a:pt x="13345" y="9520"/>
                  <a:pt x="13452" y="9517"/>
                  <a:pt x="13519" y="9451"/>
                </a:cubicBezTo>
                <a:cubicBezTo>
                  <a:pt x="13322" y="9381"/>
                  <a:pt x="13085" y="9453"/>
                  <a:pt x="13171" y="9748"/>
                </a:cubicBezTo>
                <a:cubicBezTo>
                  <a:pt x="13204" y="9773"/>
                  <a:pt x="13238" y="9798"/>
                  <a:pt x="13271" y="9823"/>
                </a:cubicBezTo>
              </a:path>
              <a:path w="3548" h="1216">
                <a:moveTo>
                  <a:pt x="13940" y="9401"/>
                </a:moveTo>
                <a:cubicBezTo>
                  <a:pt x="13734" y="9387"/>
                  <a:pt x="13525" y="9514"/>
                  <a:pt x="13568" y="9773"/>
                </a:cubicBezTo>
                <a:cubicBezTo>
                  <a:pt x="13619" y="10083"/>
                  <a:pt x="13900" y="9575"/>
                  <a:pt x="13915" y="9525"/>
                </a:cubicBezTo>
                <a:cubicBezTo>
                  <a:pt x="13910" y="9608"/>
                  <a:pt x="13960" y="9916"/>
                  <a:pt x="14089" y="9699"/>
                </a:cubicBezTo>
                <a:cubicBezTo>
                  <a:pt x="14130" y="9576"/>
                  <a:pt x="14147" y="9554"/>
                  <a:pt x="14139" y="9475"/>
                </a:cubicBezTo>
                <a:cubicBezTo>
                  <a:pt x="14139" y="9492"/>
                  <a:pt x="14139" y="9508"/>
                  <a:pt x="14139" y="9525"/>
                </a:cubicBezTo>
                <a:cubicBezTo>
                  <a:pt x="14139" y="9929"/>
                  <a:pt x="14109" y="9618"/>
                  <a:pt x="14188" y="9475"/>
                </a:cubicBezTo>
                <a:cubicBezTo>
                  <a:pt x="14331" y="9217"/>
                  <a:pt x="14383" y="9729"/>
                  <a:pt x="14387" y="9798"/>
                </a:cubicBezTo>
                <a:cubicBezTo>
                  <a:pt x="14387" y="9814"/>
                  <a:pt x="14387" y="9831"/>
                  <a:pt x="14387" y="9847"/>
                </a:cubicBezTo>
              </a:path>
              <a:path w="3548" h="1216">
                <a:moveTo>
                  <a:pt x="14709" y="9426"/>
                </a:moveTo>
                <a:cubicBezTo>
                  <a:pt x="14615" y="9426"/>
                  <a:pt x="14594" y="9405"/>
                  <a:pt x="14560" y="9451"/>
                </a:cubicBezTo>
                <a:cubicBezTo>
                  <a:pt x="14635" y="9520"/>
                  <a:pt x="14920" y="9698"/>
                  <a:pt x="14709" y="9798"/>
                </a:cubicBezTo>
                <a:cubicBezTo>
                  <a:pt x="14659" y="9806"/>
                  <a:pt x="14610" y="9815"/>
                  <a:pt x="14560" y="982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2720" y="3295800"/>
            <a:ext cx="447480" cy="204480"/>
          </a:xfrm>
          <a:custGeom>
            <a:avLst/>
            <a:gdLst/>
            <a:ahLst/>
            <a:rect l="l" t="t" r="r" b="b"/>
            <a:pathLst>
              <a:path w="1242" h="571">
                <a:moveTo>
                  <a:pt x="15453" y="9153"/>
                </a:moveTo>
                <a:cubicBezTo>
                  <a:pt x="15533" y="9360"/>
                  <a:pt x="15542" y="9498"/>
                  <a:pt x="15528" y="9723"/>
                </a:cubicBezTo>
              </a:path>
              <a:path w="1242" h="571">
                <a:moveTo>
                  <a:pt x="15801" y="9178"/>
                </a:moveTo>
                <a:cubicBezTo>
                  <a:pt x="15740" y="9371"/>
                  <a:pt x="15660" y="9890"/>
                  <a:pt x="16073" y="9599"/>
                </a:cubicBezTo>
                <a:cubicBezTo>
                  <a:pt x="16276" y="9456"/>
                  <a:pt x="16134" y="9315"/>
                  <a:pt x="16049" y="9178"/>
                </a:cubicBezTo>
              </a:path>
              <a:path w="1242" h="571">
                <a:moveTo>
                  <a:pt x="16470" y="9302"/>
                </a:moveTo>
                <a:cubicBezTo>
                  <a:pt x="16561" y="9481"/>
                  <a:pt x="16577" y="9534"/>
                  <a:pt x="16694" y="9599"/>
                </a:cubicBezTo>
              </a:path>
              <a:path w="1242" h="571">
                <a:moveTo>
                  <a:pt x="16619" y="9227"/>
                </a:moveTo>
                <a:cubicBezTo>
                  <a:pt x="16486" y="9404"/>
                  <a:pt x="16449" y="9446"/>
                  <a:pt x="16396" y="957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126120" y="3268800"/>
            <a:ext cx="419040" cy="187200"/>
          </a:xfrm>
          <a:custGeom>
            <a:avLst/>
            <a:gdLst/>
            <a:ahLst/>
            <a:rect l="l" t="t" r="r" b="b"/>
            <a:pathLst>
              <a:path w="1167" h="521">
                <a:moveTo>
                  <a:pt x="17016" y="9079"/>
                </a:moveTo>
                <a:cubicBezTo>
                  <a:pt x="17055" y="9251"/>
                  <a:pt x="17063" y="9431"/>
                  <a:pt x="17115" y="9599"/>
                </a:cubicBezTo>
              </a:path>
              <a:path w="1167" h="521">
                <a:moveTo>
                  <a:pt x="17413" y="9103"/>
                </a:moveTo>
                <a:cubicBezTo>
                  <a:pt x="17301" y="9312"/>
                  <a:pt x="17265" y="9339"/>
                  <a:pt x="17338" y="9550"/>
                </a:cubicBezTo>
                <a:cubicBezTo>
                  <a:pt x="17629" y="9516"/>
                  <a:pt x="17695" y="9487"/>
                  <a:pt x="17587" y="9203"/>
                </a:cubicBezTo>
              </a:path>
              <a:path w="1167" h="521">
                <a:moveTo>
                  <a:pt x="17934" y="9178"/>
                </a:moveTo>
                <a:cubicBezTo>
                  <a:pt x="18012" y="9308"/>
                  <a:pt x="18040" y="9356"/>
                  <a:pt x="18083" y="9451"/>
                </a:cubicBezTo>
              </a:path>
              <a:path w="1167" h="521">
                <a:moveTo>
                  <a:pt x="18182" y="9153"/>
                </a:moveTo>
                <a:cubicBezTo>
                  <a:pt x="18035" y="9325"/>
                  <a:pt x="17986" y="9381"/>
                  <a:pt x="17934" y="952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670800" y="3286080"/>
            <a:ext cx="214200" cy="206280"/>
          </a:xfrm>
          <a:custGeom>
            <a:avLst/>
            <a:gdLst/>
            <a:ahLst/>
            <a:rect l="l" t="t" r="r" b="b"/>
            <a:pathLst>
              <a:path w="596" h="572">
                <a:moveTo>
                  <a:pt x="18529" y="9128"/>
                </a:moveTo>
                <a:cubicBezTo>
                  <a:pt x="18529" y="9302"/>
                  <a:pt x="18529" y="9475"/>
                  <a:pt x="18529" y="9649"/>
                </a:cubicBezTo>
              </a:path>
              <a:path w="596" h="572">
                <a:moveTo>
                  <a:pt x="18976" y="9178"/>
                </a:moveTo>
                <a:cubicBezTo>
                  <a:pt x="18821" y="9365"/>
                  <a:pt x="18786" y="9414"/>
                  <a:pt x="18777" y="9649"/>
                </a:cubicBezTo>
                <a:cubicBezTo>
                  <a:pt x="19068" y="9695"/>
                  <a:pt x="19091" y="9579"/>
                  <a:pt x="19124" y="930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769000" y="3490920"/>
            <a:ext cx="1044720" cy="376200"/>
          </a:xfrm>
          <a:custGeom>
            <a:avLst/>
            <a:gdLst/>
            <a:ahLst/>
            <a:rect l="l" t="t" r="r" b="b"/>
            <a:pathLst>
              <a:path w="2903" h="1042">
                <a:moveTo>
                  <a:pt x="16173" y="9847"/>
                </a:moveTo>
                <a:cubicBezTo>
                  <a:pt x="16173" y="9968"/>
                  <a:pt x="16167" y="10077"/>
                  <a:pt x="16148" y="10195"/>
                </a:cubicBezTo>
                <a:cubicBezTo>
                  <a:pt x="16375" y="10144"/>
                  <a:pt x="16563" y="10011"/>
                  <a:pt x="16818" y="9996"/>
                </a:cubicBezTo>
                <a:cubicBezTo>
                  <a:pt x="16976" y="10016"/>
                  <a:pt x="17003" y="10011"/>
                  <a:pt x="17090" y="10046"/>
                </a:cubicBezTo>
                <a:cubicBezTo>
                  <a:pt x="17043" y="9931"/>
                  <a:pt x="17005" y="9822"/>
                  <a:pt x="16991" y="9699"/>
                </a:cubicBezTo>
              </a:path>
              <a:path w="2903" h="1042">
                <a:moveTo>
                  <a:pt x="16049" y="10542"/>
                </a:moveTo>
                <a:cubicBezTo>
                  <a:pt x="16030" y="10657"/>
                  <a:pt x="16021" y="10673"/>
                  <a:pt x="16024" y="10740"/>
                </a:cubicBezTo>
              </a:path>
              <a:path w="2903" h="1042">
                <a:moveTo>
                  <a:pt x="16421" y="10418"/>
                </a:moveTo>
                <a:cubicBezTo>
                  <a:pt x="16353" y="10530"/>
                  <a:pt x="16325" y="10557"/>
                  <a:pt x="16371" y="10641"/>
                </a:cubicBezTo>
                <a:cubicBezTo>
                  <a:pt x="16447" y="10658"/>
                  <a:pt x="16858" y="10655"/>
                  <a:pt x="16669" y="10443"/>
                </a:cubicBezTo>
                <a:cubicBezTo>
                  <a:pt x="16628" y="10426"/>
                  <a:pt x="16586" y="10410"/>
                  <a:pt x="16545" y="10393"/>
                </a:cubicBezTo>
              </a:path>
              <a:path w="2903" h="1042">
                <a:moveTo>
                  <a:pt x="16842" y="10368"/>
                </a:moveTo>
                <a:cubicBezTo>
                  <a:pt x="16803" y="10528"/>
                  <a:pt x="16773" y="10741"/>
                  <a:pt x="17041" y="10666"/>
                </a:cubicBezTo>
                <a:cubicBezTo>
                  <a:pt x="17260" y="10605"/>
                  <a:pt x="17155" y="10490"/>
                  <a:pt x="17090" y="10368"/>
                </a:cubicBezTo>
              </a:path>
              <a:path w="2903" h="1042">
                <a:moveTo>
                  <a:pt x="17512" y="10344"/>
                </a:moveTo>
                <a:cubicBezTo>
                  <a:pt x="17586" y="10429"/>
                  <a:pt x="17652" y="10520"/>
                  <a:pt x="17711" y="10616"/>
                </a:cubicBezTo>
              </a:path>
              <a:path w="2903" h="1042">
                <a:moveTo>
                  <a:pt x="17859" y="10294"/>
                </a:moveTo>
                <a:cubicBezTo>
                  <a:pt x="17746" y="10429"/>
                  <a:pt x="17633" y="10562"/>
                  <a:pt x="17512" y="10691"/>
                </a:cubicBezTo>
              </a:path>
              <a:path w="2903" h="1042">
                <a:moveTo>
                  <a:pt x="18207" y="10393"/>
                </a:moveTo>
                <a:cubicBezTo>
                  <a:pt x="18207" y="10550"/>
                  <a:pt x="18207" y="10592"/>
                  <a:pt x="18207" y="10691"/>
                </a:cubicBezTo>
              </a:path>
              <a:path w="2903" h="1042">
                <a:moveTo>
                  <a:pt x="18678" y="10269"/>
                </a:moveTo>
                <a:cubicBezTo>
                  <a:pt x="18520" y="10436"/>
                  <a:pt x="18511" y="10419"/>
                  <a:pt x="18554" y="10641"/>
                </a:cubicBezTo>
                <a:cubicBezTo>
                  <a:pt x="18721" y="10635"/>
                  <a:pt x="19086" y="10568"/>
                  <a:pt x="18876" y="10294"/>
                </a:cubicBezTo>
                <a:cubicBezTo>
                  <a:pt x="18835" y="10269"/>
                  <a:pt x="18793" y="10245"/>
                  <a:pt x="18752" y="1022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946920" y="3724200"/>
            <a:ext cx="117360" cy="61920"/>
          </a:xfrm>
          <a:custGeom>
            <a:avLst/>
            <a:gdLst/>
            <a:ahLst/>
            <a:rect l="l" t="t" r="r" b="b"/>
            <a:pathLst>
              <a:path w="324" h="174">
                <a:moveTo>
                  <a:pt x="19397" y="10344"/>
                </a:moveTo>
                <a:cubicBezTo>
                  <a:pt x="19505" y="10344"/>
                  <a:pt x="19546" y="10344"/>
                  <a:pt x="19621" y="10344"/>
                </a:cubicBezTo>
              </a:path>
              <a:path w="324" h="174">
                <a:moveTo>
                  <a:pt x="19298" y="10492"/>
                </a:moveTo>
                <a:cubicBezTo>
                  <a:pt x="19339" y="10500"/>
                  <a:pt x="19381" y="10509"/>
                  <a:pt x="19422" y="1051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296120" y="3670200"/>
            <a:ext cx="677880" cy="160560"/>
          </a:xfrm>
          <a:custGeom>
            <a:avLst/>
            <a:gdLst/>
            <a:ahLst/>
            <a:rect l="l" t="t" r="r" b="b"/>
            <a:pathLst>
              <a:path w="1887" h="447">
                <a:moveTo>
                  <a:pt x="20265" y="10269"/>
                </a:moveTo>
                <a:cubicBezTo>
                  <a:pt x="20281" y="10395"/>
                  <a:pt x="20290" y="10512"/>
                  <a:pt x="20290" y="10641"/>
                </a:cubicBezTo>
              </a:path>
              <a:path w="1887" h="447">
                <a:moveTo>
                  <a:pt x="20737" y="10269"/>
                </a:moveTo>
                <a:cubicBezTo>
                  <a:pt x="20619" y="10387"/>
                  <a:pt x="20578" y="10419"/>
                  <a:pt x="20613" y="10542"/>
                </a:cubicBezTo>
                <a:cubicBezTo>
                  <a:pt x="20728" y="10588"/>
                  <a:pt x="21161" y="10646"/>
                  <a:pt x="21010" y="10344"/>
                </a:cubicBezTo>
                <a:cubicBezTo>
                  <a:pt x="20969" y="10311"/>
                  <a:pt x="20927" y="10277"/>
                  <a:pt x="20886" y="10244"/>
                </a:cubicBezTo>
              </a:path>
              <a:path w="1887" h="447">
                <a:moveTo>
                  <a:pt x="21357" y="10244"/>
                </a:moveTo>
                <a:cubicBezTo>
                  <a:pt x="21213" y="10350"/>
                  <a:pt x="21210" y="10364"/>
                  <a:pt x="21183" y="10542"/>
                </a:cubicBezTo>
                <a:cubicBezTo>
                  <a:pt x="21306" y="10572"/>
                  <a:pt x="21685" y="10618"/>
                  <a:pt x="21580" y="10344"/>
                </a:cubicBezTo>
                <a:cubicBezTo>
                  <a:pt x="21479" y="10242"/>
                  <a:pt x="21442" y="10208"/>
                  <a:pt x="21332" y="10220"/>
                </a:cubicBezTo>
              </a:path>
              <a:path w="1887" h="447">
                <a:moveTo>
                  <a:pt x="22002" y="10195"/>
                </a:moveTo>
                <a:cubicBezTo>
                  <a:pt x="21853" y="10294"/>
                  <a:pt x="21803" y="10327"/>
                  <a:pt x="21754" y="10443"/>
                </a:cubicBezTo>
                <a:cubicBezTo>
                  <a:pt x="21948" y="10638"/>
                  <a:pt x="22050" y="10579"/>
                  <a:pt x="22151" y="1034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84160" y="4000680"/>
            <a:ext cx="357120" cy="169560"/>
          </a:xfrm>
          <a:custGeom>
            <a:avLst/>
            <a:gdLst/>
            <a:ahLst/>
            <a:rect l="l" t="t" r="r" b="b"/>
            <a:pathLst>
              <a:path w="993" h="473">
                <a:moveTo>
                  <a:pt x="2828" y="11112"/>
                </a:moveTo>
                <a:cubicBezTo>
                  <a:pt x="2715" y="11112"/>
                  <a:pt x="2683" y="11106"/>
                  <a:pt x="2629" y="11162"/>
                </a:cubicBezTo>
                <a:cubicBezTo>
                  <a:pt x="2730" y="11196"/>
                  <a:pt x="3057" y="11276"/>
                  <a:pt x="2952" y="11460"/>
                </a:cubicBezTo>
                <a:cubicBezTo>
                  <a:pt x="2824" y="11684"/>
                  <a:pt x="2580" y="11568"/>
                  <a:pt x="2456" y="11460"/>
                </a:cubicBezTo>
              </a:path>
              <a:path w="993" h="473">
                <a:moveTo>
                  <a:pt x="3076" y="11187"/>
                </a:moveTo>
                <a:cubicBezTo>
                  <a:pt x="3009" y="11319"/>
                  <a:pt x="2976" y="11352"/>
                  <a:pt x="3051" y="11435"/>
                </a:cubicBezTo>
                <a:cubicBezTo>
                  <a:pt x="3320" y="11408"/>
                  <a:pt x="3507" y="11407"/>
                  <a:pt x="3349" y="1113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16040" y="3848040"/>
            <a:ext cx="411120" cy="322200"/>
          </a:xfrm>
          <a:custGeom>
            <a:avLst/>
            <a:gdLst/>
            <a:ahLst/>
            <a:rect l="l" t="t" r="r" b="b"/>
            <a:pathLst>
              <a:path w="1142" h="894">
                <a:moveTo>
                  <a:pt x="4738" y="10765"/>
                </a:moveTo>
                <a:cubicBezTo>
                  <a:pt x="4868" y="10717"/>
                  <a:pt x="4920" y="10728"/>
                  <a:pt x="5060" y="10740"/>
                </a:cubicBezTo>
                <a:cubicBezTo>
                  <a:pt x="5055" y="10786"/>
                  <a:pt x="5050" y="11107"/>
                  <a:pt x="4911" y="11038"/>
                </a:cubicBezTo>
                <a:cubicBezTo>
                  <a:pt x="4911" y="11030"/>
                  <a:pt x="4911" y="11021"/>
                  <a:pt x="4911" y="11013"/>
                </a:cubicBezTo>
              </a:path>
              <a:path w="1142" h="894">
                <a:moveTo>
                  <a:pt x="4713" y="10765"/>
                </a:moveTo>
                <a:cubicBezTo>
                  <a:pt x="4746" y="10746"/>
                  <a:pt x="4917" y="10632"/>
                  <a:pt x="4961" y="10691"/>
                </a:cubicBezTo>
                <a:cubicBezTo>
                  <a:pt x="5005" y="10750"/>
                  <a:pt x="5037" y="10917"/>
                  <a:pt x="5011" y="10988"/>
                </a:cubicBezTo>
                <a:cubicBezTo>
                  <a:pt x="4957" y="11132"/>
                  <a:pt x="4786" y="11185"/>
                  <a:pt x="4688" y="11286"/>
                </a:cubicBezTo>
                <a:cubicBezTo>
                  <a:pt x="4604" y="11373"/>
                  <a:pt x="4566" y="11491"/>
                  <a:pt x="4490" y="11584"/>
                </a:cubicBezTo>
                <a:cubicBezTo>
                  <a:pt x="4581" y="11483"/>
                  <a:pt x="4699" y="11273"/>
                  <a:pt x="4862" y="11286"/>
                </a:cubicBezTo>
                <a:cubicBezTo>
                  <a:pt x="4988" y="11296"/>
                  <a:pt x="5037" y="11550"/>
                  <a:pt x="5135" y="11534"/>
                </a:cubicBezTo>
                <a:cubicBezTo>
                  <a:pt x="5160" y="11518"/>
                  <a:pt x="5184" y="11501"/>
                  <a:pt x="5209" y="11485"/>
                </a:cubicBezTo>
              </a:path>
              <a:path w="1142" h="894">
                <a:moveTo>
                  <a:pt x="5432" y="11038"/>
                </a:moveTo>
                <a:cubicBezTo>
                  <a:pt x="5510" y="11127"/>
                  <a:pt x="5567" y="11212"/>
                  <a:pt x="5631" y="11311"/>
                </a:cubicBezTo>
              </a:path>
              <a:path w="1142" h="894">
                <a:moveTo>
                  <a:pt x="5631" y="10864"/>
                </a:moveTo>
                <a:cubicBezTo>
                  <a:pt x="5587" y="11034"/>
                  <a:pt x="5542" y="11196"/>
                  <a:pt x="5482" y="1136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170080" y="3759120"/>
            <a:ext cx="384120" cy="349200"/>
          </a:xfrm>
          <a:custGeom>
            <a:avLst/>
            <a:gdLst/>
            <a:ahLst/>
            <a:rect l="l" t="t" r="r" b="b"/>
            <a:pathLst>
              <a:path w="1067" h="968">
                <a:moveTo>
                  <a:pt x="6052" y="10964"/>
                </a:moveTo>
                <a:cubicBezTo>
                  <a:pt x="6048" y="11116"/>
                  <a:pt x="6033" y="11265"/>
                  <a:pt x="6052" y="11410"/>
                </a:cubicBezTo>
              </a:path>
              <a:path w="1067" h="968">
                <a:moveTo>
                  <a:pt x="6548" y="10864"/>
                </a:moveTo>
                <a:cubicBezTo>
                  <a:pt x="6411" y="11030"/>
                  <a:pt x="6356" y="11128"/>
                  <a:pt x="6300" y="11336"/>
                </a:cubicBezTo>
                <a:cubicBezTo>
                  <a:pt x="6525" y="11414"/>
                  <a:pt x="6816" y="11419"/>
                  <a:pt x="6747" y="11063"/>
                </a:cubicBezTo>
                <a:cubicBezTo>
                  <a:pt x="6722" y="11022"/>
                  <a:pt x="6697" y="10980"/>
                  <a:pt x="6672" y="10939"/>
                </a:cubicBezTo>
              </a:path>
              <a:path w="1067" h="968">
                <a:moveTo>
                  <a:pt x="6945" y="10468"/>
                </a:moveTo>
                <a:cubicBezTo>
                  <a:pt x="7012" y="10446"/>
                  <a:pt x="7030" y="10434"/>
                  <a:pt x="7069" y="10468"/>
                </a:cubicBezTo>
                <a:cubicBezTo>
                  <a:pt x="7048" y="10530"/>
                  <a:pt x="6952" y="10626"/>
                  <a:pt x="6970" y="10641"/>
                </a:cubicBezTo>
                <a:cubicBezTo>
                  <a:pt x="7178" y="10810"/>
                  <a:pt x="7076" y="10874"/>
                  <a:pt x="6871" y="1093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786040" y="3956040"/>
            <a:ext cx="893880" cy="179280"/>
          </a:xfrm>
          <a:custGeom>
            <a:avLst/>
            <a:gdLst/>
            <a:ahLst/>
            <a:rect l="l" t="t" r="r" b="b"/>
            <a:pathLst>
              <a:path w="2482" h="498">
                <a:moveTo>
                  <a:pt x="7739" y="11088"/>
                </a:moveTo>
                <a:cubicBezTo>
                  <a:pt x="7826" y="11237"/>
                  <a:pt x="7829" y="11308"/>
                  <a:pt x="7813" y="11485"/>
                </a:cubicBezTo>
                <a:cubicBezTo>
                  <a:pt x="7806" y="11450"/>
                  <a:pt x="7823" y="11025"/>
                  <a:pt x="7962" y="11063"/>
                </a:cubicBezTo>
                <a:cubicBezTo>
                  <a:pt x="8124" y="11107"/>
                  <a:pt x="8141" y="11337"/>
                  <a:pt x="8161" y="11460"/>
                </a:cubicBezTo>
                <a:cubicBezTo>
                  <a:pt x="8155" y="11412"/>
                  <a:pt x="8177" y="10888"/>
                  <a:pt x="8359" y="11063"/>
                </a:cubicBezTo>
                <a:cubicBezTo>
                  <a:pt x="8449" y="11149"/>
                  <a:pt x="8427" y="11374"/>
                  <a:pt x="8434" y="11485"/>
                </a:cubicBezTo>
              </a:path>
              <a:path w="2482" h="498">
                <a:moveTo>
                  <a:pt x="8582" y="11261"/>
                </a:moveTo>
                <a:cubicBezTo>
                  <a:pt x="8725" y="11219"/>
                  <a:pt x="8791" y="11185"/>
                  <a:pt x="8905" y="11088"/>
                </a:cubicBezTo>
                <a:cubicBezTo>
                  <a:pt x="8838" y="10931"/>
                  <a:pt x="8622" y="11059"/>
                  <a:pt x="8582" y="11212"/>
                </a:cubicBezTo>
                <a:cubicBezTo>
                  <a:pt x="8606" y="11355"/>
                  <a:pt x="8609" y="11403"/>
                  <a:pt x="8731" y="11410"/>
                </a:cubicBezTo>
              </a:path>
              <a:path w="2482" h="498">
                <a:moveTo>
                  <a:pt x="9252" y="11038"/>
                </a:moveTo>
                <a:cubicBezTo>
                  <a:pt x="9312" y="11118"/>
                  <a:pt x="9218" y="10948"/>
                  <a:pt x="9054" y="11088"/>
                </a:cubicBezTo>
                <a:cubicBezTo>
                  <a:pt x="8782" y="11320"/>
                  <a:pt x="9021" y="11600"/>
                  <a:pt x="9227" y="11336"/>
                </a:cubicBezTo>
                <a:cubicBezTo>
                  <a:pt x="9244" y="11286"/>
                  <a:pt x="9260" y="11237"/>
                  <a:pt x="9277" y="11187"/>
                </a:cubicBezTo>
                <a:cubicBezTo>
                  <a:pt x="9199" y="11058"/>
                  <a:pt x="9281" y="11344"/>
                  <a:pt x="9351" y="11385"/>
                </a:cubicBezTo>
                <a:cubicBezTo>
                  <a:pt x="9530" y="11492"/>
                  <a:pt x="9518" y="10964"/>
                  <a:pt x="9550" y="11311"/>
                </a:cubicBezTo>
                <a:cubicBezTo>
                  <a:pt x="9550" y="11363"/>
                  <a:pt x="9549" y="11378"/>
                  <a:pt x="9525" y="11311"/>
                </a:cubicBezTo>
                <a:cubicBezTo>
                  <a:pt x="9541" y="11194"/>
                  <a:pt x="9581" y="10888"/>
                  <a:pt x="9748" y="11088"/>
                </a:cubicBezTo>
                <a:cubicBezTo>
                  <a:pt x="9820" y="11231"/>
                  <a:pt x="9845" y="11275"/>
                  <a:pt x="9823" y="11385"/>
                </a:cubicBezTo>
              </a:path>
              <a:path w="2482" h="498">
                <a:moveTo>
                  <a:pt x="10046" y="11013"/>
                </a:moveTo>
                <a:cubicBezTo>
                  <a:pt x="9954" y="10982"/>
                  <a:pt x="9912" y="10981"/>
                  <a:pt x="9847" y="11038"/>
                </a:cubicBezTo>
                <a:cubicBezTo>
                  <a:pt x="9901" y="11067"/>
                  <a:pt x="10370" y="11228"/>
                  <a:pt x="10195" y="11361"/>
                </a:cubicBezTo>
                <a:cubicBezTo>
                  <a:pt x="10137" y="11377"/>
                  <a:pt x="10079" y="11394"/>
                  <a:pt x="10021" y="1141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983040" y="3919680"/>
            <a:ext cx="1035000" cy="233280"/>
          </a:xfrm>
          <a:custGeom>
            <a:avLst/>
            <a:gdLst/>
            <a:ahLst/>
            <a:rect l="l" t="t" r="r" b="b"/>
            <a:pathLst>
              <a:path w="2878" h="646">
                <a:moveTo>
                  <a:pt x="11286" y="10988"/>
                </a:moveTo>
                <a:cubicBezTo>
                  <a:pt x="11266" y="11086"/>
                  <a:pt x="11386" y="10962"/>
                  <a:pt x="11485" y="10939"/>
                </a:cubicBezTo>
                <a:cubicBezTo>
                  <a:pt x="11505" y="11143"/>
                  <a:pt x="11504" y="11601"/>
                  <a:pt x="11137" y="11534"/>
                </a:cubicBezTo>
                <a:cubicBezTo>
                  <a:pt x="11112" y="11501"/>
                  <a:pt x="11088" y="11468"/>
                  <a:pt x="11063" y="11435"/>
                </a:cubicBezTo>
                <a:cubicBezTo>
                  <a:pt x="11241" y="11185"/>
                  <a:pt x="11342" y="11155"/>
                  <a:pt x="11534" y="11435"/>
                </a:cubicBezTo>
                <a:cubicBezTo>
                  <a:pt x="11551" y="11468"/>
                  <a:pt x="11567" y="11501"/>
                  <a:pt x="11584" y="11534"/>
                </a:cubicBezTo>
              </a:path>
              <a:path w="2878" h="646">
                <a:moveTo>
                  <a:pt x="11757" y="11013"/>
                </a:moveTo>
                <a:cubicBezTo>
                  <a:pt x="11850" y="11128"/>
                  <a:pt x="11943" y="11241"/>
                  <a:pt x="12030" y="11361"/>
                </a:cubicBezTo>
              </a:path>
              <a:path w="2878" h="646">
                <a:moveTo>
                  <a:pt x="11956" y="11013"/>
                </a:moveTo>
                <a:cubicBezTo>
                  <a:pt x="11842" y="11160"/>
                  <a:pt x="11776" y="11212"/>
                  <a:pt x="11733" y="11385"/>
                </a:cubicBezTo>
              </a:path>
              <a:path w="2878" h="646">
                <a:moveTo>
                  <a:pt x="12303" y="10889"/>
                </a:moveTo>
                <a:cubicBezTo>
                  <a:pt x="12325" y="11072"/>
                  <a:pt x="12345" y="11251"/>
                  <a:pt x="12353" y="11435"/>
                </a:cubicBezTo>
              </a:path>
              <a:path w="2878" h="646">
                <a:moveTo>
                  <a:pt x="12750" y="10964"/>
                </a:moveTo>
                <a:cubicBezTo>
                  <a:pt x="12645" y="10838"/>
                  <a:pt x="12463" y="11056"/>
                  <a:pt x="12477" y="11187"/>
                </a:cubicBezTo>
                <a:cubicBezTo>
                  <a:pt x="12513" y="11516"/>
                  <a:pt x="12887" y="11355"/>
                  <a:pt x="12998" y="11237"/>
                </a:cubicBezTo>
                <a:cubicBezTo>
                  <a:pt x="12885" y="11049"/>
                  <a:pt x="12880" y="11019"/>
                  <a:pt x="12675" y="10939"/>
                </a:cubicBezTo>
              </a:path>
              <a:path w="2878" h="646">
                <a:moveTo>
                  <a:pt x="13246" y="10964"/>
                </a:moveTo>
                <a:cubicBezTo>
                  <a:pt x="13143" y="11020"/>
                  <a:pt x="12912" y="11235"/>
                  <a:pt x="13122" y="11361"/>
                </a:cubicBezTo>
                <a:cubicBezTo>
                  <a:pt x="13306" y="11472"/>
                  <a:pt x="13581" y="11258"/>
                  <a:pt x="13444" y="11063"/>
                </a:cubicBezTo>
                <a:cubicBezTo>
                  <a:pt x="13332" y="10974"/>
                  <a:pt x="13305" y="10948"/>
                  <a:pt x="13221" y="10914"/>
                </a:cubicBezTo>
              </a:path>
              <a:path w="2878" h="646">
                <a:moveTo>
                  <a:pt x="13717" y="10964"/>
                </a:moveTo>
                <a:cubicBezTo>
                  <a:pt x="13610" y="10996"/>
                  <a:pt x="13395" y="11161"/>
                  <a:pt x="13494" y="11311"/>
                </a:cubicBezTo>
                <a:cubicBezTo>
                  <a:pt x="13633" y="11521"/>
                  <a:pt x="14058" y="11361"/>
                  <a:pt x="13940" y="11112"/>
                </a:cubicBezTo>
                <a:cubicBezTo>
                  <a:pt x="13890" y="11063"/>
                  <a:pt x="13841" y="11013"/>
                  <a:pt x="13791" y="1096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197320" y="4000680"/>
            <a:ext cx="98640" cy="80640"/>
          </a:xfrm>
          <a:custGeom>
            <a:avLst/>
            <a:gdLst/>
            <a:ahLst/>
            <a:rect l="l" t="t" r="r" b="b"/>
            <a:pathLst>
              <a:path w="274" h="225">
                <a:moveTo>
                  <a:pt x="14436" y="11162"/>
                </a:moveTo>
                <a:cubicBezTo>
                  <a:pt x="14528" y="11152"/>
                  <a:pt x="14616" y="11121"/>
                  <a:pt x="14709" y="11112"/>
                </a:cubicBezTo>
              </a:path>
              <a:path w="274" h="225">
                <a:moveTo>
                  <a:pt x="14585" y="11336"/>
                </a:moveTo>
                <a:cubicBezTo>
                  <a:pt x="14610" y="11328"/>
                  <a:pt x="14635" y="11319"/>
                  <a:pt x="14660" y="1131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429160" y="3919680"/>
            <a:ext cx="849240" cy="233280"/>
          </a:xfrm>
          <a:custGeom>
            <a:avLst/>
            <a:gdLst/>
            <a:ahLst/>
            <a:rect l="l" t="t" r="r" b="b"/>
            <a:pathLst>
              <a:path w="2358" h="646">
                <a:moveTo>
                  <a:pt x="15230" y="10964"/>
                </a:moveTo>
                <a:cubicBezTo>
                  <a:pt x="15329" y="10939"/>
                  <a:pt x="15363" y="10931"/>
                  <a:pt x="15429" y="10964"/>
                </a:cubicBezTo>
                <a:cubicBezTo>
                  <a:pt x="15490" y="11260"/>
                  <a:pt x="15415" y="11365"/>
                  <a:pt x="15106" y="11435"/>
                </a:cubicBezTo>
                <a:cubicBezTo>
                  <a:pt x="15093" y="11226"/>
                  <a:pt x="15207" y="11123"/>
                  <a:pt x="15404" y="11311"/>
                </a:cubicBezTo>
                <a:cubicBezTo>
                  <a:pt x="15484" y="11432"/>
                  <a:pt x="15507" y="11450"/>
                  <a:pt x="15528" y="11534"/>
                </a:cubicBezTo>
              </a:path>
              <a:path w="2358" h="646">
                <a:moveTo>
                  <a:pt x="15801" y="11013"/>
                </a:moveTo>
                <a:cubicBezTo>
                  <a:pt x="15634" y="11132"/>
                  <a:pt x="15579" y="11166"/>
                  <a:pt x="15553" y="11311"/>
                </a:cubicBezTo>
                <a:cubicBezTo>
                  <a:pt x="15645" y="11355"/>
                  <a:pt x="16272" y="11533"/>
                  <a:pt x="16098" y="11187"/>
                </a:cubicBezTo>
                <a:cubicBezTo>
                  <a:pt x="16048" y="11146"/>
                  <a:pt x="15999" y="11104"/>
                  <a:pt x="15949" y="11063"/>
                </a:cubicBezTo>
              </a:path>
              <a:path w="2358" h="646">
                <a:moveTo>
                  <a:pt x="16421" y="10964"/>
                </a:moveTo>
                <a:cubicBezTo>
                  <a:pt x="16316" y="11046"/>
                  <a:pt x="15986" y="11356"/>
                  <a:pt x="16297" y="11460"/>
                </a:cubicBezTo>
                <a:cubicBezTo>
                  <a:pt x="16568" y="11550"/>
                  <a:pt x="16621" y="11390"/>
                  <a:pt x="16694" y="11212"/>
                </a:cubicBezTo>
                <a:cubicBezTo>
                  <a:pt x="16589" y="11056"/>
                  <a:pt x="16548" y="11004"/>
                  <a:pt x="16396" y="11013"/>
                </a:cubicBezTo>
              </a:path>
              <a:path w="2358" h="646">
                <a:moveTo>
                  <a:pt x="16842" y="10914"/>
                </a:moveTo>
                <a:cubicBezTo>
                  <a:pt x="16714" y="10965"/>
                  <a:pt x="16543" y="11171"/>
                  <a:pt x="16669" y="11336"/>
                </a:cubicBezTo>
                <a:cubicBezTo>
                  <a:pt x="16856" y="11582"/>
                  <a:pt x="17248" y="11458"/>
                  <a:pt x="17190" y="11137"/>
                </a:cubicBezTo>
                <a:cubicBezTo>
                  <a:pt x="17121" y="10977"/>
                  <a:pt x="17108" y="10927"/>
                  <a:pt x="16991" y="10889"/>
                </a:cubicBezTo>
              </a:path>
              <a:path w="2358" h="646">
                <a:moveTo>
                  <a:pt x="17363" y="11336"/>
                </a:moveTo>
                <a:cubicBezTo>
                  <a:pt x="17383" y="11530"/>
                  <a:pt x="17464" y="11304"/>
                  <a:pt x="17388" y="1150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545160" y="3956040"/>
            <a:ext cx="438120" cy="204840"/>
          </a:xfrm>
          <a:custGeom>
            <a:avLst/>
            <a:gdLst/>
            <a:ahLst/>
            <a:rect l="l" t="t" r="r" b="b"/>
            <a:pathLst>
              <a:path w="1216" h="572">
                <a:moveTo>
                  <a:pt x="18405" y="11137"/>
                </a:moveTo>
                <a:cubicBezTo>
                  <a:pt x="18405" y="11096"/>
                  <a:pt x="18405" y="11088"/>
                  <a:pt x="18405" y="11063"/>
                </a:cubicBezTo>
                <a:cubicBezTo>
                  <a:pt x="18428" y="11205"/>
                  <a:pt x="18447" y="11342"/>
                  <a:pt x="18455" y="11485"/>
                </a:cubicBezTo>
              </a:path>
              <a:path w="1216" h="572">
                <a:moveTo>
                  <a:pt x="18182" y="11038"/>
                </a:moveTo>
                <a:cubicBezTo>
                  <a:pt x="18495" y="11003"/>
                  <a:pt x="18639" y="10871"/>
                  <a:pt x="18752" y="11187"/>
                </a:cubicBezTo>
                <a:cubicBezTo>
                  <a:pt x="18793" y="11328"/>
                  <a:pt x="18798" y="11354"/>
                  <a:pt x="18827" y="11435"/>
                </a:cubicBezTo>
                <a:cubicBezTo>
                  <a:pt x="18827" y="11345"/>
                  <a:pt x="18809" y="11090"/>
                  <a:pt x="19000" y="11162"/>
                </a:cubicBezTo>
                <a:cubicBezTo>
                  <a:pt x="19160" y="11222"/>
                  <a:pt x="19137" y="11430"/>
                  <a:pt x="19149" y="11559"/>
                </a:cubicBezTo>
              </a:path>
              <a:path w="1216" h="572">
                <a:moveTo>
                  <a:pt x="19224" y="11336"/>
                </a:moveTo>
                <a:cubicBezTo>
                  <a:pt x="19346" y="11278"/>
                  <a:pt x="19369" y="11300"/>
                  <a:pt x="19397" y="11187"/>
                </a:cubicBezTo>
                <a:cubicBezTo>
                  <a:pt x="19274" y="11170"/>
                  <a:pt x="18983" y="11189"/>
                  <a:pt x="19124" y="11410"/>
                </a:cubicBezTo>
                <a:cubicBezTo>
                  <a:pt x="19165" y="11443"/>
                  <a:pt x="19207" y="11476"/>
                  <a:pt x="19248" y="1150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205760" y="3840120"/>
            <a:ext cx="1644480" cy="419040"/>
          </a:xfrm>
          <a:custGeom>
            <a:avLst/>
            <a:gdLst/>
            <a:ahLst/>
            <a:rect l="l" t="t" r="r" b="b"/>
            <a:pathLst>
              <a:path w="4565" h="1167">
                <a:moveTo>
                  <a:pt x="20117" y="11237"/>
                </a:moveTo>
                <a:cubicBezTo>
                  <a:pt x="20240" y="11206"/>
                  <a:pt x="20364" y="11207"/>
                  <a:pt x="20489" y="11162"/>
                </a:cubicBezTo>
                <a:cubicBezTo>
                  <a:pt x="20339" y="11127"/>
                  <a:pt x="20147" y="11140"/>
                  <a:pt x="20042" y="11286"/>
                </a:cubicBezTo>
                <a:cubicBezTo>
                  <a:pt x="19899" y="11484"/>
                  <a:pt x="20170" y="11506"/>
                  <a:pt x="20265" y="11534"/>
                </a:cubicBezTo>
              </a:path>
              <a:path w="4565" h="1167">
                <a:moveTo>
                  <a:pt x="20563" y="11187"/>
                </a:moveTo>
                <a:cubicBezTo>
                  <a:pt x="20658" y="11344"/>
                  <a:pt x="20689" y="11380"/>
                  <a:pt x="20836" y="11485"/>
                </a:cubicBezTo>
              </a:path>
              <a:path w="4565" h="1167">
                <a:moveTo>
                  <a:pt x="20910" y="11112"/>
                </a:moveTo>
                <a:cubicBezTo>
                  <a:pt x="20802" y="11320"/>
                  <a:pt x="20730" y="11541"/>
                  <a:pt x="20638" y="11757"/>
                </a:cubicBezTo>
              </a:path>
              <a:path w="4565" h="1167">
                <a:moveTo>
                  <a:pt x="21010" y="11162"/>
                </a:moveTo>
                <a:cubicBezTo>
                  <a:pt x="21017" y="11387"/>
                  <a:pt x="21045" y="11609"/>
                  <a:pt x="21059" y="11832"/>
                </a:cubicBezTo>
                <a:cubicBezTo>
                  <a:pt x="21059" y="11677"/>
                  <a:pt x="21048" y="11425"/>
                  <a:pt x="21109" y="11286"/>
                </a:cubicBezTo>
                <a:cubicBezTo>
                  <a:pt x="21225" y="11146"/>
                  <a:pt x="21255" y="11101"/>
                  <a:pt x="21382" y="11088"/>
                </a:cubicBezTo>
                <a:cubicBezTo>
                  <a:pt x="21433" y="11212"/>
                  <a:pt x="21448" y="11638"/>
                  <a:pt x="21134" y="11534"/>
                </a:cubicBezTo>
                <a:cubicBezTo>
                  <a:pt x="21109" y="11501"/>
                  <a:pt x="21084" y="11468"/>
                  <a:pt x="21059" y="11435"/>
                </a:cubicBezTo>
              </a:path>
              <a:path w="4565" h="1167">
                <a:moveTo>
                  <a:pt x="21754" y="11162"/>
                </a:moveTo>
                <a:cubicBezTo>
                  <a:pt x="21640" y="11162"/>
                  <a:pt x="21372" y="11264"/>
                  <a:pt x="21555" y="11435"/>
                </a:cubicBezTo>
                <a:cubicBezTo>
                  <a:pt x="21698" y="11569"/>
                  <a:pt x="21933" y="11406"/>
                  <a:pt x="21803" y="11237"/>
                </a:cubicBezTo>
                <a:cubicBezTo>
                  <a:pt x="21770" y="11212"/>
                  <a:pt x="21737" y="11187"/>
                  <a:pt x="21704" y="11162"/>
                </a:cubicBezTo>
              </a:path>
              <a:path w="4565" h="1167">
                <a:moveTo>
                  <a:pt x="22002" y="11286"/>
                </a:moveTo>
                <a:cubicBezTo>
                  <a:pt x="22002" y="11402"/>
                  <a:pt x="22002" y="11419"/>
                  <a:pt x="22002" y="11485"/>
                </a:cubicBezTo>
                <a:cubicBezTo>
                  <a:pt x="22051" y="11298"/>
                  <a:pt x="22069" y="11233"/>
                  <a:pt x="22225" y="11112"/>
                </a:cubicBezTo>
                <a:cubicBezTo>
                  <a:pt x="22415" y="11226"/>
                  <a:pt x="22421" y="11302"/>
                  <a:pt x="22324" y="11509"/>
                </a:cubicBezTo>
              </a:path>
              <a:path w="4565" h="1167">
                <a:moveTo>
                  <a:pt x="22721" y="11162"/>
                </a:moveTo>
                <a:cubicBezTo>
                  <a:pt x="22506" y="11162"/>
                  <a:pt x="22498" y="11288"/>
                  <a:pt x="22498" y="11485"/>
                </a:cubicBezTo>
                <a:cubicBezTo>
                  <a:pt x="22638" y="11499"/>
                  <a:pt x="22923" y="11507"/>
                  <a:pt x="22796" y="11261"/>
                </a:cubicBezTo>
                <a:cubicBezTo>
                  <a:pt x="22763" y="11228"/>
                  <a:pt x="22729" y="11195"/>
                  <a:pt x="22696" y="11162"/>
                </a:cubicBezTo>
              </a:path>
              <a:path w="4565" h="1167">
                <a:moveTo>
                  <a:pt x="22870" y="11336"/>
                </a:moveTo>
                <a:cubicBezTo>
                  <a:pt x="22949" y="11375"/>
                  <a:pt x="22991" y="11199"/>
                  <a:pt x="23143" y="11088"/>
                </a:cubicBezTo>
                <a:cubicBezTo>
                  <a:pt x="23298" y="11214"/>
                  <a:pt x="23261" y="11313"/>
                  <a:pt x="23217" y="11509"/>
                </a:cubicBezTo>
              </a:path>
              <a:path w="4565" h="1167">
                <a:moveTo>
                  <a:pt x="23589" y="11261"/>
                </a:moveTo>
                <a:cubicBezTo>
                  <a:pt x="23696" y="11179"/>
                  <a:pt x="23716" y="11209"/>
                  <a:pt x="23688" y="11112"/>
                </a:cubicBezTo>
                <a:cubicBezTo>
                  <a:pt x="23611" y="11142"/>
                  <a:pt x="23165" y="11361"/>
                  <a:pt x="23416" y="11509"/>
                </a:cubicBezTo>
                <a:cubicBezTo>
                  <a:pt x="23617" y="11628"/>
                  <a:pt x="23866" y="11158"/>
                  <a:pt x="23837" y="11336"/>
                </a:cubicBezTo>
                <a:cubicBezTo>
                  <a:pt x="23829" y="11369"/>
                  <a:pt x="23820" y="11402"/>
                  <a:pt x="23812" y="11435"/>
                </a:cubicBezTo>
                <a:cubicBezTo>
                  <a:pt x="23892" y="11266"/>
                  <a:pt x="23992" y="11039"/>
                  <a:pt x="24085" y="11311"/>
                </a:cubicBezTo>
                <a:cubicBezTo>
                  <a:pt x="24107" y="11418"/>
                  <a:pt x="24115" y="11442"/>
                  <a:pt x="24110" y="11509"/>
                </a:cubicBezTo>
              </a:path>
              <a:path w="4565" h="1167">
                <a:moveTo>
                  <a:pt x="24408" y="10666"/>
                </a:moveTo>
                <a:cubicBezTo>
                  <a:pt x="24408" y="10880"/>
                  <a:pt x="24388" y="11075"/>
                  <a:pt x="24358" y="11286"/>
                </a:cubicBezTo>
                <a:cubicBezTo>
                  <a:pt x="24358" y="11294"/>
                  <a:pt x="24358" y="11303"/>
                  <a:pt x="24358" y="11311"/>
                </a:cubicBezTo>
              </a:path>
              <a:path w="4565" h="1167">
                <a:moveTo>
                  <a:pt x="24309" y="10914"/>
                </a:moveTo>
                <a:cubicBezTo>
                  <a:pt x="24456" y="10872"/>
                  <a:pt x="24487" y="10855"/>
                  <a:pt x="24581" y="1086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30160" y="4483080"/>
            <a:ext cx="1027080" cy="223920"/>
          </a:xfrm>
          <a:custGeom>
            <a:avLst/>
            <a:gdLst/>
            <a:ahLst/>
            <a:rect l="l" t="t" r="r" b="b"/>
            <a:pathLst>
              <a:path w="2853" h="621">
                <a:moveTo>
                  <a:pt x="2480" y="12526"/>
                </a:moveTo>
                <a:cubicBezTo>
                  <a:pt x="2501" y="12710"/>
                  <a:pt x="2523" y="12890"/>
                  <a:pt x="2555" y="13072"/>
                </a:cubicBezTo>
              </a:path>
              <a:path w="2853" h="621">
                <a:moveTo>
                  <a:pt x="2307" y="12799"/>
                </a:moveTo>
                <a:cubicBezTo>
                  <a:pt x="2472" y="12778"/>
                  <a:pt x="2636" y="12750"/>
                  <a:pt x="2803" y="12750"/>
                </a:cubicBezTo>
                <a:cubicBezTo>
                  <a:pt x="2746" y="12635"/>
                  <a:pt x="2679" y="12753"/>
                  <a:pt x="2679" y="12849"/>
                </a:cubicBezTo>
                <a:cubicBezTo>
                  <a:pt x="2679" y="13018"/>
                  <a:pt x="2819" y="12942"/>
                  <a:pt x="2902" y="12923"/>
                </a:cubicBezTo>
              </a:path>
              <a:path w="2853" h="621">
                <a:moveTo>
                  <a:pt x="2952" y="12477"/>
                </a:moveTo>
                <a:cubicBezTo>
                  <a:pt x="3004" y="12634"/>
                  <a:pt x="3053" y="12807"/>
                  <a:pt x="3101" y="12973"/>
                </a:cubicBezTo>
                <a:cubicBezTo>
                  <a:pt x="3109" y="12998"/>
                  <a:pt x="3117" y="13022"/>
                  <a:pt x="3125" y="13047"/>
                </a:cubicBezTo>
              </a:path>
              <a:path w="2853" h="621">
                <a:moveTo>
                  <a:pt x="3225" y="12452"/>
                </a:moveTo>
                <a:cubicBezTo>
                  <a:pt x="3265" y="12640"/>
                  <a:pt x="3332" y="12829"/>
                  <a:pt x="3373" y="13022"/>
                </a:cubicBezTo>
              </a:path>
              <a:path w="2853" h="621">
                <a:moveTo>
                  <a:pt x="3795" y="12675"/>
                </a:moveTo>
                <a:cubicBezTo>
                  <a:pt x="3701" y="12685"/>
                  <a:pt x="3654" y="12705"/>
                  <a:pt x="3572" y="12750"/>
                </a:cubicBezTo>
                <a:cubicBezTo>
                  <a:pt x="3631" y="12777"/>
                  <a:pt x="3840" y="12816"/>
                  <a:pt x="3721" y="12923"/>
                </a:cubicBezTo>
                <a:cubicBezTo>
                  <a:pt x="3594" y="13000"/>
                  <a:pt x="3548" y="13024"/>
                  <a:pt x="3448" y="12948"/>
                </a:cubicBezTo>
              </a:path>
              <a:path w="2853" h="621">
                <a:moveTo>
                  <a:pt x="4167" y="12626"/>
                </a:moveTo>
                <a:cubicBezTo>
                  <a:pt x="4194" y="12717"/>
                  <a:pt x="4225" y="12807"/>
                  <a:pt x="4242" y="12898"/>
                </a:cubicBezTo>
                <a:cubicBezTo>
                  <a:pt x="4287" y="12695"/>
                  <a:pt x="4305" y="12548"/>
                  <a:pt x="4514" y="12750"/>
                </a:cubicBezTo>
                <a:cubicBezTo>
                  <a:pt x="4539" y="12783"/>
                  <a:pt x="4564" y="12816"/>
                  <a:pt x="4589" y="12849"/>
                </a:cubicBezTo>
                <a:cubicBezTo>
                  <a:pt x="4576" y="12755"/>
                  <a:pt x="4617" y="12413"/>
                  <a:pt x="4787" y="12626"/>
                </a:cubicBezTo>
                <a:cubicBezTo>
                  <a:pt x="4854" y="12780"/>
                  <a:pt x="4875" y="12817"/>
                  <a:pt x="4887" y="12923"/>
                </a:cubicBezTo>
              </a:path>
              <a:path w="2853" h="621">
                <a:moveTo>
                  <a:pt x="4986" y="12725"/>
                </a:moveTo>
                <a:cubicBezTo>
                  <a:pt x="5078" y="12678"/>
                  <a:pt x="5105" y="12666"/>
                  <a:pt x="5159" y="12626"/>
                </a:cubicBezTo>
                <a:cubicBezTo>
                  <a:pt x="5005" y="12582"/>
                  <a:pt x="4787" y="12688"/>
                  <a:pt x="4986" y="12874"/>
                </a:cubicBezTo>
                <a:cubicBezTo>
                  <a:pt x="5027" y="12890"/>
                  <a:pt x="5069" y="12907"/>
                  <a:pt x="5110" y="1292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44800" y="4491000"/>
            <a:ext cx="1500120" cy="403200"/>
          </a:xfrm>
          <a:custGeom>
            <a:avLst/>
            <a:gdLst/>
            <a:ahLst/>
            <a:rect l="l" t="t" r="r" b="b"/>
            <a:pathLst>
              <a:path w="4168" h="1117">
                <a:moveTo>
                  <a:pt x="5680" y="12477"/>
                </a:moveTo>
                <a:cubicBezTo>
                  <a:pt x="5701" y="12615"/>
                  <a:pt x="5806" y="12903"/>
                  <a:pt x="5779" y="13047"/>
                </a:cubicBezTo>
                <a:cubicBezTo>
                  <a:pt x="5771" y="13022"/>
                  <a:pt x="5763" y="12998"/>
                  <a:pt x="5755" y="12973"/>
                </a:cubicBezTo>
                <a:cubicBezTo>
                  <a:pt x="5798" y="12735"/>
                  <a:pt x="5954" y="12579"/>
                  <a:pt x="6152" y="12874"/>
                </a:cubicBezTo>
                <a:cubicBezTo>
                  <a:pt x="6173" y="12982"/>
                  <a:pt x="6186" y="13008"/>
                  <a:pt x="6152" y="13072"/>
                </a:cubicBezTo>
              </a:path>
              <a:path w="4168" h="1117">
                <a:moveTo>
                  <a:pt x="6251" y="12824"/>
                </a:moveTo>
                <a:cubicBezTo>
                  <a:pt x="6266" y="13089"/>
                  <a:pt x="6404" y="12994"/>
                  <a:pt x="6598" y="12874"/>
                </a:cubicBezTo>
                <a:cubicBezTo>
                  <a:pt x="6499" y="12709"/>
                  <a:pt x="6475" y="12725"/>
                  <a:pt x="6276" y="12700"/>
                </a:cubicBezTo>
              </a:path>
              <a:path w="4168" h="1117">
                <a:moveTo>
                  <a:pt x="6672" y="12750"/>
                </a:moveTo>
                <a:cubicBezTo>
                  <a:pt x="6701" y="12910"/>
                  <a:pt x="6681" y="12942"/>
                  <a:pt x="6796" y="13022"/>
                </a:cubicBezTo>
                <a:cubicBezTo>
                  <a:pt x="6888" y="12960"/>
                  <a:pt x="7134" y="12745"/>
                  <a:pt x="6945" y="12774"/>
                </a:cubicBezTo>
                <a:cubicBezTo>
                  <a:pt x="7001" y="12833"/>
                  <a:pt x="7400" y="13052"/>
                  <a:pt x="7293" y="12750"/>
                </a:cubicBezTo>
                <a:cubicBezTo>
                  <a:pt x="7260" y="12717"/>
                  <a:pt x="7226" y="12683"/>
                  <a:pt x="7193" y="12650"/>
                </a:cubicBezTo>
              </a:path>
              <a:path w="4168" h="1117">
                <a:moveTo>
                  <a:pt x="7689" y="12626"/>
                </a:moveTo>
                <a:cubicBezTo>
                  <a:pt x="7689" y="12759"/>
                  <a:pt x="7685" y="12794"/>
                  <a:pt x="7714" y="12874"/>
                </a:cubicBezTo>
                <a:cubicBezTo>
                  <a:pt x="7702" y="12765"/>
                  <a:pt x="7704" y="12410"/>
                  <a:pt x="7913" y="12601"/>
                </a:cubicBezTo>
                <a:cubicBezTo>
                  <a:pt x="7956" y="12640"/>
                  <a:pt x="8067" y="12944"/>
                  <a:pt x="7987" y="12824"/>
                </a:cubicBezTo>
                <a:cubicBezTo>
                  <a:pt x="8013" y="12694"/>
                  <a:pt x="8166" y="12381"/>
                  <a:pt x="8285" y="12675"/>
                </a:cubicBezTo>
                <a:cubicBezTo>
                  <a:pt x="8306" y="12824"/>
                  <a:pt x="8315" y="12856"/>
                  <a:pt x="8310" y="12948"/>
                </a:cubicBezTo>
              </a:path>
              <a:path w="4168" h="1117">
                <a:moveTo>
                  <a:pt x="8657" y="12626"/>
                </a:moveTo>
                <a:cubicBezTo>
                  <a:pt x="8532" y="12563"/>
                  <a:pt x="8319" y="12652"/>
                  <a:pt x="8359" y="12849"/>
                </a:cubicBezTo>
                <a:cubicBezTo>
                  <a:pt x="8408" y="13090"/>
                  <a:pt x="8638" y="12796"/>
                  <a:pt x="8657" y="12725"/>
                </a:cubicBezTo>
                <a:cubicBezTo>
                  <a:pt x="8568" y="12812"/>
                  <a:pt x="8714" y="12844"/>
                  <a:pt x="8806" y="12824"/>
                </a:cubicBezTo>
                <a:cubicBezTo>
                  <a:pt x="8931" y="12797"/>
                  <a:pt x="9075" y="12841"/>
                  <a:pt x="8954" y="12799"/>
                </a:cubicBezTo>
                <a:cubicBezTo>
                  <a:pt x="8984" y="12706"/>
                  <a:pt x="9112" y="12400"/>
                  <a:pt x="9227" y="12650"/>
                </a:cubicBezTo>
                <a:cubicBezTo>
                  <a:pt x="9251" y="12791"/>
                  <a:pt x="9261" y="12833"/>
                  <a:pt x="9227" y="12923"/>
                </a:cubicBezTo>
              </a:path>
              <a:path w="4168" h="1117">
                <a:moveTo>
                  <a:pt x="9575" y="12650"/>
                </a:moveTo>
                <a:cubicBezTo>
                  <a:pt x="9487" y="12750"/>
                  <a:pt x="9459" y="12887"/>
                  <a:pt x="9649" y="12874"/>
                </a:cubicBezTo>
                <a:cubicBezTo>
                  <a:pt x="9741" y="12843"/>
                  <a:pt x="9772" y="12818"/>
                  <a:pt x="9773" y="12725"/>
                </a:cubicBezTo>
                <a:cubicBezTo>
                  <a:pt x="9773" y="12700"/>
                  <a:pt x="9773" y="12675"/>
                  <a:pt x="9773" y="12650"/>
                </a:cubicBezTo>
                <a:cubicBezTo>
                  <a:pt x="9834" y="12891"/>
                  <a:pt x="9894" y="13166"/>
                  <a:pt x="9823" y="13419"/>
                </a:cubicBezTo>
                <a:cubicBezTo>
                  <a:pt x="9728" y="13560"/>
                  <a:pt x="9705" y="13608"/>
                  <a:pt x="9575" y="1359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848040" y="4510080"/>
            <a:ext cx="768240" cy="222120"/>
          </a:xfrm>
          <a:custGeom>
            <a:avLst/>
            <a:gdLst/>
            <a:ahLst/>
            <a:rect l="l" t="t" r="r" b="b"/>
            <a:pathLst>
              <a:path w="2134" h="621">
                <a:moveTo>
                  <a:pt x="10691" y="12774"/>
                </a:moveTo>
                <a:cubicBezTo>
                  <a:pt x="10808" y="12753"/>
                  <a:pt x="10921" y="12701"/>
                  <a:pt x="11038" y="12675"/>
                </a:cubicBezTo>
                <a:cubicBezTo>
                  <a:pt x="10987" y="12855"/>
                  <a:pt x="10840" y="12972"/>
                  <a:pt x="10716" y="13122"/>
                </a:cubicBezTo>
                <a:cubicBezTo>
                  <a:pt x="10864" y="13130"/>
                  <a:pt x="10944" y="13102"/>
                  <a:pt x="11088" y="13047"/>
                </a:cubicBezTo>
              </a:path>
              <a:path w="2134" h="621">
                <a:moveTo>
                  <a:pt x="11286" y="12849"/>
                </a:moveTo>
                <a:cubicBezTo>
                  <a:pt x="11378" y="12803"/>
                  <a:pt x="11406" y="12799"/>
                  <a:pt x="11460" y="12725"/>
                </a:cubicBezTo>
                <a:cubicBezTo>
                  <a:pt x="11382" y="12711"/>
                  <a:pt x="11029" y="12736"/>
                  <a:pt x="11162" y="12923"/>
                </a:cubicBezTo>
                <a:cubicBezTo>
                  <a:pt x="11324" y="13150"/>
                  <a:pt x="11595" y="12900"/>
                  <a:pt x="11658" y="12774"/>
                </a:cubicBezTo>
                <a:cubicBezTo>
                  <a:pt x="11726" y="12639"/>
                  <a:pt x="11717" y="12888"/>
                  <a:pt x="11733" y="12948"/>
                </a:cubicBezTo>
                <a:cubicBezTo>
                  <a:pt x="11755" y="12676"/>
                  <a:pt x="11758" y="12613"/>
                  <a:pt x="12030" y="12576"/>
                </a:cubicBezTo>
              </a:path>
              <a:path w="2134" h="621">
                <a:moveTo>
                  <a:pt x="12353" y="12626"/>
                </a:moveTo>
                <a:cubicBezTo>
                  <a:pt x="12186" y="12709"/>
                  <a:pt x="12152" y="12756"/>
                  <a:pt x="12080" y="12923"/>
                </a:cubicBezTo>
                <a:cubicBezTo>
                  <a:pt x="12168" y="12949"/>
                  <a:pt x="12625" y="12978"/>
                  <a:pt x="12477" y="12725"/>
                </a:cubicBezTo>
                <a:cubicBezTo>
                  <a:pt x="12436" y="12700"/>
                  <a:pt x="12394" y="12675"/>
                  <a:pt x="12353" y="12650"/>
                </a:cubicBezTo>
              </a:path>
              <a:path w="2134" h="621">
                <a:moveTo>
                  <a:pt x="12626" y="12526"/>
                </a:moveTo>
                <a:cubicBezTo>
                  <a:pt x="12584" y="12590"/>
                  <a:pt x="12567" y="12601"/>
                  <a:pt x="12576" y="12650"/>
                </a:cubicBezTo>
                <a:cubicBezTo>
                  <a:pt x="12664" y="12697"/>
                  <a:pt x="13003" y="12860"/>
                  <a:pt x="12725" y="12948"/>
                </a:cubicBezTo>
                <a:cubicBezTo>
                  <a:pt x="12675" y="12948"/>
                  <a:pt x="12626" y="12948"/>
                  <a:pt x="12576" y="1294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795920" y="4419720"/>
            <a:ext cx="268200" cy="215640"/>
          </a:xfrm>
          <a:custGeom>
            <a:avLst/>
            <a:gdLst/>
            <a:ahLst/>
            <a:rect l="l" t="t" r="r" b="b"/>
            <a:pathLst>
              <a:path w="745" h="597">
                <a:moveTo>
                  <a:pt x="13593" y="12378"/>
                </a:moveTo>
                <a:cubicBezTo>
                  <a:pt x="13617" y="12536"/>
                  <a:pt x="13638" y="12693"/>
                  <a:pt x="13667" y="12849"/>
                </a:cubicBezTo>
              </a:path>
              <a:path w="745" h="597">
                <a:moveTo>
                  <a:pt x="13320" y="12378"/>
                </a:moveTo>
                <a:cubicBezTo>
                  <a:pt x="13519" y="12343"/>
                  <a:pt x="13717" y="12314"/>
                  <a:pt x="13915" y="12278"/>
                </a:cubicBezTo>
              </a:path>
              <a:path w="745" h="597">
                <a:moveTo>
                  <a:pt x="13444" y="12874"/>
                </a:moveTo>
                <a:cubicBezTo>
                  <a:pt x="13654" y="12874"/>
                  <a:pt x="13856" y="12869"/>
                  <a:pt x="14064" y="1284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303880" y="4438800"/>
            <a:ext cx="447480" cy="187200"/>
          </a:xfrm>
          <a:custGeom>
            <a:avLst/>
            <a:gdLst/>
            <a:ahLst/>
            <a:rect l="l" t="t" r="r" b="b"/>
            <a:pathLst>
              <a:path w="1241" h="522">
                <a:moveTo>
                  <a:pt x="14734" y="12626"/>
                </a:moveTo>
                <a:cubicBezTo>
                  <a:pt x="14734" y="12718"/>
                  <a:pt x="14732" y="12744"/>
                  <a:pt x="14759" y="12799"/>
                </a:cubicBezTo>
                <a:cubicBezTo>
                  <a:pt x="14931" y="12826"/>
                  <a:pt x="14959" y="12783"/>
                  <a:pt x="15032" y="12626"/>
                </a:cubicBezTo>
                <a:cubicBezTo>
                  <a:pt x="15055" y="12720"/>
                  <a:pt x="15198" y="12897"/>
                  <a:pt x="15304" y="12725"/>
                </a:cubicBezTo>
                <a:cubicBezTo>
                  <a:pt x="15381" y="12601"/>
                  <a:pt x="15197" y="12521"/>
                  <a:pt x="15131" y="12477"/>
                </a:cubicBezTo>
              </a:path>
              <a:path w="1241" h="522">
                <a:moveTo>
                  <a:pt x="15429" y="12626"/>
                </a:moveTo>
                <a:cubicBezTo>
                  <a:pt x="15465" y="12716"/>
                  <a:pt x="15481" y="12721"/>
                  <a:pt x="15478" y="12774"/>
                </a:cubicBezTo>
              </a:path>
              <a:path w="1241" h="522">
                <a:moveTo>
                  <a:pt x="15329" y="12378"/>
                </a:moveTo>
                <a:lnTo>
                  <a:pt x="15329" y="12378"/>
                </a:lnTo>
              </a:path>
              <a:path w="1241" h="522">
                <a:moveTo>
                  <a:pt x="15602" y="12378"/>
                </a:moveTo>
                <a:cubicBezTo>
                  <a:pt x="15650" y="12536"/>
                  <a:pt x="15699" y="12692"/>
                  <a:pt x="15751" y="12849"/>
                </a:cubicBezTo>
              </a:path>
              <a:path w="1241" h="522">
                <a:moveTo>
                  <a:pt x="15850" y="12328"/>
                </a:moveTo>
                <a:cubicBezTo>
                  <a:pt x="15909" y="12499"/>
                  <a:pt x="15943" y="12645"/>
                  <a:pt x="15974" y="1282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919840" y="4411800"/>
            <a:ext cx="331560" cy="347400"/>
          </a:xfrm>
          <a:custGeom>
            <a:avLst/>
            <a:gdLst/>
            <a:ahLst/>
            <a:rect l="l" t="t" r="r" b="b"/>
            <a:pathLst>
              <a:path w="918" h="968">
                <a:moveTo>
                  <a:pt x="16768" y="12650"/>
                </a:moveTo>
                <a:cubicBezTo>
                  <a:pt x="16672" y="12474"/>
                  <a:pt x="16477" y="12528"/>
                  <a:pt x="16446" y="12750"/>
                </a:cubicBezTo>
                <a:cubicBezTo>
                  <a:pt x="16412" y="12991"/>
                  <a:pt x="16711" y="12733"/>
                  <a:pt x="16743" y="12650"/>
                </a:cubicBezTo>
                <a:cubicBezTo>
                  <a:pt x="16761" y="12843"/>
                  <a:pt x="16793" y="13024"/>
                  <a:pt x="16793" y="13221"/>
                </a:cubicBezTo>
              </a:path>
              <a:path w="918" h="968">
                <a:moveTo>
                  <a:pt x="16966" y="12750"/>
                </a:moveTo>
                <a:cubicBezTo>
                  <a:pt x="17037" y="12679"/>
                  <a:pt x="17059" y="12659"/>
                  <a:pt x="17090" y="12601"/>
                </a:cubicBezTo>
                <a:cubicBezTo>
                  <a:pt x="17044" y="12460"/>
                  <a:pt x="16875" y="12610"/>
                  <a:pt x="16842" y="12725"/>
                </a:cubicBezTo>
                <a:cubicBezTo>
                  <a:pt x="16765" y="12994"/>
                  <a:pt x="17073" y="12826"/>
                  <a:pt x="17165" y="12799"/>
                </a:cubicBezTo>
              </a:path>
              <a:path w="918" h="968">
                <a:moveTo>
                  <a:pt x="17239" y="12254"/>
                </a:moveTo>
                <a:cubicBezTo>
                  <a:pt x="17293" y="12466"/>
                  <a:pt x="17346" y="12655"/>
                  <a:pt x="17363" y="12874"/>
                </a:cubicBezTo>
              </a:path>
              <a:path w="918" h="968">
                <a:moveTo>
                  <a:pt x="17165" y="12551"/>
                </a:moveTo>
                <a:cubicBezTo>
                  <a:pt x="17198" y="12559"/>
                  <a:pt x="17231" y="12568"/>
                  <a:pt x="17264" y="1257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438960" y="4402080"/>
            <a:ext cx="196920" cy="214200"/>
          </a:xfrm>
          <a:custGeom>
            <a:avLst/>
            <a:gdLst/>
            <a:ahLst/>
            <a:rect l="l" t="t" r="r" b="b"/>
            <a:pathLst>
              <a:path w="547" h="596">
                <a:moveTo>
                  <a:pt x="17983" y="12551"/>
                </a:moveTo>
                <a:cubicBezTo>
                  <a:pt x="17983" y="12692"/>
                  <a:pt x="17983" y="12733"/>
                  <a:pt x="17983" y="12824"/>
                </a:cubicBezTo>
              </a:path>
              <a:path w="547" h="596">
                <a:moveTo>
                  <a:pt x="17884" y="12278"/>
                </a:moveTo>
                <a:lnTo>
                  <a:pt x="17884" y="12278"/>
                </a:lnTo>
              </a:path>
              <a:path w="547" h="596">
                <a:moveTo>
                  <a:pt x="18430" y="12254"/>
                </a:moveTo>
                <a:cubicBezTo>
                  <a:pt x="18240" y="12216"/>
                  <a:pt x="18225" y="12344"/>
                  <a:pt x="18281" y="12526"/>
                </a:cubicBezTo>
                <a:cubicBezTo>
                  <a:pt x="18349" y="12662"/>
                  <a:pt x="18373" y="12698"/>
                  <a:pt x="18355" y="12799"/>
                </a:cubicBezTo>
              </a:path>
              <a:path w="547" h="596">
                <a:moveTo>
                  <a:pt x="18207" y="12551"/>
                </a:moveTo>
                <a:cubicBezTo>
                  <a:pt x="18265" y="12551"/>
                  <a:pt x="18322" y="12551"/>
                  <a:pt x="18380" y="1255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858000" y="4419720"/>
            <a:ext cx="1349280" cy="376200"/>
          </a:xfrm>
          <a:custGeom>
            <a:avLst/>
            <a:gdLst/>
            <a:ahLst/>
            <a:rect l="l" t="t" r="r" b="b"/>
            <a:pathLst>
              <a:path w="3747" h="1043">
                <a:moveTo>
                  <a:pt x="19199" y="12328"/>
                </a:moveTo>
                <a:cubicBezTo>
                  <a:pt x="19207" y="12479"/>
                  <a:pt x="19225" y="12624"/>
                  <a:pt x="19248" y="12774"/>
                </a:cubicBezTo>
              </a:path>
              <a:path w="3747" h="1043">
                <a:moveTo>
                  <a:pt x="19050" y="12278"/>
                </a:moveTo>
                <a:cubicBezTo>
                  <a:pt x="19323" y="12278"/>
                  <a:pt x="19415" y="12278"/>
                  <a:pt x="19596" y="12303"/>
                </a:cubicBezTo>
              </a:path>
              <a:path w="3747" h="1043">
                <a:moveTo>
                  <a:pt x="19075" y="12849"/>
                </a:moveTo>
                <a:cubicBezTo>
                  <a:pt x="19266" y="12849"/>
                  <a:pt x="19324" y="12850"/>
                  <a:pt x="19447" y="12824"/>
                </a:cubicBezTo>
              </a:path>
              <a:path w="3747" h="1043">
                <a:moveTo>
                  <a:pt x="19968" y="12601"/>
                </a:moveTo>
                <a:cubicBezTo>
                  <a:pt x="20006" y="12684"/>
                  <a:pt x="20032" y="12771"/>
                  <a:pt x="20067" y="12849"/>
                </a:cubicBezTo>
                <a:cubicBezTo>
                  <a:pt x="20059" y="12794"/>
                  <a:pt x="20119" y="12394"/>
                  <a:pt x="20241" y="12576"/>
                </a:cubicBezTo>
                <a:cubicBezTo>
                  <a:pt x="20280" y="12716"/>
                  <a:pt x="20297" y="12738"/>
                  <a:pt x="20290" y="12824"/>
                </a:cubicBezTo>
                <a:cubicBezTo>
                  <a:pt x="20294" y="12773"/>
                  <a:pt x="20368" y="12352"/>
                  <a:pt x="20489" y="12526"/>
                </a:cubicBezTo>
                <a:cubicBezTo>
                  <a:pt x="20535" y="12690"/>
                  <a:pt x="20551" y="12737"/>
                  <a:pt x="20538" y="12849"/>
                </a:cubicBezTo>
              </a:path>
              <a:path w="3747" h="1043">
                <a:moveTo>
                  <a:pt x="20662" y="12551"/>
                </a:moveTo>
                <a:cubicBezTo>
                  <a:pt x="20643" y="12633"/>
                  <a:pt x="20580" y="13028"/>
                  <a:pt x="20811" y="12874"/>
                </a:cubicBezTo>
                <a:cubicBezTo>
                  <a:pt x="20886" y="12774"/>
                  <a:pt x="20911" y="12740"/>
                  <a:pt x="20910" y="12650"/>
                </a:cubicBezTo>
                <a:cubicBezTo>
                  <a:pt x="20901" y="12791"/>
                  <a:pt x="21032" y="13029"/>
                  <a:pt x="21183" y="12799"/>
                </a:cubicBezTo>
                <a:cubicBezTo>
                  <a:pt x="21278" y="12654"/>
                  <a:pt x="21165" y="12477"/>
                  <a:pt x="21109" y="12353"/>
                </a:cubicBezTo>
                <a:cubicBezTo>
                  <a:pt x="21034" y="12202"/>
                  <a:pt x="21142" y="12683"/>
                  <a:pt x="21158" y="12799"/>
                </a:cubicBezTo>
              </a:path>
              <a:path w="3747" h="1043">
                <a:moveTo>
                  <a:pt x="21406" y="12353"/>
                </a:moveTo>
                <a:cubicBezTo>
                  <a:pt x="21435" y="12502"/>
                  <a:pt x="21458" y="12657"/>
                  <a:pt x="21506" y="12799"/>
                </a:cubicBezTo>
              </a:path>
              <a:path w="3747" h="1043">
                <a:moveTo>
                  <a:pt x="21332" y="12477"/>
                </a:moveTo>
                <a:cubicBezTo>
                  <a:pt x="21518" y="12499"/>
                  <a:pt x="21725" y="12430"/>
                  <a:pt x="21754" y="12650"/>
                </a:cubicBezTo>
                <a:cubicBezTo>
                  <a:pt x="21754" y="12700"/>
                  <a:pt x="21754" y="12749"/>
                  <a:pt x="21754" y="12799"/>
                </a:cubicBezTo>
              </a:path>
              <a:path w="3747" h="1043">
                <a:moveTo>
                  <a:pt x="21729" y="12328"/>
                </a:moveTo>
                <a:lnTo>
                  <a:pt x="21729" y="12328"/>
                </a:lnTo>
              </a:path>
              <a:path w="3747" h="1043">
                <a:moveTo>
                  <a:pt x="21927" y="12973"/>
                </a:moveTo>
                <a:cubicBezTo>
                  <a:pt x="21927" y="13006"/>
                  <a:pt x="21927" y="13039"/>
                  <a:pt x="21927" y="13072"/>
                </a:cubicBezTo>
                <a:cubicBezTo>
                  <a:pt x="21955" y="12838"/>
                  <a:pt x="21993" y="12737"/>
                  <a:pt x="22175" y="12601"/>
                </a:cubicBezTo>
                <a:cubicBezTo>
                  <a:pt x="22211" y="12810"/>
                  <a:pt x="22177" y="12887"/>
                  <a:pt x="21952" y="12874"/>
                </a:cubicBezTo>
              </a:path>
              <a:path w="3747" h="1043">
                <a:moveTo>
                  <a:pt x="22275" y="12378"/>
                </a:moveTo>
                <a:cubicBezTo>
                  <a:pt x="22275" y="12446"/>
                  <a:pt x="22228" y="12832"/>
                  <a:pt x="22324" y="12824"/>
                </a:cubicBezTo>
                <a:cubicBezTo>
                  <a:pt x="22432" y="12770"/>
                  <a:pt x="22472" y="12746"/>
                  <a:pt x="22523" y="12675"/>
                </a:cubicBezTo>
                <a:cubicBezTo>
                  <a:pt x="22531" y="12650"/>
                  <a:pt x="22539" y="12626"/>
                  <a:pt x="22547" y="12601"/>
                </a:cubicBezTo>
                <a:cubicBezTo>
                  <a:pt x="22488" y="12729"/>
                  <a:pt x="22510" y="12882"/>
                  <a:pt x="22721" y="12774"/>
                </a:cubicBezTo>
                <a:cubicBezTo>
                  <a:pt x="22950" y="12657"/>
                  <a:pt x="22746" y="13142"/>
                  <a:pt x="22647" y="13246"/>
                </a:cubicBezTo>
                <a:cubicBezTo>
                  <a:pt x="22506" y="13330"/>
                  <a:pt x="22445" y="13350"/>
                  <a:pt x="22324" y="1327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803160" y="5072040"/>
            <a:ext cx="312840" cy="277920"/>
          </a:xfrm>
          <a:custGeom>
            <a:avLst/>
            <a:gdLst/>
            <a:ahLst/>
            <a:rect l="l" t="t" r="r" b="b"/>
            <a:pathLst>
              <a:path w="870" h="770">
                <a:moveTo>
                  <a:pt x="2232" y="14089"/>
                </a:moveTo>
                <a:cubicBezTo>
                  <a:pt x="2293" y="14312"/>
                  <a:pt x="2308" y="14351"/>
                  <a:pt x="2332" y="14486"/>
                </a:cubicBezTo>
                <a:cubicBezTo>
                  <a:pt x="2335" y="14455"/>
                  <a:pt x="2382" y="13994"/>
                  <a:pt x="2555" y="14188"/>
                </a:cubicBezTo>
                <a:cubicBezTo>
                  <a:pt x="2774" y="14434"/>
                  <a:pt x="2483" y="14543"/>
                  <a:pt x="2307" y="14536"/>
                </a:cubicBezTo>
              </a:path>
              <a:path w="870" h="770">
                <a:moveTo>
                  <a:pt x="2704" y="14213"/>
                </a:moveTo>
                <a:cubicBezTo>
                  <a:pt x="2743" y="14315"/>
                  <a:pt x="2829" y="14592"/>
                  <a:pt x="2977" y="14362"/>
                </a:cubicBezTo>
                <a:cubicBezTo>
                  <a:pt x="2993" y="14312"/>
                  <a:pt x="3010" y="14263"/>
                  <a:pt x="3026" y="14213"/>
                </a:cubicBezTo>
                <a:cubicBezTo>
                  <a:pt x="3061" y="14406"/>
                  <a:pt x="3183" y="14585"/>
                  <a:pt x="3001" y="14759"/>
                </a:cubicBezTo>
                <a:cubicBezTo>
                  <a:pt x="2832" y="14831"/>
                  <a:pt x="2778" y="14855"/>
                  <a:pt x="2654" y="1485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47840" y="5018040"/>
            <a:ext cx="260280" cy="233280"/>
          </a:xfrm>
          <a:custGeom>
            <a:avLst/>
            <a:gdLst/>
            <a:ahLst/>
            <a:rect l="l" t="t" r="r" b="b"/>
            <a:pathLst>
              <a:path w="720" h="646">
                <a:moveTo>
                  <a:pt x="3746" y="13940"/>
                </a:moveTo>
                <a:cubicBezTo>
                  <a:pt x="3785" y="14151"/>
                  <a:pt x="3807" y="14369"/>
                  <a:pt x="3820" y="14585"/>
                </a:cubicBezTo>
              </a:path>
              <a:path w="720" h="646">
                <a:moveTo>
                  <a:pt x="4043" y="14163"/>
                </a:moveTo>
                <a:cubicBezTo>
                  <a:pt x="4001" y="14356"/>
                  <a:pt x="3973" y="14401"/>
                  <a:pt x="4043" y="14511"/>
                </a:cubicBezTo>
                <a:cubicBezTo>
                  <a:pt x="4394" y="14410"/>
                  <a:pt x="4492" y="14342"/>
                  <a:pt x="4341" y="14015"/>
                </a:cubicBezTo>
              </a:path>
              <a:path w="720" h="646">
                <a:moveTo>
                  <a:pt x="4316" y="14114"/>
                </a:moveTo>
                <a:cubicBezTo>
                  <a:pt x="4295" y="14031"/>
                  <a:pt x="4123" y="13899"/>
                  <a:pt x="4043" y="14015"/>
                </a:cubicBezTo>
                <a:cubicBezTo>
                  <a:pt x="4035" y="14064"/>
                  <a:pt x="4026" y="14114"/>
                  <a:pt x="4018" y="1416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893960" y="4894200"/>
            <a:ext cx="258840" cy="276120"/>
          </a:xfrm>
          <a:custGeom>
            <a:avLst/>
            <a:gdLst/>
            <a:ahLst/>
            <a:rect l="l" t="t" r="r" b="b"/>
            <a:pathLst>
              <a:path w="720" h="770">
                <a:moveTo>
                  <a:pt x="5333" y="13593"/>
                </a:moveTo>
                <a:cubicBezTo>
                  <a:pt x="5398" y="13843"/>
                  <a:pt x="5446" y="14081"/>
                  <a:pt x="5482" y="14337"/>
                </a:cubicBezTo>
              </a:path>
              <a:path w="720" h="770">
                <a:moveTo>
                  <a:pt x="5259" y="13990"/>
                </a:moveTo>
                <a:cubicBezTo>
                  <a:pt x="5586" y="13934"/>
                  <a:pt x="5785" y="13770"/>
                  <a:pt x="5730" y="14139"/>
                </a:cubicBezTo>
                <a:cubicBezTo>
                  <a:pt x="5722" y="14197"/>
                  <a:pt x="5713" y="14254"/>
                  <a:pt x="5705" y="14312"/>
                </a:cubicBezTo>
                <a:cubicBezTo>
                  <a:pt x="5722" y="14329"/>
                  <a:pt x="5738" y="14345"/>
                  <a:pt x="5755" y="14362"/>
                </a:cubicBezTo>
                <a:cubicBezTo>
                  <a:pt x="5965" y="14222"/>
                  <a:pt x="6066" y="14137"/>
                  <a:pt x="5804" y="1401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320920" y="4911840"/>
            <a:ext cx="689040" cy="303120"/>
          </a:xfrm>
          <a:custGeom>
            <a:avLst/>
            <a:gdLst/>
            <a:ahLst/>
            <a:rect l="l" t="t" r="r" b="b"/>
            <a:pathLst>
              <a:path w="1911" h="844">
                <a:moveTo>
                  <a:pt x="6722" y="13643"/>
                </a:moveTo>
                <a:cubicBezTo>
                  <a:pt x="6741" y="13905"/>
                  <a:pt x="6779" y="14157"/>
                  <a:pt x="6846" y="14412"/>
                </a:cubicBezTo>
              </a:path>
              <a:path w="1911" h="844">
                <a:moveTo>
                  <a:pt x="6449" y="14039"/>
                </a:moveTo>
                <a:cubicBezTo>
                  <a:pt x="6691" y="14133"/>
                  <a:pt x="7014" y="14270"/>
                  <a:pt x="7045" y="13891"/>
                </a:cubicBezTo>
                <a:cubicBezTo>
                  <a:pt x="7037" y="13850"/>
                  <a:pt x="7028" y="13808"/>
                  <a:pt x="7020" y="13767"/>
                </a:cubicBezTo>
                <a:cubicBezTo>
                  <a:pt x="7029" y="13973"/>
                  <a:pt x="7048" y="14159"/>
                  <a:pt x="7069" y="14362"/>
                </a:cubicBezTo>
                <a:cubicBezTo>
                  <a:pt x="7069" y="14293"/>
                  <a:pt x="7074" y="13821"/>
                  <a:pt x="7268" y="13990"/>
                </a:cubicBezTo>
                <a:cubicBezTo>
                  <a:pt x="7368" y="14189"/>
                  <a:pt x="7401" y="14257"/>
                  <a:pt x="7392" y="14412"/>
                </a:cubicBezTo>
              </a:path>
              <a:path w="1911" h="844">
                <a:moveTo>
                  <a:pt x="7813" y="14039"/>
                </a:moveTo>
                <a:cubicBezTo>
                  <a:pt x="7643" y="14188"/>
                  <a:pt x="7413" y="14334"/>
                  <a:pt x="7640" y="14486"/>
                </a:cubicBezTo>
                <a:cubicBezTo>
                  <a:pt x="7689" y="14393"/>
                  <a:pt x="7736" y="14042"/>
                  <a:pt x="7714" y="14288"/>
                </a:cubicBezTo>
                <a:cubicBezTo>
                  <a:pt x="7936" y="14521"/>
                  <a:pt x="8141" y="14489"/>
                  <a:pt x="8136" y="14089"/>
                </a:cubicBezTo>
                <a:cubicBezTo>
                  <a:pt x="8119" y="14015"/>
                  <a:pt x="8103" y="13940"/>
                  <a:pt x="8086" y="13866"/>
                </a:cubicBezTo>
                <a:cubicBezTo>
                  <a:pt x="7996" y="13557"/>
                  <a:pt x="8108" y="14317"/>
                  <a:pt x="8111" y="14337"/>
                </a:cubicBezTo>
                <a:cubicBezTo>
                  <a:pt x="8119" y="14378"/>
                  <a:pt x="8128" y="14420"/>
                  <a:pt x="8136" y="14461"/>
                </a:cubicBezTo>
              </a:path>
              <a:path w="1911" h="844">
                <a:moveTo>
                  <a:pt x="7888" y="14114"/>
                </a:moveTo>
                <a:cubicBezTo>
                  <a:pt x="8120" y="14114"/>
                  <a:pt x="8203" y="14113"/>
                  <a:pt x="8359" y="1408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224160" y="4929120"/>
            <a:ext cx="1749600" cy="438120"/>
          </a:xfrm>
          <a:custGeom>
            <a:avLst/>
            <a:gdLst/>
            <a:ahLst/>
            <a:rect l="l" t="t" r="r" b="b"/>
            <a:pathLst>
              <a:path w="4863" h="1217">
                <a:moveTo>
                  <a:pt x="9128" y="14188"/>
                </a:moveTo>
                <a:cubicBezTo>
                  <a:pt x="9115" y="14432"/>
                  <a:pt x="9166" y="14697"/>
                  <a:pt x="9054" y="14908"/>
                </a:cubicBezTo>
                <a:cubicBezTo>
                  <a:pt x="8965" y="14675"/>
                  <a:pt x="8849" y="14284"/>
                  <a:pt x="9103" y="14089"/>
                </a:cubicBezTo>
                <a:cubicBezTo>
                  <a:pt x="9169" y="14081"/>
                  <a:pt x="9236" y="14072"/>
                  <a:pt x="9302" y="14064"/>
                </a:cubicBezTo>
                <a:cubicBezTo>
                  <a:pt x="9334" y="14401"/>
                  <a:pt x="9308" y="14497"/>
                  <a:pt x="8954" y="14511"/>
                </a:cubicBezTo>
              </a:path>
              <a:path w="4863" h="1217">
                <a:moveTo>
                  <a:pt x="9451" y="14114"/>
                </a:moveTo>
                <a:cubicBezTo>
                  <a:pt x="9355" y="14281"/>
                  <a:pt x="9321" y="14330"/>
                  <a:pt x="9376" y="14461"/>
                </a:cubicBezTo>
                <a:cubicBezTo>
                  <a:pt x="9529" y="14490"/>
                  <a:pt x="9921" y="14433"/>
                  <a:pt x="9699" y="14163"/>
                </a:cubicBezTo>
                <a:cubicBezTo>
                  <a:pt x="9649" y="14138"/>
                  <a:pt x="9600" y="14114"/>
                  <a:pt x="9550" y="14089"/>
                </a:cubicBezTo>
              </a:path>
              <a:path w="4863" h="1217">
                <a:moveTo>
                  <a:pt x="9773" y="14188"/>
                </a:moveTo>
                <a:cubicBezTo>
                  <a:pt x="9779" y="14266"/>
                  <a:pt x="9804" y="14699"/>
                  <a:pt x="10021" y="14511"/>
                </a:cubicBezTo>
                <a:cubicBezTo>
                  <a:pt x="10119" y="14363"/>
                  <a:pt x="10152" y="14314"/>
                  <a:pt x="10145" y="14188"/>
                </a:cubicBezTo>
                <a:cubicBezTo>
                  <a:pt x="10137" y="14172"/>
                  <a:pt x="10128" y="14155"/>
                  <a:pt x="10120" y="14139"/>
                </a:cubicBezTo>
                <a:cubicBezTo>
                  <a:pt x="10067" y="14264"/>
                  <a:pt x="10058" y="14618"/>
                  <a:pt x="10319" y="14461"/>
                </a:cubicBezTo>
                <a:cubicBezTo>
                  <a:pt x="10545" y="14325"/>
                  <a:pt x="10386" y="14181"/>
                  <a:pt x="10294" y="14064"/>
                </a:cubicBezTo>
              </a:path>
              <a:path w="4863" h="1217">
                <a:moveTo>
                  <a:pt x="10616" y="14188"/>
                </a:moveTo>
                <a:cubicBezTo>
                  <a:pt x="10641" y="14163"/>
                  <a:pt x="10666" y="14139"/>
                  <a:pt x="10691" y="14114"/>
                </a:cubicBezTo>
                <a:cubicBezTo>
                  <a:pt x="10594" y="13920"/>
                  <a:pt x="10469" y="14336"/>
                  <a:pt x="10468" y="14387"/>
                </a:cubicBezTo>
                <a:cubicBezTo>
                  <a:pt x="10461" y="14807"/>
                  <a:pt x="10827" y="14396"/>
                  <a:pt x="10889" y="14288"/>
                </a:cubicBezTo>
                <a:cubicBezTo>
                  <a:pt x="10897" y="14271"/>
                  <a:pt x="10906" y="14255"/>
                  <a:pt x="10914" y="14238"/>
                </a:cubicBezTo>
                <a:cubicBezTo>
                  <a:pt x="10894" y="14310"/>
                  <a:pt x="10829" y="14576"/>
                  <a:pt x="10914" y="14362"/>
                </a:cubicBezTo>
                <a:cubicBezTo>
                  <a:pt x="10993" y="14162"/>
                  <a:pt x="11027" y="14118"/>
                  <a:pt x="11212" y="14064"/>
                </a:cubicBezTo>
              </a:path>
              <a:path w="4863" h="1217">
                <a:moveTo>
                  <a:pt x="11559" y="14511"/>
                </a:moveTo>
                <a:cubicBezTo>
                  <a:pt x="11508" y="14648"/>
                  <a:pt x="11448" y="14776"/>
                  <a:pt x="11385" y="14908"/>
                </a:cubicBezTo>
              </a:path>
              <a:path w="4863" h="1217">
                <a:moveTo>
                  <a:pt x="12105" y="13965"/>
                </a:moveTo>
                <a:cubicBezTo>
                  <a:pt x="12030" y="14064"/>
                  <a:pt x="12005" y="14097"/>
                  <a:pt x="11956" y="14163"/>
                </a:cubicBezTo>
                <a:cubicBezTo>
                  <a:pt x="12160" y="14201"/>
                  <a:pt x="12203" y="14182"/>
                  <a:pt x="12303" y="14337"/>
                </a:cubicBezTo>
                <a:cubicBezTo>
                  <a:pt x="12115" y="14465"/>
                  <a:pt x="12119" y="14464"/>
                  <a:pt x="11906" y="14387"/>
                </a:cubicBezTo>
              </a:path>
              <a:path w="4863" h="1217">
                <a:moveTo>
                  <a:pt x="12601" y="14064"/>
                </a:moveTo>
                <a:cubicBezTo>
                  <a:pt x="12429" y="14217"/>
                  <a:pt x="12427" y="14229"/>
                  <a:pt x="12427" y="14461"/>
                </a:cubicBezTo>
                <a:cubicBezTo>
                  <a:pt x="12630" y="14470"/>
                  <a:pt x="12947" y="14404"/>
                  <a:pt x="12675" y="14139"/>
                </a:cubicBezTo>
                <a:cubicBezTo>
                  <a:pt x="12625" y="14114"/>
                  <a:pt x="12576" y="14089"/>
                  <a:pt x="12526" y="14064"/>
                </a:cubicBezTo>
              </a:path>
              <a:path w="4863" h="1217">
                <a:moveTo>
                  <a:pt x="13519" y="13866"/>
                </a:moveTo>
                <a:cubicBezTo>
                  <a:pt x="13538" y="14024"/>
                  <a:pt x="13552" y="14186"/>
                  <a:pt x="13593" y="14337"/>
                </a:cubicBezTo>
              </a:path>
              <a:path w="4863" h="1217">
                <a:moveTo>
                  <a:pt x="12998" y="13742"/>
                </a:moveTo>
                <a:cubicBezTo>
                  <a:pt x="13315" y="13706"/>
                  <a:pt x="13533" y="13668"/>
                  <a:pt x="13816" y="13816"/>
                </a:cubicBezTo>
              </a:path>
              <a:path w="4863" h="1217">
                <a:moveTo>
                  <a:pt x="13246" y="14387"/>
                </a:moveTo>
                <a:cubicBezTo>
                  <a:pt x="13504" y="14387"/>
                  <a:pt x="13596" y="14385"/>
                  <a:pt x="13767" y="1433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187960" y="5027760"/>
            <a:ext cx="554040" cy="187200"/>
          </a:xfrm>
          <a:custGeom>
            <a:avLst/>
            <a:gdLst/>
            <a:ahLst/>
            <a:rect l="l" t="t" r="r" b="b"/>
            <a:pathLst>
              <a:path w="1538" h="522">
                <a:moveTo>
                  <a:pt x="14635" y="14089"/>
                </a:moveTo>
                <a:cubicBezTo>
                  <a:pt x="14651" y="14106"/>
                  <a:pt x="14668" y="14122"/>
                  <a:pt x="14684" y="14139"/>
                </a:cubicBezTo>
                <a:cubicBezTo>
                  <a:pt x="14615" y="13964"/>
                  <a:pt x="14428" y="13853"/>
                  <a:pt x="14412" y="14188"/>
                </a:cubicBezTo>
                <a:cubicBezTo>
                  <a:pt x="14394" y="14573"/>
                  <a:pt x="14724" y="14369"/>
                  <a:pt x="14908" y="14312"/>
                </a:cubicBezTo>
              </a:path>
              <a:path w="1538" h="522">
                <a:moveTo>
                  <a:pt x="15156" y="14039"/>
                </a:moveTo>
                <a:cubicBezTo>
                  <a:pt x="15176" y="14123"/>
                  <a:pt x="15177" y="14143"/>
                  <a:pt x="15205" y="14188"/>
                </a:cubicBezTo>
                <a:cubicBezTo>
                  <a:pt x="15101" y="13992"/>
                  <a:pt x="14965" y="13924"/>
                  <a:pt x="14883" y="14238"/>
                </a:cubicBezTo>
                <a:cubicBezTo>
                  <a:pt x="14779" y="14637"/>
                  <a:pt x="15089" y="14427"/>
                  <a:pt x="15156" y="14213"/>
                </a:cubicBezTo>
                <a:cubicBezTo>
                  <a:pt x="15156" y="14196"/>
                  <a:pt x="15156" y="14180"/>
                  <a:pt x="15156" y="14163"/>
                </a:cubicBezTo>
                <a:cubicBezTo>
                  <a:pt x="15321" y="14532"/>
                  <a:pt x="15282" y="14222"/>
                  <a:pt x="15503" y="14213"/>
                </a:cubicBezTo>
                <a:cubicBezTo>
                  <a:pt x="15575" y="14210"/>
                  <a:pt x="15525" y="14318"/>
                  <a:pt x="15478" y="14263"/>
                </a:cubicBezTo>
                <a:cubicBezTo>
                  <a:pt x="15478" y="14132"/>
                  <a:pt x="15482" y="14085"/>
                  <a:pt x="15553" y="14015"/>
                </a:cubicBezTo>
                <a:cubicBezTo>
                  <a:pt x="15831" y="14037"/>
                  <a:pt x="15903" y="14094"/>
                  <a:pt x="15949" y="1438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84920" y="4929120"/>
            <a:ext cx="598320" cy="268200"/>
          </a:xfrm>
          <a:custGeom>
            <a:avLst/>
            <a:gdLst/>
            <a:ahLst/>
            <a:rect l="l" t="t" r="r" b="b"/>
            <a:pathLst>
              <a:path w="1663" h="745">
                <a:moveTo>
                  <a:pt x="16446" y="13692"/>
                </a:moveTo>
                <a:cubicBezTo>
                  <a:pt x="16526" y="13934"/>
                  <a:pt x="16594" y="14162"/>
                  <a:pt x="16644" y="14412"/>
                </a:cubicBezTo>
              </a:path>
              <a:path w="1663" h="745">
                <a:moveTo>
                  <a:pt x="16346" y="14089"/>
                </a:moveTo>
                <a:cubicBezTo>
                  <a:pt x="16542" y="14068"/>
                  <a:pt x="16695" y="14070"/>
                  <a:pt x="16892" y="14089"/>
                </a:cubicBezTo>
              </a:path>
              <a:path w="1663" h="745">
                <a:moveTo>
                  <a:pt x="17214" y="14114"/>
                </a:moveTo>
                <a:cubicBezTo>
                  <a:pt x="17069" y="13967"/>
                  <a:pt x="16867" y="14126"/>
                  <a:pt x="16867" y="14337"/>
                </a:cubicBezTo>
                <a:cubicBezTo>
                  <a:pt x="16892" y="14370"/>
                  <a:pt x="16917" y="14403"/>
                  <a:pt x="16942" y="14436"/>
                </a:cubicBezTo>
                <a:cubicBezTo>
                  <a:pt x="17125" y="14365"/>
                  <a:pt x="17109" y="14384"/>
                  <a:pt x="17140" y="14188"/>
                </a:cubicBezTo>
                <a:cubicBezTo>
                  <a:pt x="17188" y="14248"/>
                  <a:pt x="17427" y="14485"/>
                  <a:pt x="17462" y="14263"/>
                </a:cubicBezTo>
                <a:cubicBezTo>
                  <a:pt x="17488" y="14099"/>
                  <a:pt x="17354" y="13907"/>
                  <a:pt x="17289" y="13767"/>
                </a:cubicBezTo>
                <a:cubicBezTo>
                  <a:pt x="17354" y="13950"/>
                  <a:pt x="17399" y="14121"/>
                  <a:pt x="17438" y="14312"/>
                </a:cubicBezTo>
              </a:path>
              <a:path w="1663" h="745">
                <a:moveTo>
                  <a:pt x="17587" y="13915"/>
                </a:moveTo>
                <a:cubicBezTo>
                  <a:pt x="17410" y="13983"/>
                  <a:pt x="17439" y="14023"/>
                  <a:pt x="17388" y="14213"/>
                </a:cubicBezTo>
                <a:cubicBezTo>
                  <a:pt x="17580" y="14304"/>
                  <a:pt x="17883" y="14289"/>
                  <a:pt x="18008" y="14039"/>
                </a:cubicBezTo>
                <a:cubicBezTo>
                  <a:pt x="18029" y="13998"/>
                  <a:pt x="17861" y="14019"/>
                  <a:pt x="17959" y="1428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670800" y="5037120"/>
            <a:ext cx="169560" cy="133200"/>
          </a:xfrm>
          <a:custGeom>
            <a:avLst/>
            <a:gdLst/>
            <a:ahLst/>
            <a:rect l="l" t="t" r="r" b="b"/>
            <a:pathLst>
              <a:path w="472" h="373">
                <a:moveTo>
                  <a:pt x="18901" y="14089"/>
                </a:moveTo>
                <a:cubicBezTo>
                  <a:pt x="18746" y="13950"/>
                  <a:pt x="18590" y="14008"/>
                  <a:pt x="18529" y="14238"/>
                </a:cubicBezTo>
                <a:cubicBezTo>
                  <a:pt x="18537" y="14279"/>
                  <a:pt x="18546" y="14321"/>
                  <a:pt x="18554" y="14362"/>
                </a:cubicBezTo>
                <a:cubicBezTo>
                  <a:pt x="18686" y="14306"/>
                  <a:pt x="18776" y="14017"/>
                  <a:pt x="18852" y="14139"/>
                </a:cubicBezTo>
                <a:cubicBezTo>
                  <a:pt x="18898" y="14256"/>
                  <a:pt x="18908" y="14294"/>
                  <a:pt x="19000" y="1431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991200" y="4938840"/>
            <a:ext cx="1241640" cy="276120"/>
          </a:xfrm>
          <a:custGeom>
            <a:avLst/>
            <a:gdLst/>
            <a:ahLst/>
            <a:rect l="l" t="t" r="r" b="b"/>
            <a:pathLst>
              <a:path w="3449" h="770">
                <a:moveTo>
                  <a:pt x="19521" y="13965"/>
                </a:moveTo>
                <a:cubicBezTo>
                  <a:pt x="19488" y="13982"/>
                  <a:pt x="19455" y="13998"/>
                  <a:pt x="19422" y="14015"/>
                </a:cubicBezTo>
                <a:cubicBezTo>
                  <a:pt x="19561" y="14081"/>
                  <a:pt x="19636" y="14116"/>
                  <a:pt x="19720" y="14238"/>
                </a:cubicBezTo>
                <a:cubicBezTo>
                  <a:pt x="19614" y="14317"/>
                  <a:pt x="19573" y="14342"/>
                  <a:pt x="19472" y="14312"/>
                </a:cubicBezTo>
              </a:path>
              <a:path w="3449" h="770">
                <a:moveTo>
                  <a:pt x="19819" y="13742"/>
                </a:moveTo>
                <a:cubicBezTo>
                  <a:pt x="19856" y="13937"/>
                  <a:pt x="19884" y="14128"/>
                  <a:pt x="19943" y="14312"/>
                </a:cubicBezTo>
                <a:cubicBezTo>
                  <a:pt x="19943" y="14221"/>
                  <a:pt x="19915" y="13911"/>
                  <a:pt x="20092" y="13940"/>
                </a:cubicBezTo>
                <a:cubicBezTo>
                  <a:pt x="20316" y="13977"/>
                  <a:pt x="20228" y="14216"/>
                  <a:pt x="20216" y="14362"/>
                </a:cubicBezTo>
              </a:path>
              <a:path w="3449" h="770">
                <a:moveTo>
                  <a:pt x="20464" y="14089"/>
                </a:moveTo>
                <a:cubicBezTo>
                  <a:pt x="20391" y="14283"/>
                  <a:pt x="20568" y="14413"/>
                  <a:pt x="20762" y="14238"/>
                </a:cubicBezTo>
                <a:cubicBezTo>
                  <a:pt x="20788" y="14132"/>
                  <a:pt x="20791" y="14093"/>
                  <a:pt x="20712" y="14039"/>
                </a:cubicBezTo>
              </a:path>
              <a:path w="3449" h="770">
                <a:moveTo>
                  <a:pt x="20861" y="14263"/>
                </a:moveTo>
                <a:cubicBezTo>
                  <a:pt x="20869" y="14279"/>
                  <a:pt x="20878" y="14296"/>
                  <a:pt x="20886" y="14312"/>
                </a:cubicBezTo>
                <a:cubicBezTo>
                  <a:pt x="20886" y="14173"/>
                  <a:pt x="20926" y="14089"/>
                  <a:pt x="20985" y="13965"/>
                </a:cubicBezTo>
              </a:path>
              <a:path w="3449" h="770">
                <a:moveTo>
                  <a:pt x="21332" y="13717"/>
                </a:moveTo>
                <a:cubicBezTo>
                  <a:pt x="21318" y="13934"/>
                  <a:pt x="21293" y="14148"/>
                  <a:pt x="21258" y="14362"/>
                </a:cubicBezTo>
              </a:path>
              <a:path w="3449" h="770">
                <a:moveTo>
                  <a:pt x="21233" y="14039"/>
                </a:moveTo>
                <a:cubicBezTo>
                  <a:pt x="21291" y="14031"/>
                  <a:pt x="21348" y="14023"/>
                  <a:pt x="21406" y="14015"/>
                </a:cubicBezTo>
              </a:path>
              <a:path w="3449" h="770">
                <a:moveTo>
                  <a:pt x="21853" y="14163"/>
                </a:moveTo>
                <a:cubicBezTo>
                  <a:pt x="21853" y="14171"/>
                  <a:pt x="21853" y="14180"/>
                  <a:pt x="21853" y="14188"/>
                </a:cubicBezTo>
                <a:cubicBezTo>
                  <a:pt x="21838" y="14125"/>
                  <a:pt x="21804" y="13918"/>
                  <a:pt x="21679" y="14015"/>
                </a:cubicBezTo>
                <a:cubicBezTo>
                  <a:pt x="21442" y="14197"/>
                  <a:pt x="21552" y="14631"/>
                  <a:pt x="21878" y="14412"/>
                </a:cubicBezTo>
                <a:cubicBezTo>
                  <a:pt x="21967" y="14278"/>
                  <a:pt x="21997" y="14245"/>
                  <a:pt x="22002" y="14139"/>
                </a:cubicBezTo>
                <a:cubicBezTo>
                  <a:pt x="22007" y="14184"/>
                  <a:pt x="22089" y="14722"/>
                  <a:pt x="22275" y="14436"/>
                </a:cubicBezTo>
                <a:cubicBezTo>
                  <a:pt x="22314" y="14297"/>
                  <a:pt x="22331" y="14274"/>
                  <a:pt x="22324" y="14188"/>
                </a:cubicBezTo>
                <a:cubicBezTo>
                  <a:pt x="22331" y="14276"/>
                  <a:pt x="22358" y="14580"/>
                  <a:pt x="22547" y="14461"/>
                </a:cubicBezTo>
                <a:cubicBezTo>
                  <a:pt x="22724" y="14350"/>
                  <a:pt x="22734" y="14118"/>
                  <a:pt x="22771" y="13940"/>
                </a:cubicBezTo>
                <a:cubicBezTo>
                  <a:pt x="22666" y="13863"/>
                  <a:pt x="22687" y="14276"/>
                  <a:pt x="22696" y="14387"/>
                </a:cubicBezTo>
                <a:cubicBezTo>
                  <a:pt x="22704" y="14412"/>
                  <a:pt x="22713" y="14436"/>
                  <a:pt x="22721" y="14461"/>
                </a:cubicBezTo>
              </a:path>
              <a:path w="3449" h="770">
                <a:moveTo>
                  <a:pt x="22547" y="14114"/>
                </a:moveTo>
                <a:cubicBezTo>
                  <a:pt x="22704" y="14140"/>
                  <a:pt x="22762" y="14148"/>
                  <a:pt x="22870" y="1411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820800" y="5340240"/>
            <a:ext cx="563400" cy="196920"/>
          </a:xfrm>
          <a:custGeom>
            <a:avLst/>
            <a:gdLst/>
            <a:ahLst/>
            <a:rect l="l" t="t" r="r" b="b"/>
            <a:pathLst>
              <a:path w="1564" h="547">
                <a:moveTo>
                  <a:pt x="2629" y="15081"/>
                </a:moveTo>
                <a:cubicBezTo>
                  <a:pt x="2369" y="14999"/>
                  <a:pt x="2334" y="15056"/>
                  <a:pt x="2282" y="15329"/>
                </a:cubicBezTo>
                <a:cubicBezTo>
                  <a:pt x="2484" y="15370"/>
                  <a:pt x="2555" y="15180"/>
                  <a:pt x="2604" y="15180"/>
                </a:cubicBezTo>
                <a:cubicBezTo>
                  <a:pt x="2792" y="15180"/>
                  <a:pt x="2756" y="15263"/>
                  <a:pt x="2927" y="15106"/>
                </a:cubicBezTo>
                <a:cubicBezTo>
                  <a:pt x="2935" y="15171"/>
                  <a:pt x="2954" y="15216"/>
                  <a:pt x="2977" y="15280"/>
                </a:cubicBezTo>
                <a:cubicBezTo>
                  <a:pt x="2954" y="15164"/>
                  <a:pt x="2943" y="15130"/>
                  <a:pt x="2977" y="15056"/>
                </a:cubicBezTo>
                <a:cubicBezTo>
                  <a:pt x="3183" y="15013"/>
                  <a:pt x="3246" y="15135"/>
                  <a:pt x="3324" y="15329"/>
                </a:cubicBezTo>
              </a:path>
              <a:path w="1564" h="547">
                <a:moveTo>
                  <a:pt x="3795" y="14982"/>
                </a:moveTo>
                <a:cubicBezTo>
                  <a:pt x="3645" y="15045"/>
                  <a:pt x="3560" y="15111"/>
                  <a:pt x="3448" y="15230"/>
                </a:cubicBezTo>
                <a:cubicBezTo>
                  <a:pt x="3596" y="15329"/>
                  <a:pt x="3619" y="15259"/>
                  <a:pt x="3795" y="15180"/>
                </a:cubicBezTo>
              </a:path>
              <a:path w="1564" h="547">
                <a:moveTo>
                  <a:pt x="3671" y="14833"/>
                </a:moveTo>
                <a:cubicBezTo>
                  <a:pt x="3726" y="14967"/>
                  <a:pt x="3783" y="15099"/>
                  <a:pt x="3845" y="1523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581120" y="5357880"/>
            <a:ext cx="455760" cy="330120"/>
          </a:xfrm>
          <a:custGeom>
            <a:avLst/>
            <a:gdLst/>
            <a:ahLst/>
            <a:rect l="l" t="t" r="r" b="b"/>
            <a:pathLst>
              <a:path w="1266" h="919">
                <a:moveTo>
                  <a:pt x="4390" y="15032"/>
                </a:moveTo>
                <a:lnTo>
                  <a:pt x="4390" y="15032"/>
                </a:lnTo>
              </a:path>
              <a:path w="1266" h="919">
                <a:moveTo>
                  <a:pt x="4440" y="14932"/>
                </a:moveTo>
                <a:cubicBezTo>
                  <a:pt x="4519" y="14934"/>
                  <a:pt x="4524" y="15195"/>
                  <a:pt x="4539" y="15304"/>
                </a:cubicBezTo>
                <a:cubicBezTo>
                  <a:pt x="4539" y="15312"/>
                  <a:pt x="4539" y="15321"/>
                  <a:pt x="4539" y="15329"/>
                </a:cubicBezTo>
                <a:cubicBezTo>
                  <a:pt x="4533" y="15254"/>
                  <a:pt x="4480" y="15119"/>
                  <a:pt x="4589" y="15081"/>
                </a:cubicBezTo>
                <a:cubicBezTo>
                  <a:pt x="4725" y="15058"/>
                  <a:pt x="4763" y="15044"/>
                  <a:pt x="4837" y="15106"/>
                </a:cubicBezTo>
                <a:cubicBezTo>
                  <a:pt x="4846" y="15250"/>
                  <a:pt x="4827" y="15446"/>
                  <a:pt x="4614" y="15404"/>
                </a:cubicBezTo>
                <a:cubicBezTo>
                  <a:pt x="4526" y="15360"/>
                  <a:pt x="4503" y="15354"/>
                  <a:pt x="4465" y="15304"/>
                </a:cubicBezTo>
              </a:path>
              <a:path w="1266" h="919">
                <a:moveTo>
                  <a:pt x="4514" y="15329"/>
                </a:moveTo>
                <a:cubicBezTo>
                  <a:pt x="4552" y="15217"/>
                  <a:pt x="4604" y="15638"/>
                  <a:pt x="4638" y="15776"/>
                </a:cubicBezTo>
                <a:cubicBezTo>
                  <a:pt x="4638" y="15784"/>
                  <a:pt x="4638" y="15793"/>
                  <a:pt x="4638" y="15801"/>
                </a:cubicBezTo>
              </a:path>
              <a:path w="1266" h="919">
                <a:moveTo>
                  <a:pt x="4986" y="15081"/>
                </a:moveTo>
                <a:cubicBezTo>
                  <a:pt x="4979" y="15124"/>
                  <a:pt x="4906" y="15507"/>
                  <a:pt x="5085" y="15404"/>
                </a:cubicBezTo>
                <a:cubicBezTo>
                  <a:pt x="5143" y="15317"/>
                  <a:pt x="5165" y="15279"/>
                  <a:pt x="5184" y="15205"/>
                </a:cubicBezTo>
                <a:cubicBezTo>
                  <a:pt x="5141" y="14951"/>
                  <a:pt x="5222" y="15261"/>
                  <a:pt x="5259" y="15329"/>
                </a:cubicBezTo>
              </a:path>
              <a:path w="1266" h="919">
                <a:moveTo>
                  <a:pt x="5432" y="14883"/>
                </a:moveTo>
                <a:cubicBezTo>
                  <a:pt x="5474" y="15023"/>
                  <a:pt x="5516" y="15200"/>
                  <a:pt x="5581" y="15329"/>
                </a:cubicBezTo>
              </a:path>
              <a:path w="1266" h="919">
                <a:moveTo>
                  <a:pt x="5333" y="15131"/>
                </a:moveTo>
                <a:cubicBezTo>
                  <a:pt x="5482" y="15101"/>
                  <a:pt x="5549" y="15086"/>
                  <a:pt x="5655" y="1505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251080" y="5295960"/>
            <a:ext cx="436680" cy="231840"/>
          </a:xfrm>
          <a:custGeom>
            <a:avLst/>
            <a:gdLst/>
            <a:ahLst/>
            <a:rect l="l" t="t" r="r" b="b"/>
            <a:pathLst>
              <a:path w="1216" h="646">
                <a:moveTo>
                  <a:pt x="6524" y="14709"/>
                </a:moveTo>
                <a:cubicBezTo>
                  <a:pt x="6556" y="14908"/>
                  <a:pt x="6574" y="15109"/>
                  <a:pt x="6623" y="15304"/>
                </a:cubicBezTo>
              </a:path>
              <a:path w="1216" h="646">
                <a:moveTo>
                  <a:pt x="6251" y="15081"/>
                </a:moveTo>
                <a:cubicBezTo>
                  <a:pt x="6545" y="15155"/>
                  <a:pt x="6662" y="15138"/>
                  <a:pt x="6896" y="14957"/>
                </a:cubicBezTo>
              </a:path>
              <a:path w="1216" h="646">
                <a:moveTo>
                  <a:pt x="6821" y="14883"/>
                </a:moveTo>
                <a:cubicBezTo>
                  <a:pt x="6845" y="15016"/>
                  <a:pt x="6876" y="15149"/>
                  <a:pt x="6896" y="15280"/>
                </a:cubicBezTo>
                <a:cubicBezTo>
                  <a:pt x="6907" y="15167"/>
                  <a:pt x="6949" y="14919"/>
                  <a:pt x="7020" y="15007"/>
                </a:cubicBezTo>
                <a:cubicBezTo>
                  <a:pt x="7084" y="15086"/>
                  <a:pt x="7105" y="15236"/>
                  <a:pt x="7144" y="15329"/>
                </a:cubicBezTo>
              </a:path>
              <a:path w="1216" h="646">
                <a:moveTo>
                  <a:pt x="7293" y="15205"/>
                </a:moveTo>
                <a:cubicBezTo>
                  <a:pt x="7396" y="15136"/>
                  <a:pt x="7454" y="15096"/>
                  <a:pt x="7441" y="14982"/>
                </a:cubicBezTo>
                <a:cubicBezTo>
                  <a:pt x="7306" y="14990"/>
                  <a:pt x="7028" y="15104"/>
                  <a:pt x="7193" y="15304"/>
                </a:cubicBezTo>
                <a:cubicBezTo>
                  <a:pt x="7306" y="15361"/>
                  <a:pt x="7354" y="15373"/>
                  <a:pt x="7441" y="1530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847960" y="5313240"/>
            <a:ext cx="1063800" cy="258840"/>
          </a:xfrm>
          <a:custGeom>
            <a:avLst/>
            <a:gdLst/>
            <a:ahLst/>
            <a:rect l="l" t="t" r="r" b="b"/>
            <a:pathLst>
              <a:path w="2952" h="720">
                <a:moveTo>
                  <a:pt x="7913" y="15056"/>
                </a:moveTo>
                <a:cubicBezTo>
                  <a:pt x="7964" y="15113"/>
                  <a:pt x="8145" y="15373"/>
                  <a:pt x="8062" y="15478"/>
                </a:cubicBezTo>
                <a:cubicBezTo>
                  <a:pt x="8054" y="15462"/>
                  <a:pt x="8045" y="15445"/>
                  <a:pt x="8037" y="15429"/>
                </a:cubicBezTo>
                <a:cubicBezTo>
                  <a:pt x="8037" y="15309"/>
                  <a:pt x="8018" y="15018"/>
                  <a:pt x="8235" y="15056"/>
                </a:cubicBezTo>
                <a:cubicBezTo>
                  <a:pt x="8420" y="15088"/>
                  <a:pt x="8395" y="15269"/>
                  <a:pt x="8409" y="15404"/>
                </a:cubicBezTo>
              </a:path>
              <a:path w="2952" h="720">
                <a:moveTo>
                  <a:pt x="8434" y="15106"/>
                </a:moveTo>
                <a:cubicBezTo>
                  <a:pt x="8470" y="15229"/>
                  <a:pt x="8516" y="15484"/>
                  <a:pt x="8706" y="15379"/>
                </a:cubicBezTo>
                <a:cubicBezTo>
                  <a:pt x="8836" y="15307"/>
                  <a:pt x="8820" y="15207"/>
                  <a:pt x="8830" y="15081"/>
                </a:cubicBezTo>
                <a:cubicBezTo>
                  <a:pt x="8835" y="15135"/>
                  <a:pt x="8862" y="15485"/>
                  <a:pt x="9004" y="15304"/>
                </a:cubicBezTo>
                <a:cubicBezTo>
                  <a:pt x="9072" y="15218"/>
                  <a:pt x="9108" y="15079"/>
                  <a:pt x="9029" y="15106"/>
                </a:cubicBezTo>
                <a:cubicBezTo>
                  <a:pt x="9085" y="15457"/>
                  <a:pt x="9019" y="15140"/>
                  <a:pt x="9103" y="15032"/>
                </a:cubicBezTo>
                <a:cubicBezTo>
                  <a:pt x="9226" y="14874"/>
                  <a:pt x="9332" y="15216"/>
                  <a:pt x="9351" y="15255"/>
                </a:cubicBezTo>
                <a:cubicBezTo>
                  <a:pt x="9359" y="15271"/>
                  <a:pt x="9368" y="15288"/>
                  <a:pt x="9376" y="15304"/>
                </a:cubicBezTo>
                <a:cubicBezTo>
                  <a:pt x="9360" y="15185"/>
                  <a:pt x="9405" y="14841"/>
                  <a:pt x="9599" y="15081"/>
                </a:cubicBezTo>
                <a:cubicBezTo>
                  <a:pt x="9643" y="15213"/>
                  <a:pt x="9655" y="15244"/>
                  <a:pt x="9674" y="15329"/>
                </a:cubicBezTo>
              </a:path>
              <a:path w="2952" h="720">
                <a:moveTo>
                  <a:pt x="9748" y="14759"/>
                </a:moveTo>
                <a:cubicBezTo>
                  <a:pt x="9789" y="14862"/>
                  <a:pt x="9847" y="15257"/>
                  <a:pt x="9847" y="15106"/>
                </a:cubicBezTo>
                <a:cubicBezTo>
                  <a:pt x="9955" y="14953"/>
                  <a:pt x="10256" y="14809"/>
                  <a:pt x="10170" y="15156"/>
                </a:cubicBezTo>
                <a:cubicBezTo>
                  <a:pt x="10122" y="15349"/>
                  <a:pt x="9941" y="15277"/>
                  <a:pt x="9823" y="15255"/>
                </a:cubicBezTo>
              </a:path>
              <a:path w="2952" h="720">
                <a:moveTo>
                  <a:pt x="10344" y="15106"/>
                </a:moveTo>
                <a:cubicBezTo>
                  <a:pt x="10425" y="15059"/>
                  <a:pt x="10461" y="15061"/>
                  <a:pt x="10492" y="14982"/>
                </a:cubicBezTo>
                <a:cubicBezTo>
                  <a:pt x="10249" y="15003"/>
                  <a:pt x="10237" y="15059"/>
                  <a:pt x="10195" y="15280"/>
                </a:cubicBezTo>
                <a:cubicBezTo>
                  <a:pt x="10487" y="15387"/>
                  <a:pt x="10469" y="15126"/>
                  <a:pt x="10616" y="15106"/>
                </a:cubicBezTo>
                <a:cubicBezTo>
                  <a:pt x="10616" y="15189"/>
                  <a:pt x="10616" y="15222"/>
                  <a:pt x="10616" y="15280"/>
                </a:cubicBezTo>
                <a:cubicBezTo>
                  <a:pt x="10678" y="15102"/>
                  <a:pt x="10711" y="15071"/>
                  <a:pt x="10864" y="1495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071960" y="5330880"/>
            <a:ext cx="233280" cy="223920"/>
          </a:xfrm>
          <a:custGeom>
            <a:avLst/>
            <a:gdLst/>
            <a:ahLst/>
            <a:rect l="l" t="t" r="r" b="b"/>
            <a:pathLst>
              <a:path w="646" h="622">
                <a:moveTo>
                  <a:pt x="11435" y="15106"/>
                </a:moveTo>
                <a:cubicBezTo>
                  <a:pt x="11337" y="15230"/>
                  <a:pt x="11327" y="15250"/>
                  <a:pt x="11336" y="15404"/>
                </a:cubicBezTo>
                <a:cubicBezTo>
                  <a:pt x="11433" y="15410"/>
                  <a:pt x="11781" y="15357"/>
                  <a:pt x="11609" y="15156"/>
                </a:cubicBezTo>
                <a:cubicBezTo>
                  <a:pt x="11568" y="15139"/>
                  <a:pt x="11526" y="15123"/>
                  <a:pt x="11485" y="15106"/>
                </a:cubicBezTo>
              </a:path>
              <a:path w="646" h="622">
                <a:moveTo>
                  <a:pt x="11881" y="14808"/>
                </a:moveTo>
                <a:cubicBezTo>
                  <a:pt x="11790" y="15014"/>
                  <a:pt x="11861" y="15107"/>
                  <a:pt x="11931" y="15329"/>
                </a:cubicBezTo>
              </a:path>
              <a:path w="646" h="622">
                <a:moveTo>
                  <a:pt x="11708" y="15131"/>
                </a:moveTo>
                <a:cubicBezTo>
                  <a:pt x="11791" y="15123"/>
                  <a:pt x="11873" y="15114"/>
                  <a:pt x="11956" y="1510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510080" y="5357880"/>
            <a:ext cx="768240" cy="187200"/>
          </a:xfrm>
          <a:custGeom>
            <a:avLst/>
            <a:gdLst/>
            <a:ahLst/>
            <a:rect l="l" t="t" r="r" b="b"/>
            <a:pathLst>
              <a:path w="2135" h="522">
                <a:moveTo>
                  <a:pt x="12601" y="15032"/>
                </a:moveTo>
                <a:cubicBezTo>
                  <a:pt x="12712" y="14995"/>
                  <a:pt x="12776" y="14982"/>
                  <a:pt x="12898" y="14982"/>
                </a:cubicBezTo>
                <a:cubicBezTo>
                  <a:pt x="12790" y="15145"/>
                  <a:pt x="12653" y="15227"/>
                  <a:pt x="12526" y="15354"/>
                </a:cubicBezTo>
                <a:cubicBezTo>
                  <a:pt x="12699" y="15407"/>
                  <a:pt x="12748" y="15386"/>
                  <a:pt x="12923" y="15354"/>
                </a:cubicBezTo>
              </a:path>
              <a:path w="2135" h="522">
                <a:moveTo>
                  <a:pt x="13122" y="15156"/>
                </a:moveTo>
                <a:cubicBezTo>
                  <a:pt x="13241" y="15132"/>
                  <a:pt x="13278" y="15126"/>
                  <a:pt x="13345" y="15081"/>
                </a:cubicBezTo>
                <a:cubicBezTo>
                  <a:pt x="13297" y="14915"/>
                  <a:pt x="13071" y="15053"/>
                  <a:pt x="12998" y="15156"/>
                </a:cubicBezTo>
                <a:cubicBezTo>
                  <a:pt x="12990" y="15197"/>
                  <a:pt x="12981" y="15239"/>
                  <a:pt x="12973" y="15280"/>
                </a:cubicBezTo>
                <a:cubicBezTo>
                  <a:pt x="13264" y="15419"/>
                  <a:pt x="13330" y="15366"/>
                  <a:pt x="13494" y="15106"/>
                </a:cubicBezTo>
                <a:cubicBezTo>
                  <a:pt x="13560" y="15001"/>
                  <a:pt x="13541" y="15252"/>
                  <a:pt x="13543" y="15280"/>
                </a:cubicBezTo>
                <a:cubicBezTo>
                  <a:pt x="13561" y="15086"/>
                  <a:pt x="13617" y="15019"/>
                  <a:pt x="13767" y="14908"/>
                </a:cubicBezTo>
              </a:path>
              <a:path w="2135" h="522">
                <a:moveTo>
                  <a:pt x="14238" y="14932"/>
                </a:moveTo>
                <a:cubicBezTo>
                  <a:pt x="14049" y="15016"/>
                  <a:pt x="13969" y="15070"/>
                  <a:pt x="13841" y="15230"/>
                </a:cubicBezTo>
                <a:cubicBezTo>
                  <a:pt x="13948" y="15284"/>
                  <a:pt x="14251" y="15312"/>
                  <a:pt x="14213" y="15081"/>
                </a:cubicBezTo>
                <a:cubicBezTo>
                  <a:pt x="14188" y="15048"/>
                  <a:pt x="14164" y="15015"/>
                  <a:pt x="14139" y="14982"/>
                </a:cubicBezTo>
              </a:path>
              <a:path w="2135" h="522">
                <a:moveTo>
                  <a:pt x="14560" y="14883"/>
                </a:moveTo>
                <a:cubicBezTo>
                  <a:pt x="14494" y="14883"/>
                  <a:pt x="14461" y="14883"/>
                  <a:pt x="14412" y="14883"/>
                </a:cubicBezTo>
                <a:cubicBezTo>
                  <a:pt x="14466" y="14951"/>
                  <a:pt x="14757" y="15110"/>
                  <a:pt x="14610" y="15205"/>
                </a:cubicBezTo>
                <a:cubicBezTo>
                  <a:pt x="14560" y="15222"/>
                  <a:pt x="14511" y="15238"/>
                  <a:pt x="14461" y="1525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518080" y="5330880"/>
            <a:ext cx="920880" cy="241200"/>
          </a:xfrm>
          <a:custGeom>
            <a:avLst/>
            <a:gdLst/>
            <a:ahLst/>
            <a:rect l="l" t="t" r="r" b="b"/>
            <a:pathLst>
              <a:path w="2556" h="671">
                <a:moveTo>
                  <a:pt x="15329" y="14808"/>
                </a:moveTo>
                <a:cubicBezTo>
                  <a:pt x="15394" y="15021"/>
                  <a:pt x="15428" y="15252"/>
                  <a:pt x="15453" y="15478"/>
                </a:cubicBezTo>
                <a:cubicBezTo>
                  <a:pt x="15439" y="15186"/>
                  <a:pt x="15508" y="15114"/>
                  <a:pt x="15776" y="15081"/>
                </a:cubicBezTo>
                <a:cubicBezTo>
                  <a:pt x="15754" y="15343"/>
                  <a:pt x="15678" y="15404"/>
                  <a:pt x="15404" y="15404"/>
                </a:cubicBezTo>
              </a:path>
              <a:path w="2556" h="671">
                <a:moveTo>
                  <a:pt x="15925" y="15156"/>
                </a:moveTo>
                <a:cubicBezTo>
                  <a:pt x="16046" y="15107"/>
                  <a:pt x="16085" y="15093"/>
                  <a:pt x="16148" y="15032"/>
                </a:cubicBezTo>
                <a:cubicBezTo>
                  <a:pt x="16047" y="14913"/>
                  <a:pt x="15846" y="14997"/>
                  <a:pt x="15850" y="15180"/>
                </a:cubicBezTo>
                <a:cubicBezTo>
                  <a:pt x="15856" y="15444"/>
                  <a:pt x="16164" y="15307"/>
                  <a:pt x="16272" y="15280"/>
                </a:cubicBezTo>
              </a:path>
              <a:path w="2556" h="671">
                <a:moveTo>
                  <a:pt x="16272" y="14833"/>
                </a:moveTo>
                <a:cubicBezTo>
                  <a:pt x="16292" y="14904"/>
                  <a:pt x="16371" y="15374"/>
                  <a:pt x="16371" y="15280"/>
                </a:cubicBezTo>
                <a:cubicBezTo>
                  <a:pt x="16411" y="15192"/>
                  <a:pt x="16494" y="14922"/>
                  <a:pt x="16619" y="15131"/>
                </a:cubicBezTo>
                <a:cubicBezTo>
                  <a:pt x="16664" y="15286"/>
                  <a:pt x="16681" y="15326"/>
                  <a:pt x="16669" y="15429"/>
                </a:cubicBezTo>
              </a:path>
              <a:path w="2556" h="671">
                <a:moveTo>
                  <a:pt x="16867" y="15131"/>
                </a:moveTo>
                <a:cubicBezTo>
                  <a:pt x="16867" y="15181"/>
                  <a:pt x="16867" y="15230"/>
                  <a:pt x="16867" y="15280"/>
                </a:cubicBezTo>
                <a:cubicBezTo>
                  <a:pt x="16867" y="15431"/>
                  <a:pt x="16817" y="15055"/>
                  <a:pt x="16768" y="14957"/>
                </a:cubicBezTo>
                <a:cubicBezTo>
                  <a:pt x="16909" y="14988"/>
                  <a:pt x="16975" y="15099"/>
                  <a:pt x="17041" y="15230"/>
                </a:cubicBezTo>
                <a:cubicBezTo>
                  <a:pt x="17049" y="15255"/>
                  <a:pt x="17058" y="15279"/>
                  <a:pt x="17066" y="15304"/>
                </a:cubicBezTo>
                <a:cubicBezTo>
                  <a:pt x="17101" y="15169"/>
                  <a:pt x="17173" y="14897"/>
                  <a:pt x="17363" y="15106"/>
                </a:cubicBezTo>
                <a:cubicBezTo>
                  <a:pt x="17406" y="15212"/>
                  <a:pt x="17422" y="15233"/>
                  <a:pt x="17413" y="15304"/>
                </a:cubicBezTo>
              </a:path>
              <a:path w="2556" h="671">
                <a:moveTo>
                  <a:pt x="17785" y="15032"/>
                </a:moveTo>
                <a:cubicBezTo>
                  <a:pt x="17569" y="15044"/>
                  <a:pt x="17489" y="15114"/>
                  <a:pt x="17438" y="15329"/>
                </a:cubicBezTo>
                <a:cubicBezTo>
                  <a:pt x="17649" y="15376"/>
                  <a:pt x="17844" y="15310"/>
                  <a:pt x="17835" y="15032"/>
                </a:cubicBezTo>
                <a:cubicBezTo>
                  <a:pt x="17822" y="14638"/>
                  <a:pt x="17774" y="14913"/>
                  <a:pt x="17884" y="1518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99160" y="5330880"/>
            <a:ext cx="517680" cy="187200"/>
          </a:xfrm>
          <a:custGeom>
            <a:avLst/>
            <a:gdLst/>
            <a:ahLst/>
            <a:rect l="l" t="t" r="r" b="b"/>
            <a:pathLst>
              <a:path w="1439" h="522">
                <a:moveTo>
                  <a:pt x="18554" y="14808"/>
                </a:moveTo>
                <a:cubicBezTo>
                  <a:pt x="18593" y="14971"/>
                  <a:pt x="18612" y="15159"/>
                  <a:pt x="18678" y="15304"/>
                </a:cubicBezTo>
              </a:path>
              <a:path w="1439" h="522">
                <a:moveTo>
                  <a:pt x="18331" y="15056"/>
                </a:moveTo>
                <a:cubicBezTo>
                  <a:pt x="18527" y="15166"/>
                  <a:pt x="18885" y="15346"/>
                  <a:pt x="19025" y="15032"/>
                </a:cubicBezTo>
                <a:cubicBezTo>
                  <a:pt x="19025" y="14903"/>
                  <a:pt x="19036" y="14870"/>
                  <a:pt x="18976" y="14808"/>
                </a:cubicBezTo>
                <a:cubicBezTo>
                  <a:pt x="18987" y="14974"/>
                  <a:pt x="19015" y="15138"/>
                  <a:pt x="19025" y="15304"/>
                </a:cubicBezTo>
                <a:cubicBezTo>
                  <a:pt x="19153" y="14907"/>
                  <a:pt x="19077" y="15111"/>
                  <a:pt x="19273" y="15280"/>
                </a:cubicBezTo>
                <a:cubicBezTo>
                  <a:pt x="19448" y="15431"/>
                  <a:pt x="19514" y="15266"/>
                  <a:pt x="19596" y="15156"/>
                </a:cubicBezTo>
              </a:path>
              <a:path w="1439" h="522">
                <a:moveTo>
                  <a:pt x="19496" y="15106"/>
                </a:moveTo>
                <a:cubicBezTo>
                  <a:pt x="19629" y="15095"/>
                  <a:pt x="19666" y="15075"/>
                  <a:pt x="19769" y="15007"/>
                </a:cubicBezTo>
                <a:cubicBezTo>
                  <a:pt x="19662" y="15019"/>
                  <a:pt x="19353" y="15248"/>
                  <a:pt x="19621" y="15304"/>
                </a:cubicBezTo>
                <a:cubicBezTo>
                  <a:pt x="19662" y="15296"/>
                  <a:pt x="19704" y="15288"/>
                  <a:pt x="19745" y="1528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323120" y="5286240"/>
            <a:ext cx="615960" cy="349560"/>
          </a:xfrm>
          <a:custGeom>
            <a:avLst/>
            <a:gdLst/>
            <a:ahLst/>
            <a:rect l="l" t="t" r="r" b="b"/>
            <a:pathLst>
              <a:path w="1712" h="969">
                <a:moveTo>
                  <a:pt x="20712" y="15056"/>
                </a:moveTo>
                <a:cubicBezTo>
                  <a:pt x="20636" y="14906"/>
                  <a:pt x="20419" y="14980"/>
                  <a:pt x="20340" y="15131"/>
                </a:cubicBezTo>
                <a:cubicBezTo>
                  <a:pt x="20340" y="15189"/>
                  <a:pt x="20340" y="15246"/>
                  <a:pt x="20340" y="15304"/>
                </a:cubicBezTo>
                <a:cubicBezTo>
                  <a:pt x="20566" y="15350"/>
                  <a:pt x="20810" y="15369"/>
                  <a:pt x="20737" y="15032"/>
                </a:cubicBezTo>
                <a:cubicBezTo>
                  <a:pt x="20713" y="14922"/>
                  <a:pt x="20613" y="14841"/>
                  <a:pt x="20613" y="14759"/>
                </a:cubicBezTo>
                <a:cubicBezTo>
                  <a:pt x="20699" y="14945"/>
                  <a:pt x="20755" y="15129"/>
                  <a:pt x="20811" y="15329"/>
                </a:cubicBezTo>
              </a:path>
              <a:path w="1712" h="969">
                <a:moveTo>
                  <a:pt x="21034" y="15007"/>
                </a:moveTo>
                <a:cubicBezTo>
                  <a:pt x="21012" y="15163"/>
                  <a:pt x="21004" y="15204"/>
                  <a:pt x="21010" y="15304"/>
                </a:cubicBezTo>
              </a:path>
              <a:path w="1712" h="969">
                <a:moveTo>
                  <a:pt x="21010" y="14883"/>
                </a:moveTo>
                <a:lnTo>
                  <a:pt x="21010" y="14883"/>
                </a:lnTo>
              </a:path>
              <a:path w="1712" h="969">
                <a:moveTo>
                  <a:pt x="21357" y="14982"/>
                </a:moveTo>
                <a:cubicBezTo>
                  <a:pt x="21302" y="15013"/>
                  <a:pt x="20976" y="15320"/>
                  <a:pt x="21233" y="15329"/>
                </a:cubicBezTo>
                <a:cubicBezTo>
                  <a:pt x="21388" y="15335"/>
                  <a:pt x="21352" y="15143"/>
                  <a:pt x="21357" y="15056"/>
                </a:cubicBezTo>
                <a:cubicBezTo>
                  <a:pt x="21357" y="15048"/>
                  <a:pt x="21357" y="15040"/>
                  <a:pt x="21357" y="15032"/>
                </a:cubicBezTo>
                <a:cubicBezTo>
                  <a:pt x="21409" y="15239"/>
                  <a:pt x="21425" y="15440"/>
                  <a:pt x="21406" y="15652"/>
                </a:cubicBezTo>
              </a:path>
              <a:path w="1712" h="969">
                <a:moveTo>
                  <a:pt x="21530" y="15032"/>
                </a:moveTo>
                <a:cubicBezTo>
                  <a:pt x="21596" y="15161"/>
                  <a:pt x="21615" y="15190"/>
                  <a:pt x="21630" y="15280"/>
                </a:cubicBezTo>
              </a:path>
              <a:path w="1712" h="969">
                <a:moveTo>
                  <a:pt x="21580" y="14759"/>
                </a:moveTo>
                <a:lnTo>
                  <a:pt x="21580" y="14759"/>
                </a:lnTo>
              </a:path>
              <a:path w="1712" h="969">
                <a:moveTo>
                  <a:pt x="21803" y="14684"/>
                </a:moveTo>
                <a:cubicBezTo>
                  <a:pt x="21904" y="14886"/>
                  <a:pt x="21957" y="15103"/>
                  <a:pt x="22051" y="15304"/>
                </a:cubicBezTo>
              </a:path>
              <a:path w="1712" h="969">
                <a:moveTo>
                  <a:pt x="21828" y="15007"/>
                </a:moveTo>
                <a:cubicBezTo>
                  <a:pt x="21894" y="14999"/>
                  <a:pt x="21961" y="14990"/>
                  <a:pt x="22027" y="1498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143920" y="5276880"/>
            <a:ext cx="295200" cy="196920"/>
          </a:xfrm>
          <a:custGeom>
            <a:avLst/>
            <a:gdLst/>
            <a:ahLst/>
            <a:rect l="l" t="t" r="r" b="b"/>
            <a:pathLst>
              <a:path w="819" h="546">
                <a:moveTo>
                  <a:pt x="22796" y="14660"/>
                </a:moveTo>
                <a:cubicBezTo>
                  <a:pt x="22856" y="14848"/>
                  <a:pt x="22882" y="15009"/>
                  <a:pt x="22895" y="15205"/>
                </a:cubicBezTo>
              </a:path>
              <a:path w="819" h="546">
                <a:moveTo>
                  <a:pt x="22622" y="14908"/>
                </a:moveTo>
                <a:cubicBezTo>
                  <a:pt x="22804" y="14930"/>
                  <a:pt x="22960" y="14926"/>
                  <a:pt x="23143" y="14908"/>
                </a:cubicBezTo>
                <a:cubicBezTo>
                  <a:pt x="23109" y="15069"/>
                  <a:pt x="23154" y="15267"/>
                  <a:pt x="23391" y="15131"/>
                </a:cubicBezTo>
                <a:cubicBezTo>
                  <a:pt x="23444" y="15050"/>
                  <a:pt x="23457" y="15019"/>
                  <a:pt x="23391" y="1495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884160" y="5581800"/>
            <a:ext cx="946080" cy="204480"/>
          </a:xfrm>
          <a:custGeom>
            <a:avLst/>
            <a:gdLst/>
            <a:ahLst/>
            <a:rect l="l" t="t" r="r" b="b"/>
            <a:pathLst>
              <a:path w="2630" h="571">
                <a:moveTo>
                  <a:pt x="2456" y="15751"/>
                </a:moveTo>
                <a:cubicBezTo>
                  <a:pt x="2494" y="15857"/>
                  <a:pt x="2532" y="15979"/>
                  <a:pt x="2580" y="16073"/>
                </a:cubicBezTo>
                <a:cubicBezTo>
                  <a:pt x="2541" y="15966"/>
                  <a:pt x="2476" y="15864"/>
                  <a:pt x="2604" y="15776"/>
                </a:cubicBezTo>
                <a:cubicBezTo>
                  <a:pt x="2753" y="15673"/>
                  <a:pt x="2870" y="15867"/>
                  <a:pt x="2902" y="15974"/>
                </a:cubicBezTo>
                <a:cubicBezTo>
                  <a:pt x="2928" y="15844"/>
                  <a:pt x="2940" y="15798"/>
                  <a:pt x="3001" y="15726"/>
                </a:cubicBezTo>
                <a:cubicBezTo>
                  <a:pt x="3148" y="15793"/>
                  <a:pt x="3157" y="15862"/>
                  <a:pt x="3225" y="16024"/>
                </a:cubicBezTo>
              </a:path>
              <a:path w="2630" h="571">
                <a:moveTo>
                  <a:pt x="3547" y="15776"/>
                </a:moveTo>
                <a:cubicBezTo>
                  <a:pt x="3443" y="15849"/>
                  <a:pt x="3422" y="15888"/>
                  <a:pt x="3373" y="15999"/>
                </a:cubicBezTo>
                <a:cubicBezTo>
                  <a:pt x="3586" y="16070"/>
                  <a:pt x="3459" y="15887"/>
                  <a:pt x="3572" y="15850"/>
                </a:cubicBezTo>
                <a:cubicBezTo>
                  <a:pt x="3657" y="15822"/>
                  <a:pt x="3837" y="16097"/>
                  <a:pt x="3919" y="15825"/>
                </a:cubicBezTo>
                <a:cubicBezTo>
                  <a:pt x="3945" y="15738"/>
                  <a:pt x="3817" y="15456"/>
                  <a:pt x="3894" y="15627"/>
                </a:cubicBezTo>
                <a:cubicBezTo>
                  <a:pt x="3957" y="15774"/>
                  <a:pt x="3975" y="15804"/>
                  <a:pt x="3994" y="15900"/>
                </a:cubicBezTo>
              </a:path>
              <a:path w="2630" h="571">
                <a:moveTo>
                  <a:pt x="3795" y="15751"/>
                </a:moveTo>
                <a:cubicBezTo>
                  <a:pt x="3853" y="15743"/>
                  <a:pt x="3911" y="15734"/>
                  <a:pt x="3969" y="15726"/>
                </a:cubicBezTo>
              </a:path>
              <a:path w="2630" h="571">
                <a:moveTo>
                  <a:pt x="4440" y="15726"/>
                </a:moveTo>
                <a:cubicBezTo>
                  <a:pt x="4308" y="15669"/>
                  <a:pt x="4134" y="15736"/>
                  <a:pt x="4167" y="15925"/>
                </a:cubicBezTo>
                <a:cubicBezTo>
                  <a:pt x="4208" y="16161"/>
                  <a:pt x="4456" y="15966"/>
                  <a:pt x="4539" y="15925"/>
                </a:cubicBezTo>
              </a:path>
              <a:path w="2630" h="571">
                <a:moveTo>
                  <a:pt x="4564" y="15503"/>
                </a:moveTo>
                <a:cubicBezTo>
                  <a:pt x="4633" y="15656"/>
                  <a:pt x="4688" y="15789"/>
                  <a:pt x="4738" y="15949"/>
                </a:cubicBezTo>
                <a:cubicBezTo>
                  <a:pt x="4748" y="15877"/>
                  <a:pt x="4831" y="15669"/>
                  <a:pt x="4936" y="15701"/>
                </a:cubicBezTo>
                <a:cubicBezTo>
                  <a:pt x="5011" y="15801"/>
                  <a:pt x="5035" y="15834"/>
                  <a:pt x="5085" y="1590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000160" y="5607000"/>
            <a:ext cx="500040" cy="189000"/>
          </a:xfrm>
          <a:custGeom>
            <a:avLst/>
            <a:gdLst/>
            <a:ahLst/>
            <a:rect l="l" t="t" r="r" b="b"/>
            <a:pathLst>
              <a:path w="1390" h="522">
                <a:moveTo>
                  <a:pt x="5680" y="15776"/>
                </a:moveTo>
                <a:cubicBezTo>
                  <a:pt x="5741" y="15936"/>
                  <a:pt x="5743" y="15968"/>
                  <a:pt x="5804" y="16049"/>
                </a:cubicBezTo>
              </a:path>
              <a:path w="1390" h="522">
                <a:moveTo>
                  <a:pt x="5556" y="15900"/>
                </a:moveTo>
                <a:cubicBezTo>
                  <a:pt x="5862" y="15883"/>
                  <a:pt x="6070" y="15925"/>
                  <a:pt x="6102" y="15602"/>
                </a:cubicBezTo>
                <a:cubicBezTo>
                  <a:pt x="6015" y="15573"/>
                  <a:pt x="6150" y="15943"/>
                  <a:pt x="6176" y="16024"/>
                </a:cubicBezTo>
                <a:cubicBezTo>
                  <a:pt x="6184" y="16040"/>
                  <a:pt x="6193" y="16057"/>
                  <a:pt x="6201" y="16073"/>
                </a:cubicBezTo>
                <a:cubicBezTo>
                  <a:pt x="6215" y="15966"/>
                  <a:pt x="6240" y="15902"/>
                  <a:pt x="6276" y="15801"/>
                </a:cubicBezTo>
                <a:cubicBezTo>
                  <a:pt x="6417" y="15858"/>
                  <a:pt x="6466" y="15991"/>
                  <a:pt x="6573" y="16098"/>
                </a:cubicBezTo>
              </a:path>
              <a:path w="1390" h="522">
                <a:moveTo>
                  <a:pt x="6697" y="15949"/>
                </a:moveTo>
                <a:cubicBezTo>
                  <a:pt x="6804" y="15905"/>
                  <a:pt x="6817" y="15899"/>
                  <a:pt x="6871" y="15801"/>
                </a:cubicBezTo>
                <a:cubicBezTo>
                  <a:pt x="6771" y="15751"/>
                  <a:pt x="6538" y="15884"/>
                  <a:pt x="6672" y="16049"/>
                </a:cubicBezTo>
                <a:cubicBezTo>
                  <a:pt x="6797" y="16079"/>
                  <a:pt x="6855" y="16080"/>
                  <a:pt x="6945" y="1602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741760" y="5537160"/>
            <a:ext cx="1312560" cy="330120"/>
          </a:xfrm>
          <a:custGeom>
            <a:avLst/>
            <a:gdLst/>
            <a:ahLst/>
            <a:rect l="l" t="t" r="r" b="b"/>
            <a:pathLst>
              <a:path w="3647" h="919">
                <a:moveTo>
                  <a:pt x="7714" y="15875"/>
                </a:moveTo>
                <a:cubicBezTo>
                  <a:pt x="7814" y="15855"/>
                  <a:pt x="7911" y="15834"/>
                  <a:pt x="8012" y="15825"/>
                </a:cubicBezTo>
                <a:cubicBezTo>
                  <a:pt x="7932" y="15778"/>
                  <a:pt x="7755" y="15591"/>
                  <a:pt x="7665" y="15726"/>
                </a:cubicBezTo>
                <a:cubicBezTo>
                  <a:pt x="7648" y="15784"/>
                  <a:pt x="7632" y="15842"/>
                  <a:pt x="7615" y="15900"/>
                </a:cubicBezTo>
                <a:cubicBezTo>
                  <a:pt x="7808" y="16025"/>
                  <a:pt x="8072" y="16112"/>
                  <a:pt x="8235" y="15850"/>
                </a:cubicBezTo>
                <a:cubicBezTo>
                  <a:pt x="8235" y="15761"/>
                  <a:pt x="8242" y="15735"/>
                  <a:pt x="8186" y="15701"/>
                </a:cubicBezTo>
                <a:cubicBezTo>
                  <a:pt x="8302" y="15812"/>
                  <a:pt x="8390" y="15886"/>
                  <a:pt x="8533" y="15949"/>
                </a:cubicBezTo>
              </a:path>
              <a:path w="3647" h="919">
                <a:moveTo>
                  <a:pt x="8458" y="15577"/>
                </a:moveTo>
                <a:cubicBezTo>
                  <a:pt x="8387" y="15733"/>
                  <a:pt x="8339" y="15885"/>
                  <a:pt x="8285" y="16049"/>
                </a:cubicBezTo>
              </a:path>
              <a:path w="3647" h="919">
                <a:moveTo>
                  <a:pt x="8781" y="15776"/>
                </a:moveTo>
                <a:cubicBezTo>
                  <a:pt x="8786" y="15951"/>
                  <a:pt x="8796" y="16122"/>
                  <a:pt x="8806" y="16297"/>
                </a:cubicBezTo>
                <a:cubicBezTo>
                  <a:pt x="8806" y="16126"/>
                  <a:pt x="8742" y="15915"/>
                  <a:pt x="8806" y="15751"/>
                </a:cubicBezTo>
                <a:cubicBezTo>
                  <a:pt x="8839" y="15710"/>
                  <a:pt x="8872" y="15668"/>
                  <a:pt x="8905" y="15627"/>
                </a:cubicBezTo>
                <a:cubicBezTo>
                  <a:pt x="9044" y="15733"/>
                  <a:pt x="9198" y="15980"/>
                  <a:pt x="8880" y="16024"/>
                </a:cubicBezTo>
                <a:cubicBezTo>
                  <a:pt x="8839" y="16016"/>
                  <a:pt x="8797" y="16007"/>
                  <a:pt x="8756" y="15999"/>
                </a:cubicBezTo>
              </a:path>
              <a:path w="3647" h="919">
                <a:moveTo>
                  <a:pt x="9401" y="15652"/>
                </a:moveTo>
                <a:cubicBezTo>
                  <a:pt x="9240" y="15717"/>
                  <a:pt x="9200" y="15750"/>
                  <a:pt x="9103" y="15900"/>
                </a:cubicBezTo>
                <a:cubicBezTo>
                  <a:pt x="9218" y="15938"/>
                  <a:pt x="9526" y="15964"/>
                  <a:pt x="9475" y="15726"/>
                </a:cubicBezTo>
                <a:cubicBezTo>
                  <a:pt x="9405" y="15656"/>
                  <a:pt x="9384" y="15634"/>
                  <a:pt x="9327" y="15602"/>
                </a:cubicBezTo>
              </a:path>
              <a:path w="3647" h="919">
                <a:moveTo>
                  <a:pt x="9599" y="15850"/>
                </a:moveTo>
                <a:cubicBezTo>
                  <a:pt x="9599" y="15931"/>
                  <a:pt x="9580" y="15661"/>
                  <a:pt x="9723" y="15627"/>
                </a:cubicBezTo>
                <a:cubicBezTo>
                  <a:pt x="9915" y="15581"/>
                  <a:pt x="9851" y="15840"/>
                  <a:pt x="9847" y="15925"/>
                </a:cubicBezTo>
              </a:path>
              <a:path w="3647" h="919">
                <a:moveTo>
                  <a:pt x="9971" y="15751"/>
                </a:moveTo>
                <a:cubicBezTo>
                  <a:pt x="10077" y="15716"/>
                  <a:pt x="10105" y="15713"/>
                  <a:pt x="10170" y="15627"/>
                </a:cubicBezTo>
                <a:cubicBezTo>
                  <a:pt x="10050" y="15627"/>
                  <a:pt x="9719" y="15739"/>
                  <a:pt x="9872" y="15949"/>
                </a:cubicBezTo>
                <a:cubicBezTo>
                  <a:pt x="9991" y="16112"/>
                  <a:pt x="10296" y="15801"/>
                  <a:pt x="10368" y="15751"/>
                </a:cubicBezTo>
                <a:cubicBezTo>
                  <a:pt x="10481" y="15676"/>
                  <a:pt x="10407" y="15801"/>
                  <a:pt x="10393" y="15925"/>
                </a:cubicBezTo>
                <a:cubicBezTo>
                  <a:pt x="10408" y="15823"/>
                  <a:pt x="10475" y="15505"/>
                  <a:pt x="10641" y="15677"/>
                </a:cubicBezTo>
                <a:cubicBezTo>
                  <a:pt x="10728" y="15768"/>
                  <a:pt x="10684" y="15864"/>
                  <a:pt x="10641" y="15949"/>
                </a:cubicBezTo>
              </a:path>
              <a:path w="3647" h="919">
                <a:moveTo>
                  <a:pt x="10815" y="15379"/>
                </a:moveTo>
                <a:cubicBezTo>
                  <a:pt x="10839" y="15569"/>
                  <a:pt x="10872" y="15760"/>
                  <a:pt x="10889" y="15949"/>
                </a:cubicBezTo>
              </a:path>
              <a:path w="3647" h="919">
                <a:moveTo>
                  <a:pt x="10790" y="15726"/>
                </a:moveTo>
                <a:cubicBezTo>
                  <a:pt x="10856" y="15718"/>
                  <a:pt x="10922" y="15709"/>
                  <a:pt x="10988" y="15701"/>
                </a:cubicBezTo>
              </a:path>
              <a:path w="3647" h="919">
                <a:moveTo>
                  <a:pt x="11261" y="15875"/>
                </a:moveTo>
                <a:lnTo>
                  <a:pt x="11261" y="15875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214880" y="5589720"/>
            <a:ext cx="1849320" cy="331560"/>
          </a:xfrm>
          <a:custGeom>
            <a:avLst/>
            <a:gdLst/>
            <a:ahLst/>
            <a:rect l="l" t="t" r="r" b="b"/>
            <a:pathLst>
              <a:path w="5135" h="919">
                <a:moveTo>
                  <a:pt x="11807" y="15677"/>
                </a:moveTo>
                <a:cubicBezTo>
                  <a:pt x="11877" y="15866"/>
                  <a:pt x="11899" y="15922"/>
                  <a:pt x="11931" y="16049"/>
                </a:cubicBezTo>
                <a:cubicBezTo>
                  <a:pt x="11868" y="15967"/>
                  <a:pt x="11595" y="15724"/>
                  <a:pt x="11733" y="15602"/>
                </a:cubicBezTo>
                <a:cubicBezTo>
                  <a:pt x="11831" y="15515"/>
                  <a:pt x="12009" y="15534"/>
                  <a:pt x="12129" y="15528"/>
                </a:cubicBezTo>
              </a:path>
              <a:path w="5135" h="919">
                <a:moveTo>
                  <a:pt x="11906" y="15801"/>
                </a:moveTo>
                <a:cubicBezTo>
                  <a:pt x="12089" y="15801"/>
                  <a:pt x="12155" y="15800"/>
                  <a:pt x="12278" y="15776"/>
                </a:cubicBezTo>
              </a:path>
              <a:path w="5135" h="919">
                <a:moveTo>
                  <a:pt x="12402" y="15801"/>
                </a:moveTo>
                <a:cubicBezTo>
                  <a:pt x="12334" y="15937"/>
                  <a:pt x="12310" y="15972"/>
                  <a:pt x="12328" y="16073"/>
                </a:cubicBezTo>
                <a:cubicBezTo>
                  <a:pt x="12410" y="16068"/>
                  <a:pt x="12777" y="16036"/>
                  <a:pt x="12650" y="15850"/>
                </a:cubicBezTo>
                <a:cubicBezTo>
                  <a:pt x="12531" y="15779"/>
                  <a:pt x="12496" y="15756"/>
                  <a:pt x="12402" y="15751"/>
                </a:cubicBezTo>
              </a:path>
              <a:path w="5135" h="919">
                <a:moveTo>
                  <a:pt x="12725" y="15974"/>
                </a:moveTo>
                <a:cubicBezTo>
                  <a:pt x="12730" y="15983"/>
                  <a:pt x="12831" y="15817"/>
                  <a:pt x="12948" y="15726"/>
                </a:cubicBezTo>
              </a:path>
              <a:path w="5135" h="919">
                <a:moveTo>
                  <a:pt x="13295" y="15825"/>
                </a:moveTo>
                <a:cubicBezTo>
                  <a:pt x="13379" y="15784"/>
                  <a:pt x="13454" y="15754"/>
                  <a:pt x="13543" y="15726"/>
                </a:cubicBezTo>
                <a:cubicBezTo>
                  <a:pt x="13348" y="15672"/>
                  <a:pt x="13347" y="15692"/>
                  <a:pt x="13171" y="15801"/>
                </a:cubicBezTo>
                <a:cubicBezTo>
                  <a:pt x="13279" y="15962"/>
                  <a:pt x="13338" y="15955"/>
                  <a:pt x="13543" y="15999"/>
                </a:cubicBezTo>
              </a:path>
              <a:path w="5135" h="919">
                <a:moveTo>
                  <a:pt x="13667" y="15701"/>
                </a:moveTo>
                <a:cubicBezTo>
                  <a:pt x="13772" y="15816"/>
                  <a:pt x="13840" y="15841"/>
                  <a:pt x="13990" y="15900"/>
                </a:cubicBezTo>
              </a:path>
              <a:path w="5135" h="919">
                <a:moveTo>
                  <a:pt x="13841" y="15751"/>
                </a:moveTo>
                <a:cubicBezTo>
                  <a:pt x="13756" y="15879"/>
                  <a:pt x="13729" y="15904"/>
                  <a:pt x="13717" y="15999"/>
                </a:cubicBezTo>
              </a:path>
              <a:path w="5135" h="919">
                <a:moveTo>
                  <a:pt x="14461" y="15850"/>
                </a:moveTo>
                <a:cubicBezTo>
                  <a:pt x="14469" y="15825"/>
                  <a:pt x="14478" y="15801"/>
                  <a:pt x="14486" y="15776"/>
                </a:cubicBezTo>
                <a:cubicBezTo>
                  <a:pt x="14285" y="15692"/>
                  <a:pt x="14210" y="15803"/>
                  <a:pt x="14089" y="15974"/>
                </a:cubicBezTo>
                <a:cubicBezTo>
                  <a:pt x="14205" y="16016"/>
                  <a:pt x="14258" y="15834"/>
                  <a:pt x="14362" y="15900"/>
                </a:cubicBezTo>
                <a:cubicBezTo>
                  <a:pt x="14471" y="15969"/>
                  <a:pt x="14592" y="15760"/>
                  <a:pt x="14684" y="15850"/>
                </a:cubicBezTo>
                <a:cubicBezTo>
                  <a:pt x="14662" y="15940"/>
                  <a:pt x="14654" y="15964"/>
                  <a:pt x="14660" y="16024"/>
                </a:cubicBezTo>
                <a:cubicBezTo>
                  <a:pt x="14664" y="16004"/>
                  <a:pt x="14762" y="15676"/>
                  <a:pt x="14833" y="15776"/>
                </a:cubicBezTo>
                <a:cubicBezTo>
                  <a:pt x="14901" y="15873"/>
                  <a:pt x="14883" y="15989"/>
                  <a:pt x="14883" y="16098"/>
                </a:cubicBezTo>
                <a:cubicBezTo>
                  <a:pt x="14893" y="16036"/>
                  <a:pt x="14987" y="15656"/>
                  <a:pt x="15131" y="15776"/>
                </a:cubicBezTo>
                <a:cubicBezTo>
                  <a:pt x="15176" y="15889"/>
                  <a:pt x="15192" y="15919"/>
                  <a:pt x="15180" y="15999"/>
                </a:cubicBezTo>
              </a:path>
              <a:path w="5135" h="919">
                <a:moveTo>
                  <a:pt x="15156" y="15875"/>
                </a:moveTo>
                <a:cubicBezTo>
                  <a:pt x="15284" y="15859"/>
                  <a:pt x="15264" y="15935"/>
                  <a:pt x="15329" y="16049"/>
                </a:cubicBezTo>
                <a:cubicBezTo>
                  <a:pt x="15364" y="16110"/>
                  <a:pt x="15371" y="16000"/>
                  <a:pt x="15379" y="15974"/>
                </a:cubicBezTo>
              </a:path>
              <a:path w="5135" h="919">
                <a:moveTo>
                  <a:pt x="15528" y="15850"/>
                </a:moveTo>
                <a:cubicBezTo>
                  <a:pt x="15569" y="16049"/>
                  <a:pt x="15629" y="16244"/>
                  <a:pt x="15652" y="16446"/>
                </a:cubicBezTo>
                <a:cubicBezTo>
                  <a:pt x="15455" y="16331"/>
                  <a:pt x="15400" y="16146"/>
                  <a:pt x="15528" y="15925"/>
                </a:cubicBezTo>
                <a:cubicBezTo>
                  <a:pt x="15662" y="15791"/>
                  <a:pt x="15691" y="15741"/>
                  <a:pt x="15825" y="15776"/>
                </a:cubicBezTo>
                <a:cubicBezTo>
                  <a:pt x="15814" y="16034"/>
                  <a:pt x="15774" y="16078"/>
                  <a:pt x="15503" y="16049"/>
                </a:cubicBezTo>
              </a:path>
              <a:path w="5135" h="919">
                <a:moveTo>
                  <a:pt x="15949" y="15652"/>
                </a:moveTo>
                <a:cubicBezTo>
                  <a:pt x="16016" y="15804"/>
                  <a:pt x="16059" y="15941"/>
                  <a:pt x="16098" y="16098"/>
                </a:cubicBezTo>
              </a:path>
              <a:path w="5135" h="919">
                <a:moveTo>
                  <a:pt x="16346" y="15900"/>
                </a:moveTo>
                <a:cubicBezTo>
                  <a:pt x="16469" y="15871"/>
                  <a:pt x="16492" y="15899"/>
                  <a:pt x="16520" y="15801"/>
                </a:cubicBezTo>
                <a:cubicBezTo>
                  <a:pt x="16414" y="15788"/>
                  <a:pt x="16083" y="15862"/>
                  <a:pt x="16272" y="16049"/>
                </a:cubicBezTo>
                <a:cubicBezTo>
                  <a:pt x="16388" y="16071"/>
                  <a:pt x="16421" y="16081"/>
                  <a:pt x="16495" y="16049"/>
                </a:cubicBezTo>
              </a:path>
              <a:path w="5135" h="919">
                <a:moveTo>
                  <a:pt x="16842" y="15677"/>
                </a:moveTo>
                <a:lnTo>
                  <a:pt x="16842" y="15677"/>
                </a:lnTo>
              </a:path>
              <a:path w="5135" h="919">
                <a:moveTo>
                  <a:pt x="16842" y="15925"/>
                </a:moveTo>
                <a:lnTo>
                  <a:pt x="16842" y="15925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384960" y="5634000"/>
            <a:ext cx="133200" cy="162000"/>
          </a:xfrm>
          <a:custGeom>
            <a:avLst/>
            <a:gdLst/>
            <a:ahLst/>
            <a:rect l="l" t="t" r="r" b="b"/>
            <a:pathLst>
              <a:path w="373" h="447">
                <a:moveTo>
                  <a:pt x="18033" y="15751"/>
                </a:moveTo>
                <a:cubicBezTo>
                  <a:pt x="18050" y="15759"/>
                  <a:pt x="18066" y="15768"/>
                  <a:pt x="18083" y="15776"/>
                </a:cubicBezTo>
                <a:cubicBezTo>
                  <a:pt x="18083" y="15670"/>
                  <a:pt x="18054" y="15594"/>
                  <a:pt x="17909" y="15677"/>
                </a:cubicBezTo>
                <a:cubicBezTo>
                  <a:pt x="17790" y="15776"/>
                  <a:pt x="17752" y="15781"/>
                  <a:pt x="17735" y="15875"/>
                </a:cubicBezTo>
                <a:cubicBezTo>
                  <a:pt x="17896" y="15885"/>
                  <a:pt x="17953" y="15862"/>
                  <a:pt x="18083" y="15751"/>
                </a:cubicBezTo>
                <a:cubicBezTo>
                  <a:pt x="18083" y="15868"/>
                  <a:pt x="18074" y="15995"/>
                  <a:pt x="18107" y="1609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653160" y="5589720"/>
            <a:ext cx="571680" cy="206280"/>
          </a:xfrm>
          <a:custGeom>
            <a:avLst/>
            <a:gdLst/>
            <a:ahLst/>
            <a:rect l="l" t="t" r="r" b="b"/>
            <a:pathLst>
              <a:path w="1589" h="571">
                <a:moveTo>
                  <a:pt x="18529" y="15875"/>
                </a:moveTo>
                <a:cubicBezTo>
                  <a:pt x="18638" y="15984"/>
                  <a:pt x="18660" y="16015"/>
                  <a:pt x="18752" y="16049"/>
                </a:cubicBezTo>
              </a:path>
              <a:path w="1589" h="571">
                <a:moveTo>
                  <a:pt x="18628" y="15776"/>
                </a:moveTo>
                <a:cubicBezTo>
                  <a:pt x="18537" y="15912"/>
                  <a:pt x="18510" y="15948"/>
                  <a:pt x="18479" y="16049"/>
                </a:cubicBezTo>
              </a:path>
              <a:path w="1589" h="571">
                <a:moveTo>
                  <a:pt x="19025" y="15776"/>
                </a:moveTo>
                <a:cubicBezTo>
                  <a:pt x="19025" y="15897"/>
                  <a:pt x="19017" y="15989"/>
                  <a:pt x="19050" y="16098"/>
                </a:cubicBezTo>
              </a:path>
              <a:path w="1589" h="571">
                <a:moveTo>
                  <a:pt x="19372" y="15751"/>
                </a:moveTo>
                <a:cubicBezTo>
                  <a:pt x="19301" y="15868"/>
                  <a:pt x="19262" y="15917"/>
                  <a:pt x="19273" y="16049"/>
                </a:cubicBezTo>
                <a:cubicBezTo>
                  <a:pt x="19357" y="16063"/>
                  <a:pt x="19650" y="16126"/>
                  <a:pt x="19596" y="15925"/>
                </a:cubicBezTo>
                <a:cubicBezTo>
                  <a:pt x="19524" y="15829"/>
                  <a:pt x="19503" y="15798"/>
                  <a:pt x="19422" y="15776"/>
                </a:cubicBezTo>
              </a:path>
              <a:path w="1589" h="571">
                <a:moveTo>
                  <a:pt x="19794" y="15577"/>
                </a:moveTo>
                <a:cubicBezTo>
                  <a:pt x="19820" y="15669"/>
                  <a:pt x="19906" y="15726"/>
                  <a:pt x="20017" y="15677"/>
                </a:cubicBezTo>
                <a:cubicBezTo>
                  <a:pt x="20062" y="15632"/>
                  <a:pt x="20079" y="15622"/>
                  <a:pt x="20067" y="15577"/>
                </a:cubicBezTo>
                <a:cubicBezTo>
                  <a:pt x="20000" y="15578"/>
                  <a:pt x="20023" y="15677"/>
                  <a:pt x="20017" y="1582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412040" y="5653080"/>
            <a:ext cx="938160" cy="133200"/>
          </a:xfrm>
          <a:custGeom>
            <a:avLst/>
            <a:gdLst/>
            <a:ahLst/>
            <a:rect l="l" t="t" r="r" b="b"/>
            <a:pathLst>
              <a:path w="2605" h="373">
                <a:moveTo>
                  <a:pt x="20613" y="15701"/>
                </a:moveTo>
                <a:cubicBezTo>
                  <a:pt x="20594" y="15819"/>
                  <a:pt x="20588" y="15928"/>
                  <a:pt x="20588" y="16049"/>
                </a:cubicBezTo>
                <a:cubicBezTo>
                  <a:pt x="20623" y="15949"/>
                  <a:pt x="20779" y="15482"/>
                  <a:pt x="20935" y="15801"/>
                </a:cubicBezTo>
                <a:cubicBezTo>
                  <a:pt x="20955" y="15941"/>
                  <a:pt x="20964" y="15965"/>
                  <a:pt x="20960" y="16049"/>
                </a:cubicBezTo>
                <a:cubicBezTo>
                  <a:pt x="20965" y="16017"/>
                  <a:pt x="21080" y="15592"/>
                  <a:pt x="21183" y="15726"/>
                </a:cubicBezTo>
                <a:cubicBezTo>
                  <a:pt x="21240" y="15800"/>
                  <a:pt x="21249" y="15979"/>
                  <a:pt x="21258" y="16073"/>
                </a:cubicBezTo>
              </a:path>
              <a:path w="2605" h="373">
                <a:moveTo>
                  <a:pt x="21431" y="15875"/>
                </a:moveTo>
                <a:cubicBezTo>
                  <a:pt x="21524" y="15837"/>
                  <a:pt x="21548" y="15837"/>
                  <a:pt x="21580" y="15751"/>
                </a:cubicBezTo>
                <a:cubicBezTo>
                  <a:pt x="21505" y="15751"/>
                  <a:pt x="21133" y="15908"/>
                  <a:pt x="21332" y="16049"/>
                </a:cubicBezTo>
                <a:cubicBezTo>
                  <a:pt x="21390" y="16057"/>
                  <a:pt x="21448" y="16065"/>
                  <a:pt x="21506" y="16073"/>
                </a:cubicBezTo>
              </a:path>
              <a:path w="2605" h="373">
                <a:moveTo>
                  <a:pt x="22051" y="15801"/>
                </a:moveTo>
                <a:cubicBezTo>
                  <a:pt x="21900" y="15814"/>
                  <a:pt x="21815" y="15902"/>
                  <a:pt x="21803" y="16049"/>
                </a:cubicBezTo>
                <a:cubicBezTo>
                  <a:pt x="21953" y="16031"/>
                  <a:pt x="22041" y="16035"/>
                  <a:pt x="22076" y="15875"/>
                </a:cubicBezTo>
                <a:cubicBezTo>
                  <a:pt x="22182" y="16034"/>
                  <a:pt x="22262" y="16123"/>
                  <a:pt x="22399" y="15925"/>
                </a:cubicBezTo>
                <a:cubicBezTo>
                  <a:pt x="22521" y="15749"/>
                  <a:pt x="22415" y="15878"/>
                  <a:pt x="22399" y="15974"/>
                </a:cubicBezTo>
                <a:cubicBezTo>
                  <a:pt x="22453" y="15855"/>
                  <a:pt x="22482" y="15817"/>
                  <a:pt x="22572" y="15726"/>
                </a:cubicBezTo>
                <a:cubicBezTo>
                  <a:pt x="22678" y="15818"/>
                  <a:pt x="22671" y="15882"/>
                  <a:pt x="22671" y="16024"/>
                </a:cubicBezTo>
              </a:path>
              <a:path w="2605" h="373">
                <a:moveTo>
                  <a:pt x="23044" y="15701"/>
                </a:moveTo>
                <a:cubicBezTo>
                  <a:pt x="23011" y="15709"/>
                  <a:pt x="22977" y="15718"/>
                  <a:pt x="22944" y="15726"/>
                </a:cubicBezTo>
                <a:cubicBezTo>
                  <a:pt x="22990" y="15773"/>
                  <a:pt x="23208" y="15828"/>
                  <a:pt x="23192" y="15949"/>
                </a:cubicBezTo>
                <a:cubicBezTo>
                  <a:pt x="23124" y="16018"/>
                  <a:pt x="23081" y="16039"/>
                  <a:pt x="22994" y="1602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919080" y="5823000"/>
            <a:ext cx="125640" cy="276120"/>
          </a:xfrm>
          <a:custGeom>
            <a:avLst/>
            <a:gdLst/>
            <a:ahLst/>
            <a:rect l="l" t="t" r="r" b="b"/>
            <a:pathLst>
              <a:path w="348" h="770">
                <a:moveTo>
                  <a:pt x="2853" y="16173"/>
                </a:moveTo>
                <a:cubicBezTo>
                  <a:pt x="2838" y="16261"/>
                  <a:pt x="2779" y="16199"/>
                  <a:pt x="2704" y="16297"/>
                </a:cubicBezTo>
                <a:cubicBezTo>
                  <a:pt x="2615" y="16413"/>
                  <a:pt x="2579" y="16510"/>
                  <a:pt x="2555" y="16644"/>
                </a:cubicBezTo>
                <a:cubicBezTo>
                  <a:pt x="2690" y="16644"/>
                  <a:pt x="2785" y="16618"/>
                  <a:pt x="2828" y="16470"/>
                </a:cubicBezTo>
                <a:cubicBezTo>
                  <a:pt x="2828" y="16437"/>
                  <a:pt x="2828" y="16404"/>
                  <a:pt x="2828" y="16371"/>
                </a:cubicBezTo>
                <a:cubicBezTo>
                  <a:pt x="2872" y="16569"/>
                  <a:pt x="2902" y="16739"/>
                  <a:pt x="2902" y="1694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268280" y="5875200"/>
            <a:ext cx="571680" cy="223920"/>
          </a:xfrm>
          <a:custGeom>
            <a:avLst/>
            <a:gdLst/>
            <a:ahLst/>
            <a:rect l="l" t="t" r="r" b="b"/>
            <a:pathLst>
              <a:path w="1589" h="622">
                <a:moveTo>
                  <a:pt x="3547" y="16619"/>
                </a:moveTo>
                <a:cubicBezTo>
                  <a:pt x="3529" y="16737"/>
                  <a:pt x="3516" y="16804"/>
                  <a:pt x="3547" y="16917"/>
                </a:cubicBezTo>
                <a:cubicBezTo>
                  <a:pt x="3695" y="16917"/>
                  <a:pt x="3739" y="16876"/>
                  <a:pt x="3770" y="16718"/>
                </a:cubicBezTo>
                <a:cubicBezTo>
                  <a:pt x="3858" y="16864"/>
                  <a:pt x="3893" y="16911"/>
                  <a:pt x="4043" y="16842"/>
                </a:cubicBezTo>
                <a:cubicBezTo>
                  <a:pt x="4054" y="16680"/>
                  <a:pt x="4050" y="16707"/>
                  <a:pt x="3919" y="16594"/>
                </a:cubicBezTo>
              </a:path>
              <a:path w="1589" h="622">
                <a:moveTo>
                  <a:pt x="4242" y="16743"/>
                </a:moveTo>
                <a:cubicBezTo>
                  <a:pt x="4259" y="16851"/>
                  <a:pt x="4267" y="16858"/>
                  <a:pt x="4266" y="16917"/>
                </a:cubicBezTo>
              </a:path>
              <a:path w="1589" h="622">
                <a:moveTo>
                  <a:pt x="4167" y="16371"/>
                </a:moveTo>
                <a:lnTo>
                  <a:pt x="4167" y="16371"/>
                </a:lnTo>
              </a:path>
              <a:path w="1589" h="622">
                <a:moveTo>
                  <a:pt x="4440" y="16321"/>
                </a:moveTo>
                <a:cubicBezTo>
                  <a:pt x="4481" y="16495"/>
                  <a:pt x="4524" y="16668"/>
                  <a:pt x="4564" y="16842"/>
                </a:cubicBezTo>
              </a:path>
              <a:path w="1589" h="622">
                <a:moveTo>
                  <a:pt x="4316" y="16644"/>
                </a:moveTo>
                <a:cubicBezTo>
                  <a:pt x="4480" y="16682"/>
                  <a:pt x="4754" y="16736"/>
                  <a:pt x="4812" y="16495"/>
                </a:cubicBezTo>
                <a:cubicBezTo>
                  <a:pt x="4804" y="16462"/>
                  <a:pt x="4795" y="16429"/>
                  <a:pt x="4787" y="16396"/>
                </a:cubicBezTo>
                <a:cubicBezTo>
                  <a:pt x="4787" y="16537"/>
                  <a:pt x="4787" y="16677"/>
                  <a:pt x="4787" y="16818"/>
                </a:cubicBezTo>
                <a:cubicBezTo>
                  <a:pt x="4798" y="16715"/>
                  <a:pt x="4841" y="16515"/>
                  <a:pt x="4986" y="16594"/>
                </a:cubicBezTo>
                <a:cubicBezTo>
                  <a:pt x="5082" y="16691"/>
                  <a:pt x="5114" y="16719"/>
                  <a:pt x="5110" y="1681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027160" y="5884920"/>
            <a:ext cx="152640" cy="206280"/>
          </a:xfrm>
          <a:custGeom>
            <a:avLst/>
            <a:gdLst/>
            <a:ahLst/>
            <a:rect l="l" t="t" r="r" b="b"/>
            <a:pathLst>
              <a:path w="422" h="572">
                <a:moveTo>
                  <a:pt x="5655" y="16495"/>
                </a:moveTo>
                <a:cubicBezTo>
                  <a:pt x="5671" y="16589"/>
                  <a:pt x="5670" y="16604"/>
                  <a:pt x="5631" y="16694"/>
                </a:cubicBezTo>
                <a:cubicBezTo>
                  <a:pt x="5771" y="16694"/>
                  <a:pt x="5912" y="16694"/>
                  <a:pt x="6052" y="16694"/>
                </a:cubicBezTo>
              </a:path>
              <a:path w="422" h="572">
                <a:moveTo>
                  <a:pt x="5928" y="16346"/>
                </a:moveTo>
                <a:cubicBezTo>
                  <a:pt x="5962" y="16536"/>
                  <a:pt x="5997" y="16726"/>
                  <a:pt x="6028" y="1691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303640" y="5919840"/>
            <a:ext cx="733320" cy="171360"/>
          </a:xfrm>
          <a:custGeom>
            <a:avLst/>
            <a:gdLst/>
            <a:ahLst/>
            <a:rect l="l" t="t" r="r" b="b"/>
            <a:pathLst>
              <a:path w="2035" h="472">
                <a:moveTo>
                  <a:pt x="6400" y="16594"/>
                </a:moveTo>
                <a:cubicBezTo>
                  <a:pt x="6508" y="16581"/>
                  <a:pt x="6614" y="16558"/>
                  <a:pt x="6722" y="16545"/>
                </a:cubicBezTo>
                <a:cubicBezTo>
                  <a:pt x="6666" y="16673"/>
                  <a:pt x="6554" y="16795"/>
                  <a:pt x="6524" y="16917"/>
                </a:cubicBezTo>
                <a:cubicBezTo>
                  <a:pt x="6632" y="16917"/>
                  <a:pt x="6674" y="16915"/>
                  <a:pt x="6747" y="16892"/>
                </a:cubicBezTo>
              </a:path>
              <a:path w="2035" h="472">
                <a:moveTo>
                  <a:pt x="7020" y="16718"/>
                </a:moveTo>
                <a:cubicBezTo>
                  <a:pt x="7122" y="16668"/>
                  <a:pt x="7208" y="16667"/>
                  <a:pt x="7193" y="16570"/>
                </a:cubicBezTo>
                <a:cubicBezTo>
                  <a:pt x="6984" y="16559"/>
                  <a:pt x="7004" y="16556"/>
                  <a:pt x="6871" y="16718"/>
                </a:cubicBezTo>
                <a:cubicBezTo>
                  <a:pt x="6960" y="16886"/>
                  <a:pt x="7160" y="17005"/>
                  <a:pt x="7342" y="16818"/>
                </a:cubicBezTo>
                <a:cubicBezTo>
                  <a:pt x="7464" y="16693"/>
                  <a:pt x="7363" y="16476"/>
                  <a:pt x="7441" y="16793"/>
                </a:cubicBezTo>
                <a:cubicBezTo>
                  <a:pt x="7451" y="16647"/>
                  <a:pt x="7448" y="16559"/>
                  <a:pt x="7565" y="16470"/>
                </a:cubicBezTo>
              </a:path>
              <a:path w="2035" h="472">
                <a:moveTo>
                  <a:pt x="7938" y="16446"/>
                </a:moveTo>
                <a:cubicBezTo>
                  <a:pt x="7801" y="16548"/>
                  <a:pt x="7746" y="16632"/>
                  <a:pt x="7689" y="16793"/>
                </a:cubicBezTo>
                <a:cubicBezTo>
                  <a:pt x="7796" y="16831"/>
                  <a:pt x="8059" y="16834"/>
                  <a:pt x="8012" y="16619"/>
                </a:cubicBezTo>
                <a:cubicBezTo>
                  <a:pt x="7940" y="16523"/>
                  <a:pt x="7919" y="16492"/>
                  <a:pt x="7838" y="16470"/>
                </a:cubicBezTo>
              </a:path>
              <a:path w="2035" h="472">
                <a:moveTo>
                  <a:pt x="8285" y="16446"/>
                </a:moveTo>
                <a:cubicBezTo>
                  <a:pt x="8169" y="16457"/>
                  <a:pt x="8164" y="16467"/>
                  <a:pt x="8086" y="16545"/>
                </a:cubicBezTo>
                <a:cubicBezTo>
                  <a:pt x="8268" y="16613"/>
                  <a:pt x="8317" y="16631"/>
                  <a:pt x="8434" y="16669"/>
                </a:cubicBezTo>
                <a:cubicBezTo>
                  <a:pt x="8353" y="16814"/>
                  <a:pt x="8289" y="16781"/>
                  <a:pt x="8111" y="1681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241800" y="5776920"/>
            <a:ext cx="919080" cy="287280"/>
          </a:xfrm>
          <a:custGeom>
            <a:avLst/>
            <a:gdLst/>
            <a:ahLst/>
            <a:rect l="l" t="t" r="r" b="b"/>
            <a:pathLst>
              <a:path w="2556" h="794">
                <a:moveTo>
                  <a:pt x="9054" y="16594"/>
                </a:moveTo>
                <a:cubicBezTo>
                  <a:pt x="9018" y="16739"/>
                  <a:pt x="9009" y="16982"/>
                  <a:pt x="9252" y="16818"/>
                </a:cubicBezTo>
                <a:cubicBezTo>
                  <a:pt x="9327" y="16718"/>
                  <a:pt x="9352" y="16685"/>
                  <a:pt x="9327" y="16594"/>
                </a:cubicBezTo>
                <a:cubicBezTo>
                  <a:pt x="9419" y="16801"/>
                  <a:pt x="9501" y="16858"/>
                  <a:pt x="9699" y="16694"/>
                </a:cubicBezTo>
                <a:cubicBezTo>
                  <a:pt x="9624" y="16570"/>
                  <a:pt x="9599" y="16529"/>
                  <a:pt x="9500" y="16495"/>
                </a:cubicBezTo>
              </a:path>
              <a:path w="2556" h="794">
                <a:moveTo>
                  <a:pt x="9773" y="16247"/>
                </a:moveTo>
                <a:cubicBezTo>
                  <a:pt x="9817" y="16421"/>
                  <a:pt x="9834" y="16611"/>
                  <a:pt x="9847" y="16793"/>
                </a:cubicBezTo>
                <a:cubicBezTo>
                  <a:pt x="9858" y="16656"/>
                  <a:pt x="9883" y="16610"/>
                  <a:pt x="9947" y="16495"/>
                </a:cubicBezTo>
                <a:cubicBezTo>
                  <a:pt x="10096" y="16570"/>
                  <a:pt x="10145" y="16679"/>
                  <a:pt x="10220" y="16842"/>
                </a:cubicBezTo>
              </a:path>
              <a:path w="2556" h="794">
                <a:moveTo>
                  <a:pt x="10443" y="16570"/>
                </a:moveTo>
                <a:cubicBezTo>
                  <a:pt x="10443" y="16687"/>
                  <a:pt x="10429" y="16709"/>
                  <a:pt x="10468" y="16768"/>
                </a:cubicBezTo>
              </a:path>
              <a:path w="2556" h="794">
                <a:moveTo>
                  <a:pt x="10393" y="16346"/>
                </a:moveTo>
                <a:lnTo>
                  <a:pt x="10393" y="16346"/>
                </a:lnTo>
              </a:path>
              <a:path w="2556" h="794">
                <a:moveTo>
                  <a:pt x="10914" y="16421"/>
                </a:moveTo>
                <a:cubicBezTo>
                  <a:pt x="10810" y="16465"/>
                  <a:pt x="10498" y="16653"/>
                  <a:pt x="10740" y="16793"/>
                </a:cubicBezTo>
                <a:cubicBezTo>
                  <a:pt x="10902" y="16820"/>
                  <a:pt x="10963" y="16823"/>
                  <a:pt x="11063" y="16743"/>
                </a:cubicBezTo>
              </a:path>
              <a:path w="2556" h="794">
                <a:moveTo>
                  <a:pt x="11063" y="16049"/>
                </a:moveTo>
                <a:cubicBezTo>
                  <a:pt x="11088" y="16280"/>
                  <a:pt x="11119" y="16512"/>
                  <a:pt x="11137" y="16743"/>
                </a:cubicBezTo>
                <a:cubicBezTo>
                  <a:pt x="11173" y="16600"/>
                  <a:pt x="11271" y="16382"/>
                  <a:pt x="11460" y="16396"/>
                </a:cubicBezTo>
                <a:cubicBezTo>
                  <a:pt x="11596" y="16406"/>
                  <a:pt x="11555" y="16687"/>
                  <a:pt x="11559" y="1676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367160" y="5902200"/>
            <a:ext cx="276120" cy="169920"/>
          </a:xfrm>
          <a:custGeom>
            <a:avLst/>
            <a:gdLst/>
            <a:ahLst/>
            <a:rect l="l" t="t" r="r" b="b"/>
            <a:pathLst>
              <a:path w="770" h="472">
                <a:moveTo>
                  <a:pt x="12303" y="16644"/>
                </a:moveTo>
                <a:cubicBezTo>
                  <a:pt x="12326" y="16759"/>
                  <a:pt x="12335" y="16791"/>
                  <a:pt x="12328" y="16867"/>
                </a:cubicBezTo>
              </a:path>
              <a:path w="770" h="472">
                <a:moveTo>
                  <a:pt x="12129" y="16396"/>
                </a:moveTo>
                <a:lnTo>
                  <a:pt x="12129" y="16396"/>
                </a:lnTo>
              </a:path>
              <a:path w="770" h="472">
                <a:moveTo>
                  <a:pt x="12502" y="16545"/>
                </a:moveTo>
                <a:cubicBezTo>
                  <a:pt x="12641" y="16606"/>
                  <a:pt x="12797" y="16642"/>
                  <a:pt x="12898" y="16743"/>
                </a:cubicBezTo>
                <a:cubicBezTo>
                  <a:pt x="12754" y="16803"/>
                  <a:pt x="12706" y="16809"/>
                  <a:pt x="12551" y="16793"/>
                </a:cubicBezTo>
              </a:path>
              <a:path w="770" h="472">
                <a:moveTo>
                  <a:pt x="12650" y="16470"/>
                </a:moveTo>
                <a:cubicBezTo>
                  <a:pt x="12624" y="16503"/>
                  <a:pt x="12602" y="16537"/>
                  <a:pt x="12576" y="16570"/>
                </a:cubicBezTo>
                <a:cubicBezTo>
                  <a:pt x="12625" y="16521"/>
                  <a:pt x="12658" y="16474"/>
                  <a:pt x="12700" y="1642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786200" y="5892840"/>
            <a:ext cx="1135080" cy="331920"/>
          </a:xfrm>
          <a:custGeom>
            <a:avLst/>
            <a:gdLst/>
            <a:ahLst/>
            <a:rect l="l" t="t" r="r" b="b"/>
            <a:pathLst>
              <a:path w="3152" h="919">
                <a:moveTo>
                  <a:pt x="13643" y="16545"/>
                </a:moveTo>
                <a:cubicBezTo>
                  <a:pt x="13659" y="16388"/>
                  <a:pt x="13535" y="16331"/>
                  <a:pt x="13395" y="16446"/>
                </a:cubicBezTo>
                <a:cubicBezTo>
                  <a:pt x="13307" y="16555"/>
                  <a:pt x="13269" y="16578"/>
                  <a:pt x="13320" y="16669"/>
                </a:cubicBezTo>
                <a:cubicBezTo>
                  <a:pt x="13521" y="16626"/>
                  <a:pt x="13545" y="16569"/>
                  <a:pt x="13568" y="16371"/>
                </a:cubicBezTo>
                <a:cubicBezTo>
                  <a:pt x="13726" y="16494"/>
                  <a:pt x="13711" y="16705"/>
                  <a:pt x="13717" y="16917"/>
                </a:cubicBezTo>
                <a:cubicBezTo>
                  <a:pt x="13717" y="16933"/>
                  <a:pt x="13717" y="16950"/>
                  <a:pt x="13717" y="16966"/>
                </a:cubicBezTo>
              </a:path>
              <a:path w="3152" h="919">
                <a:moveTo>
                  <a:pt x="14263" y="16371"/>
                </a:moveTo>
                <a:cubicBezTo>
                  <a:pt x="14080" y="16426"/>
                  <a:pt x="14050" y="16521"/>
                  <a:pt x="14015" y="16694"/>
                </a:cubicBezTo>
                <a:cubicBezTo>
                  <a:pt x="14151" y="16776"/>
                  <a:pt x="14377" y="16832"/>
                  <a:pt x="14436" y="16594"/>
                </a:cubicBezTo>
                <a:cubicBezTo>
                  <a:pt x="14480" y="16417"/>
                  <a:pt x="14256" y="16415"/>
                  <a:pt x="14163" y="16396"/>
                </a:cubicBezTo>
              </a:path>
              <a:path w="3152" h="919">
                <a:moveTo>
                  <a:pt x="14610" y="16446"/>
                </a:moveTo>
                <a:cubicBezTo>
                  <a:pt x="14510" y="16580"/>
                  <a:pt x="14380" y="16855"/>
                  <a:pt x="14709" y="16842"/>
                </a:cubicBezTo>
                <a:cubicBezTo>
                  <a:pt x="15023" y="16829"/>
                  <a:pt x="14925" y="16603"/>
                  <a:pt x="14808" y="16470"/>
                </a:cubicBezTo>
              </a:path>
              <a:path w="3152" h="919">
                <a:moveTo>
                  <a:pt x="15205" y="16446"/>
                </a:moveTo>
                <a:cubicBezTo>
                  <a:pt x="15073" y="16436"/>
                  <a:pt x="14800" y="16514"/>
                  <a:pt x="14982" y="16718"/>
                </a:cubicBezTo>
                <a:cubicBezTo>
                  <a:pt x="15074" y="16821"/>
                  <a:pt x="15523" y="16846"/>
                  <a:pt x="15478" y="16619"/>
                </a:cubicBezTo>
                <a:cubicBezTo>
                  <a:pt x="15387" y="16483"/>
                  <a:pt x="15369" y="16439"/>
                  <a:pt x="15255" y="16421"/>
                </a:cubicBezTo>
              </a:path>
              <a:path w="3152" h="919">
                <a:moveTo>
                  <a:pt x="15825" y="16421"/>
                </a:moveTo>
                <a:cubicBezTo>
                  <a:pt x="15598" y="16474"/>
                  <a:pt x="15553" y="16545"/>
                  <a:pt x="15602" y="16768"/>
                </a:cubicBezTo>
                <a:cubicBezTo>
                  <a:pt x="15755" y="16813"/>
                  <a:pt x="15977" y="16817"/>
                  <a:pt x="16024" y="16594"/>
                </a:cubicBezTo>
                <a:cubicBezTo>
                  <a:pt x="16016" y="16553"/>
                  <a:pt x="16007" y="16511"/>
                  <a:pt x="15999" y="16470"/>
                </a:cubicBezTo>
              </a:path>
              <a:path w="3152" h="919">
                <a:moveTo>
                  <a:pt x="14461" y="17041"/>
                </a:moveTo>
                <a:cubicBezTo>
                  <a:pt x="14441" y="17201"/>
                  <a:pt x="14442" y="17196"/>
                  <a:pt x="14312" y="17289"/>
                </a:cubicBezTo>
              </a:path>
              <a:path w="3152" h="919">
                <a:moveTo>
                  <a:pt x="16446" y="16768"/>
                </a:moveTo>
                <a:cubicBezTo>
                  <a:pt x="16374" y="16768"/>
                  <a:pt x="16412" y="16795"/>
                  <a:pt x="16346" y="16768"/>
                </a:cubicBezTo>
                <a:cubicBezTo>
                  <a:pt x="16330" y="16768"/>
                  <a:pt x="16313" y="16768"/>
                  <a:pt x="16297" y="1676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1371600" y="1980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 the review and study for tomorrow’s te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7T02:55:11Z</dcterms:created>
  <dc:creator>Brian McGrath</dc:creator>
  <dc:description/>
  <dc:language>en-US</dc:language>
  <cp:lastModifiedBy>deanne elizabeth mcgrath</cp:lastModifiedBy>
  <dcterms:modified xsi:type="dcterms:W3CDTF">2010-10-27T17:57:14Z</dcterms:modified>
  <cp:revision>2</cp:revision>
  <dc:subject/>
  <dc:title>Warm-up:</dc:title>
</cp:coreProperties>
</file>